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A39-DC70-4AB9-87DB-857AF407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CE5-293F-46A7-93DA-A12583AD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9D1-DFF5-48D2-BD36-79880EA3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4E3-6C1B-4AEE-901B-6F3B76FB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7101-7427-4303-B6C5-1E96C753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01D0-6453-4AD5-B38E-63040DB3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2B0C-1976-4B02-B8BF-A7E188DA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8600-47A2-4892-836F-342D2338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3C23-2E67-49FC-B475-FA5BF7DC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5CFB-6470-41C2-815C-B217024B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9893-F3F5-4BB2-BD5F-FCAA58A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A45-D132-46A9-848C-0CA57FD5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79C6-6B41-4DDC-A187-8CE38AC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8AA3-4563-4950-9864-1141FE27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68B1-3C45-4B07-A7D9-0828079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80D6-8A24-4FD9-9E14-6EC451FA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C2FE-1936-4E77-90D3-F426EA1C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ACD-6FC6-4B3D-9BD2-9A000429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31C-65AC-4CA3-8327-4466AA3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781-5A18-4759-9FF1-D7A1717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5C9-621E-436D-825B-9D29641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37B-D8A8-4833-B148-1EF4B89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639-2EA6-49E7-B9BA-24A57A6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8A8-C7D0-4E38-A95B-85DAA4F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0B8-72B3-4DD1-B393-603A2FEEBC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8F5-0BF6-4332-9124-7ED69D318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3131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39257"/>
                </a:solidFill>
                <a:latin typeface="Arial"/>
              </a:rPr>
              <a:t>Заглянем в кладовые Земли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2_2_2"/>
          <p:cNvPicPr/>
          <p:nvPr/>
        </p:nvPicPr>
        <p:blipFill>
          <a:blip r:embed="rId1"/>
          <a:stretch/>
        </p:blipFill>
        <p:spPr>
          <a:xfrm>
            <a:off x="250920" y="260280"/>
            <a:ext cx="3632040" cy="2724120"/>
          </a:xfrm>
          <a:prstGeom prst="rect">
            <a:avLst/>
          </a:prstGeom>
          <a:ln w="38160">
            <a:solidFill>
              <a:srgbClr val="b39257"/>
            </a:solidFill>
            <a:miter/>
          </a:ln>
        </p:spPr>
      </p:pic>
      <p:pic>
        <p:nvPicPr>
          <p:cNvPr id="214" name="Picture 5" descr="poleziskop_01"/>
          <p:cNvPicPr/>
          <p:nvPr/>
        </p:nvPicPr>
        <p:blipFill>
          <a:blip r:embed="rId2"/>
          <a:stretch/>
        </p:blipFill>
        <p:spPr>
          <a:xfrm>
            <a:off x="5003640" y="260280"/>
            <a:ext cx="3667320" cy="2751120"/>
          </a:xfrm>
          <a:prstGeom prst="rect">
            <a:avLst/>
          </a:prstGeom>
          <a:ln w="38160">
            <a:solidFill>
              <a:srgbClr val="b39257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21"/>
          <p:cNvPicPr/>
          <p:nvPr/>
        </p:nvPicPr>
        <p:blipFill>
          <a:blip r:embed="rId1"/>
          <a:stretch/>
        </p:blipFill>
        <p:spPr>
          <a:xfrm>
            <a:off x="3276720" y="1989000"/>
            <a:ext cx="5538600" cy="415476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81" name="Picture 9" descr="22"/>
          <p:cNvPicPr/>
          <p:nvPr/>
        </p:nvPicPr>
        <p:blipFill>
          <a:blip r:embed="rId2"/>
          <a:stretch/>
        </p:blipFill>
        <p:spPr>
          <a:xfrm>
            <a:off x="3384720" y="1844640"/>
            <a:ext cx="5364000" cy="4486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282" name="Picture 10" descr="23"/>
          <p:cNvPicPr/>
          <p:nvPr/>
        </p:nvPicPr>
        <p:blipFill>
          <a:blip r:embed="rId3"/>
          <a:stretch/>
        </p:blipFill>
        <p:spPr>
          <a:xfrm>
            <a:off x="3205080" y="2349360"/>
            <a:ext cx="5543640" cy="3684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24"/>
          <p:cNvPicPr/>
          <p:nvPr/>
        </p:nvPicPr>
        <p:blipFill>
          <a:blip r:embed="rId1"/>
          <a:stretch/>
        </p:blipFill>
        <p:spPr>
          <a:xfrm>
            <a:off x="3276720" y="1916280"/>
            <a:ext cx="5465520" cy="4098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86" name="Picture 8" descr="25"/>
          <p:cNvPicPr/>
          <p:nvPr/>
        </p:nvPicPr>
        <p:blipFill>
          <a:blip r:embed="rId2"/>
          <a:stretch/>
        </p:blipFill>
        <p:spPr>
          <a:xfrm>
            <a:off x="3132000" y="1916280"/>
            <a:ext cx="5715000" cy="42861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87" name="Picture 9" descr="26"/>
          <p:cNvPicPr/>
          <p:nvPr/>
        </p:nvPicPr>
        <p:blipFill>
          <a:blip r:embed="rId3"/>
          <a:stretch/>
        </p:blipFill>
        <p:spPr>
          <a:xfrm>
            <a:off x="3059280" y="1916280"/>
            <a:ext cx="5905440" cy="3970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288" name="Picture 10" descr="27"/>
          <p:cNvPicPr/>
          <p:nvPr/>
        </p:nvPicPr>
        <p:blipFill>
          <a:blip r:embed="rId4"/>
          <a:stretch/>
        </p:blipFill>
        <p:spPr>
          <a:xfrm>
            <a:off x="3132000" y="1916280"/>
            <a:ext cx="5818320" cy="389412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1908000" y="2060640"/>
            <a:ext cx="5616720" cy="2303280"/>
          </a:xfrm>
          <a:prstGeom prst="wedgeRectCallout">
            <a:avLst>
              <a:gd name="adj1" fmla="val -28662"/>
              <a:gd name="adj2" fmla="val 4393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272320" y="2349360"/>
            <a:ext cx="48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астер белый-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не лежит без 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гает по до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ет белый сл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1"/>
          <p:cNvPicPr/>
          <p:nvPr/>
        </p:nvPicPr>
        <p:blipFill>
          <a:blip r:embed="rId1"/>
          <a:stretch/>
        </p:blipFill>
        <p:spPr>
          <a:xfrm>
            <a:off x="250920" y="189000"/>
            <a:ext cx="2808360" cy="174924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18" name="Text Box 9"/>
          <p:cNvSpPr/>
          <p:nvPr/>
        </p:nvSpPr>
        <p:spPr>
          <a:xfrm>
            <a:off x="2026080" y="278136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Monotype Corsiva"/>
              </a:rPr>
              <a:t>Отгадай заг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982520" y="2349360"/>
            <a:ext cx="553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нужен дет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на дорожках во дв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на стройке и на пля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в стекле расплавлен 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2"/>
          <p:cNvPicPr/>
          <p:nvPr/>
        </p:nvPicPr>
        <p:blipFill>
          <a:blip r:embed="rId2"/>
          <a:stretch/>
        </p:blipFill>
        <p:spPr>
          <a:xfrm>
            <a:off x="5724360" y="189000"/>
            <a:ext cx="3141720" cy="176040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1" name="Text Box 13"/>
          <p:cNvSpPr/>
          <p:nvPr/>
        </p:nvSpPr>
        <p:spPr>
          <a:xfrm>
            <a:off x="2270880" y="2349360"/>
            <a:ext cx="483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третишь на дорог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увязнут сильно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делать миску или ваз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понадобиться ср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3"/>
          <p:cNvPicPr/>
          <p:nvPr/>
        </p:nvPicPr>
        <p:blipFill>
          <a:blip r:embed="rId3"/>
          <a:stretch/>
        </p:blipFill>
        <p:spPr>
          <a:xfrm>
            <a:off x="179280" y="4564080"/>
            <a:ext cx="2952720" cy="207792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3" name="Text Box 15"/>
          <p:cNvSpPr/>
          <p:nvPr/>
        </p:nvSpPr>
        <p:spPr>
          <a:xfrm>
            <a:off x="2129400" y="2276640"/>
            <a:ext cx="519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прочен и уп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елям – надёжный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, ступени, пост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 будут и заме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4"/>
          <p:cNvPicPr/>
          <p:nvPr/>
        </p:nvPicPr>
        <p:blipFill>
          <a:blip r:embed="rId4"/>
          <a:stretch/>
        </p:blipFill>
        <p:spPr>
          <a:xfrm>
            <a:off x="5724360" y="4600440"/>
            <a:ext cx="3130560" cy="207828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5" name="Text Box 17"/>
          <p:cNvSpPr/>
          <p:nvPr/>
        </p:nvSpPr>
        <p:spPr>
          <a:xfrm>
            <a:off x="2409480" y="2637000"/>
            <a:ext cx="445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 обще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этим 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908000" y="2637000"/>
            <a:ext cx="56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, песок, глина, гранит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лезные ископаем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Что такое полезные ископаемые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поверхность земли состоит из го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д. Камушки на берегу реки, мел, которым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ите на доске, уголь – всё это горные по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горных пород, называемых рудами, доб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мета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горные породы, полезные для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и называются – полезные ископаемые. Поч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паемые? Потому что многие из них находя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землёй, закрыты от нашего взгляда, их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лечь («ископать» говорили в старину) из-п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С какими горными породами мы познакомились в 1 классе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31" name="Picture 4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3527640" cy="295416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pic>
        <p:nvPicPr>
          <p:cNvPr id="232" name="Picture 6" descr="8"/>
          <p:cNvPicPr/>
          <p:nvPr/>
        </p:nvPicPr>
        <p:blipFill>
          <a:blip r:embed="rId2"/>
          <a:stretch/>
        </p:blipFill>
        <p:spPr>
          <a:xfrm>
            <a:off x="4859280" y="476280"/>
            <a:ext cx="3673440" cy="302400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233" name="Text Box 7"/>
          <p:cNvSpPr/>
          <p:nvPr/>
        </p:nvSpPr>
        <p:spPr>
          <a:xfrm>
            <a:off x="279360" y="3800520"/>
            <a:ext cx="211464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33880" y="3860640"/>
            <a:ext cx="148968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448080" y="6176880"/>
            <a:ext cx="181152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6"/>
          <p:cNvPicPr/>
          <p:nvPr/>
        </p:nvPicPr>
        <p:blipFill>
          <a:blip r:embed="rId3"/>
          <a:stretch/>
        </p:blipFill>
        <p:spPr>
          <a:xfrm>
            <a:off x="2627280" y="2997360"/>
            <a:ext cx="3745080" cy="295272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  <p:pic>
        <p:nvPicPr>
          <p:cNvPr id="237" name="Picture 11" descr="11"/>
          <p:cNvPicPr/>
          <p:nvPr/>
        </p:nvPicPr>
        <p:blipFill>
          <a:blip r:embed="rId4"/>
          <a:stretch/>
        </p:blipFill>
        <p:spPr>
          <a:xfrm>
            <a:off x="1258920" y="1700280"/>
            <a:ext cx="6624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749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кусочки гра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03040" y="2421000"/>
            <a:ext cx="485172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цветные зёр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евой шп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03760" y="3860640"/>
            <a:ext cx="534564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полупрозрачные зёр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р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02320" y="5300640"/>
            <a:ext cx="464472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чёрные блест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ёрна. 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10"/>
          <p:cNvPicPr/>
          <p:nvPr/>
        </p:nvPicPr>
        <p:blipFill>
          <a:blip r:embed="rId1"/>
          <a:stretch/>
        </p:blipFill>
        <p:spPr>
          <a:xfrm>
            <a:off x="6012000" y="2421000"/>
            <a:ext cx="2916000" cy="38876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44" name="Line 15"/>
          <p:cNvSpPr/>
          <p:nvPr/>
        </p:nvSpPr>
        <p:spPr>
          <a:xfrm>
            <a:off x="4859280" y="5805360"/>
            <a:ext cx="1584360" cy="2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 flipV="1">
            <a:off x="5580000" y="4076640"/>
            <a:ext cx="2376720" cy="2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5076720" y="2852640"/>
            <a:ext cx="1943280" cy="14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8" name="Picture 7" descr="12"/>
          <p:cNvPicPr/>
          <p:nvPr/>
        </p:nvPicPr>
        <p:blipFill>
          <a:blip r:embed="rId1"/>
          <a:stretch/>
        </p:blipFill>
        <p:spPr>
          <a:xfrm>
            <a:off x="250920" y="260280"/>
            <a:ext cx="2539800" cy="249876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pic>
        <p:nvPicPr>
          <p:cNvPr id="249" name="Picture 8" descr="13"/>
          <p:cNvPicPr/>
          <p:nvPr/>
        </p:nvPicPr>
        <p:blipFill>
          <a:blip r:embed="rId2"/>
          <a:stretch/>
        </p:blipFill>
        <p:spPr>
          <a:xfrm>
            <a:off x="3276720" y="260280"/>
            <a:ext cx="2609640" cy="24670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pic>
        <p:nvPicPr>
          <p:cNvPr id="250" name="Picture 9" descr="14"/>
          <p:cNvPicPr/>
          <p:nvPr/>
        </p:nvPicPr>
        <p:blipFill>
          <a:blip r:embed="rId3"/>
          <a:stretch/>
        </p:blipFill>
        <p:spPr>
          <a:xfrm>
            <a:off x="6227640" y="260280"/>
            <a:ext cx="2657520" cy="244800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251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439080" y="4653000"/>
            <a:ext cx="217728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30920" y="5589720"/>
            <a:ext cx="8288280" cy="1007640"/>
          </a:xfrm>
          <a:prstGeom prst="rect">
            <a:avLst/>
          </a:prstGeom>
          <a:solidFill>
            <a:srgbClr val="ffff99"/>
          </a:solidFill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и минералы, соединяясь вместе, образую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ную породу гран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solidFill>
            <a:srgbClr val="ffff99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Чем отличаются горные породы от минералов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26520" y="3213000"/>
            <a:ext cx="4147560" cy="947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родное по сост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о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922680" y="4826160"/>
            <a:ext cx="2561040" cy="1373760"/>
          </a:xfrm>
          <a:prstGeom prst="rect">
            <a:avLst/>
          </a:prstGeom>
          <a:solidFill>
            <a:srgbClr val="d7d1b9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450760" y="1916280"/>
            <a:ext cx="28447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ная по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42920" y="1916280"/>
            <a:ext cx="223380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ера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955400" y="3213000"/>
            <a:ext cx="3957120" cy="947160"/>
          </a:xfrm>
          <a:prstGeom prst="rect">
            <a:avLst/>
          </a:prstGeom>
          <a:solidFill>
            <a:srgbClr val="ffcc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состои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их мине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08720" y="4826160"/>
            <a:ext cx="2663640" cy="1800360"/>
          </a:xfrm>
          <a:prstGeom prst="rect">
            <a:avLst/>
          </a:prstGeom>
          <a:solidFill>
            <a:srgbClr val="d7d1b9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2124000" y="249228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6877080" y="249228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2124000" y="42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877080" y="42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41160" y="3284640"/>
            <a:ext cx="165456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15"/>
          <p:cNvPicPr/>
          <p:nvPr/>
        </p:nvPicPr>
        <p:blipFill>
          <a:blip r:embed="rId1"/>
          <a:stretch/>
        </p:blipFill>
        <p:spPr>
          <a:xfrm>
            <a:off x="2916360" y="1916280"/>
            <a:ext cx="5688000" cy="426528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1" name="Picture 7" descr="16"/>
          <p:cNvPicPr/>
          <p:nvPr/>
        </p:nvPicPr>
        <p:blipFill>
          <a:blip r:embed="rId2"/>
          <a:stretch/>
        </p:blipFill>
        <p:spPr>
          <a:xfrm>
            <a:off x="2843280" y="1844640"/>
            <a:ext cx="5859360" cy="446256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2" name="Picture 8" descr="17"/>
          <p:cNvPicPr/>
          <p:nvPr/>
        </p:nvPicPr>
        <p:blipFill>
          <a:blip r:embed="rId3"/>
          <a:stretch/>
        </p:blipFill>
        <p:spPr>
          <a:xfrm>
            <a:off x="3851280" y="1773360"/>
            <a:ext cx="4336920" cy="475272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41520" y="3284640"/>
            <a:ext cx="235404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18"/>
          <p:cNvPicPr/>
          <p:nvPr/>
        </p:nvPicPr>
        <p:blipFill>
          <a:blip r:embed="rId1"/>
          <a:stretch/>
        </p:blipFill>
        <p:spPr>
          <a:xfrm>
            <a:off x="4427640" y="1844640"/>
            <a:ext cx="3695760" cy="457200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6" name="Picture 8" descr="19"/>
          <p:cNvPicPr/>
          <p:nvPr/>
        </p:nvPicPr>
        <p:blipFill>
          <a:blip r:embed="rId2"/>
          <a:stretch/>
        </p:blipFill>
        <p:spPr>
          <a:xfrm>
            <a:off x="3708360" y="1773360"/>
            <a:ext cx="4780080" cy="477972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7" name="Picture 9" descr="20"/>
          <p:cNvPicPr/>
          <p:nvPr/>
        </p:nvPicPr>
        <p:blipFill>
          <a:blip r:embed="rId3"/>
          <a:stretch/>
        </p:blipFill>
        <p:spPr>
          <a:xfrm>
            <a:off x="4356000" y="1628640"/>
            <a:ext cx="3727440" cy="49690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6:48:18Z</dcterms:created>
  <dc:creator>мама</dc:creator>
  <dc:description/>
  <dc:language>en-US</dc:language>
  <cp:lastModifiedBy>Дима</cp:lastModifiedBy>
  <dcterms:modified xsi:type="dcterms:W3CDTF">2013-10-21T17:01:59Z</dcterms:modified>
  <cp:revision>4</cp:revision>
  <dc:subject/>
  <dc:title>Заглянем в кладовые Земли</dc:title>
</cp:coreProperties>
</file>