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377-574B-4021-ACFC-6C160E00B5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4B7-4479-40C1-A094-8D3CFD55E3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D9A-CE0E-4B1C-95B4-78913E62BA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B59D-FD0C-45AD-BC6D-9CC3FCCF2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A05-B0B4-4B36-AB32-57BE5BAE66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69D4-C406-4E0C-BF8B-5A7D4077BA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C053-0075-47A8-A488-958ACFAA7F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CC0-4B67-4683-8056-F11F7E27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221-B5D4-4783-93C0-990F3C1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14C-9AE5-4E21-8869-CEF1FCE2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6A4-CBDE-40D5-91AD-2D82A80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2F6D-10D9-41AA-BD03-DC42342E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648D-67FA-4A58-8FFB-7D95383F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E3D-4650-4E9A-9698-D36995A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10F-A09D-42F9-8D00-F070724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AE49-A073-4F1E-BDF1-E9643957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AB3-6E4C-4723-AA5E-33F29C9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D4F3-FA72-4CA0-AEB1-F6906A7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385-5A3F-4CBE-9399-89DDC21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FF0-8ECF-4C7A-9B0B-BB42DDA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4E7-5279-417F-B339-B166819E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9AC-7D49-41CD-963E-4ADEA13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0D22-55A8-4F52-9319-6F1AD31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A3A5-D62F-4780-8024-455B357F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D9AE-DC32-4119-892B-D54E71F0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F3E7-080A-45CE-8CE9-854B573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8FAB-885B-4646-89EE-CF0A293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E5A9-D33E-4790-A275-E3EA3C0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EB6C-20EF-4004-BD18-141A1FE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944-5254-42DB-A705-F1BD21F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5D21-2882-4065-9226-2F8E9861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43F4-0967-453E-9BA5-351A7CC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BD32-BA90-42FA-82F2-96A8280D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6596-B5A2-4CE0-915A-1499D93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15FC-FD7F-4C00-8C46-964B6AC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BEC0-5119-4E21-8B46-F8FE84F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C1F3-8033-4A80-BC59-7D52FEB2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B391-A8EB-4831-9916-2A80E03E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D01C-F543-4C24-9AED-5E95B14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7B06-0B1A-4E34-8B33-DF754F5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BFD-AC9F-4467-AC1B-34985021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2ED5-FB93-4B8A-9D46-58F964A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C986-5AF1-4039-9F2A-C333C22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C184-4DCB-445B-93F2-E6191257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4FC2-B4DE-4E7A-84C9-A542BB3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189A-B30A-4107-ADFB-FC8EC98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1AAA-8D4A-4E62-A873-D96966B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F38C-CBC0-4959-9463-8E99B0B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E042-9D13-4DAC-A275-E6E06218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0E26-9534-44B2-AB77-104C71F0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67331-CAF3-4785-A243-4285E293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3B6-A523-4D73-9360-FD985EE3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50C5F-E551-482F-BAAD-84C44C9E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FC04-B0EF-4866-BF51-644BADC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BD45-BE46-4D82-8C57-5173F14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323F-1FC0-41A5-9D2F-DDB1390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1B5F-AD28-4369-B520-B20E6D23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E822-33A7-4960-8720-F91EA2B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904D5-3860-4A51-AFC3-95C33FD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A7B2-D9F9-4CC3-A6F7-4407D87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F939-6078-48C9-8359-31D4B952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4EDC-B728-4BBA-A920-C5DAF3E2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EC8-2FE8-46A8-9973-4659D4F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18802-36F5-4D04-AEAF-0F541FAD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F4D5A-76E6-4560-A655-F8E0F045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ACB6-AFDC-4B62-B953-9ECB861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86173-1F2E-4A85-8C16-AFA9BD5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F84DE-4D49-4B6C-9253-965086A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F9CF6-9F02-4ADE-8967-C424EBCD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E9E8-98D3-4EBC-90F8-E74147A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F741-6339-43BC-9B68-7C974A2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AFAD-6714-4112-9CD1-1BDD6D1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A3C1-6168-4236-9BE6-030F16A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0CD-D011-4E03-9F3F-9C6C61E9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EB45-7D28-4923-B17E-A9369C8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DB00A-BD7E-4654-B752-08B55E43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DF4D-299E-496A-BA75-244D115D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E738D-173B-42C5-A2CE-78DC7C4A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CCAEA-385C-4400-86BD-D260068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69FC-2A37-478A-94D8-5CE5631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1892-E0C8-4788-A991-3865B1C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612A-000A-4AA9-B2DB-E2461B2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5A94C-18A9-456F-8256-6B9AE32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FB67-66ED-4DAA-B8D7-D769BAB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4D0-50B0-4522-B72B-27E0CC0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D248-FDF2-4622-948D-1BF7651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AFACF-92AC-4329-80FF-9C41DFB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1348-3A32-4960-8048-F7051992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28EB-7E4F-41D3-BEFE-B598FDA0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EFF3-08C2-4289-8AA0-FAE54F65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E4A-6348-41A7-930D-F8570E1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6BD4-9C79-4849-BB47-6EA1CAF0B8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18B2-D537-48F2-9E3E-93C3F348239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A07-27E6-42A5-B211-EF9E64DDD86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5A4B-61C8-45BC-9042-90D741BC39B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3D5-58D3-4554-ABB5-B9C8ABB2A63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CDD-CF17-4EA7-ADF6-82717F33E61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D360-D9D5-4727-BF51-A9207188A44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Картинка 33 из 166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Картинка 71 из 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4" descr="43009025_121258759033345.gif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3741840"/>
          </a:xfrm>
          <a:prstGeom prst="rect">
            <a:avLst/>
          </a:prstGeom>
          <a:ln w="0">
            <a:noFill/>
          </a:ln>
        </p:spPr>
      </p:pic>
      <p:sp>
        <p:nvSpPr>
          <p:cNvPr id="344" name="Облако 3"/>
          <p:cNvSpPr/>
          <p:nvPr/>
        </p:nvSpPr>
        <p:spPr>
          <a:xfrm>
            <a:off x="857160" y="4086360"/>
            <a:ext cx="7715520" cy="277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ffd7e8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Заголовок 1" descr=""/>
          <p:cNvPicPr/>
          <p:nvPr/>
        </p:nvPicPr>
        <p:blipFill>
          <a:blip r:embed="rId2"/>
          <a:stretch/>
        </p:blipFill>
        <p:spPr>
          <a:xfrm>
            <a:off x="182520" y="4419720"/>
            <a:ext cx="869328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500040" y="2212920"/>
            <a:ext cx="806436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Подзаголовок 2" descr=""/>
          <p:cNvPicPr/>
          <p:nvPr/>
        </p:nvPicPr>
        <p:blipFill>
          <a:blip r:embed="rId2"/>
          <a:stretch/>
        </p:blipFill>
        <p:spPr>
          <a:xfrm>
            <a:off x="-396720" y="981000"/>
            <a:ext cx="9821880" cy="302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6286680" y="4067280"/>
            <a:ext cx="1836720" cy="27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4" name="Picture 2" descr="C:\Documents and Settings\Admin\Рабочий стол\Презентации\Мудрая Черепаха.jpg"/>
          <p:cNvPicPr/>
          <p:nvPr/>
        </p:nvPicPr>
        <p:blipFill>
          <a:blip r:embed="rId4"/>
          <a:stretch/>
        </p:blipFill>
        <p:spPr>
          <a:xfrm>
            <a:off x="571680" y="4857840"/>
            <a:ext cx="192852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5" name="Прямоугольник 6"/>
          <p:cNvSpPr/>
          <p:nvPr/>
        </p:nvSpPr>
        <p:spPr>
          <a:xfrm>
            <a:off x="0" y="285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0059"/>
                </a:solidFill>
                <a:latin typeface="Georgia"/>
              </a:rPr>
              <a:t>Презентация к уроку окружающего мира в 1 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Картинка 33 из 166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Картинка 3 из 4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142920" y="14292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Бывает, что, всем на радость и удивление, в небе сразу появляются две радуги. Одна из них поярче, другая побледней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Картинка 120 из 2128"/>
          <p:cNvPicPr/>
          <p:nvPr/>
        </p:nvPicPr>
        <p:blipFill>
          <a:blip r:embed="rId1"/>
          <a:stretch/>
        </p:blipFill>
        <p:spPr>
          <a:xfrm>
            <a:off x="-3636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7"/>
          <p:cNvSpPr/>
          <p:nvPr/>
        </p:nvSpPr>
        <p:spPr>
          <a:xfrm>
            <a:off x="142920" y="142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Еще реже на небе сияют сразу целых четыре или пять радуг, — это случается только над большими реками, озерами, заливами, потому что тут происходит сложное отражение солнечных лучей от воды. Природа изобретательн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Картинка 147 из 166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-189000" y="-115920"/>
            <a:ext cx="9601200" cy="1779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Бывает  так:  дождь  только  что кончился  или  ещё  шумит,  а  тучи уже  начинают  расступаться,  между  ними  проглядывает   голубое  небо  и  показывается   солнц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4" descr="Картинка 19 из 7108"/>
          <p:cNvPicPr/>
          <p:nvPr/>
        </p:nvPicPr>
        <p:blipFill>
          <a:blip r:embed="rId2"/>
          <a:stretch/>
        </p:blipFill>
        <p:spPr>
          <a:xfrm>
            <a:off x="1214280" y="928800"/>
            <a:ext cx="6643800" cy="286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0"/>
            <a:ext cx="914400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7480" indent="-25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90062"/>
                </a:solidFill>
                <a:latin typeface="Century Gothic"/>
              </a:rPr>
              <a:t>В этот момент на небе возникает прекрасная картина: многоцветная радуга широкой лентой охватывает небесный свод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639800" y="3000240"/>
            <a:ext cx="57880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0" y="-317520"/>
            <a:ext cx="8229600" cy="2017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0" y="114300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Солнечные лучи, попадая в небе на капельки дождя, распадаются на разноцветные лучики. Так возникает радуг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2"/>
          <a:stretch/>
        </p:blipFill>
        <p:spPr>
          <a:xfrm>
            <a:off x="3456000" y="3071880"/>
            <a:ext cx="56880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7:38:56Z</dcterms:created>
  <dc:creator>user</dc:creator>
  <dc:description/>
  <dc:language>en-US</dc:language>
  <cp:lastModifiedBy>Дима</cp:lastModifiedBy>
  <dcterms:modified xsi:type="dcterms:W3CDTF">2013-05-06T21:10:57Z</dcterms:modified>
  <cp:revision>30</cp:revision>
  <dc:subject/>
  <dc:title> </dc:title>
</cp:coreProperties>
</file>