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D405-9A4D-4E6A-A017-E283CD71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C5AA-FCE3-43F8-B4AD-DDC7EE605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8130-8840-44CE-A5DA-8BF385FAB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45B93-F8B2-41D3-B288-2682F239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FAFF-141D-408B-99B1-AA5BB3923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11AA-D3C4-4436-8607-3160E2C5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2D292-5CF5-4C8B-8B76-9C01065C7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AFFB-D399-40F8-9DD7-9805D1A9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DBAE5-DFF9-424F-BDD2-8AD180D78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D781B-8CF6-41BD-BE16-5B8799D4E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83E8-06E0-4008-AF07-4A2D5ABEE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2978-A2AE-4245-968A-115D987A9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0A6E2-0390-43A7-A9E5-B1E7724FED3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Церковь и проблемы экологи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" name="Picture 6" descr="16399"/>
          <p:cNvPicPr/>
          <p:nvPr/>
        </p:nvPicPr>
        <p:blipFill>
          <a:blip r:embed="rId1"/>
          <a:stretch/>
        </p:blipFill>
        <p:spPr>
          <a:xfrm>
            <a:off x="179280" y="1557360"/>
            <a:ext cx="8785440" cy="530064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5"/>
          <p:cNvSpPr/>
          <p:nvPr/>
        </p:nvSpPr>
        <p:spPr>
          <a:xfrm>
            <a:off x="428760" y="5500800"/>
            <a:ext cx="407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Составила Мостовая М.Н.,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учитель ОПК МБОУ СОШ № 5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Абинского район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Краснодарского кр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686800" y="-5234040"/>
            <a:ext cx="698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Человек уже не довольствуется многообразием даров природы, а безудержно эксплуатирует целые экосистем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7" descr="11"/>
          <p:cNvPicPr/>
          <p:nvPr/>
        </p:nvPicPr>
        <p:blipFill>
          <a:blip r:embed="rId1"/>
          <a:stretch/>
        </p:blipFill>
        <p:spPr>
          <a:xfrm>
            <a:off x="250920" y="333360"/>
            <a:ext cx="4321080" cy="60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dfd29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рех, зародившийся в душе человека, пагубно повлиял не только на него самого, но и на весь окружающий м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7" descr="2006882"/>
          <p:cNvPicPr/>
          <p:nvPr/>
        </p:nvPicPr>
        <p:blipFill>
          <a:blip r:embed="rId1"/>
          <a:stretch/>
        </p:blipFill>
        <p:spPr>
          <a:xfrm>
            <a:off x="4643280" y="333360"/>
            <a:ext cx="4321440" cy="61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ознание того, что современное общество платит за блага цивилизации слишком дорогую цену, вызывает противодействие хозяйственному эгоизм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Img_3538"/>
          <p:cNvPicPr/>
          <p:nvPr/>
        </p:nvPicPr>
        <p:blipFill>
          <a:blip r:embed="rId1"/>
          <a:stretch/>
        </p:blipFill>
        <p:spPr>
          <a:xfrm>
            <a:off x="179280" y="260280"/>
            <a:ext cx="446400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рода как храм является Источником бытия, поэтому сама жизнь в многоразличных её проявлениях носит священный характер, являясь Божиим да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7" descr="церковь Святого Георгия"/>
          <p:cNvPicPr/>
          <p:nvPr/>
        </p:nvPicPr>
        <p:blipFill>
          <a:blip r:embed="rId1"/>
          <a:stretch/>
        </p:blipFill>
        <p:spPr>
          <a:xfrm>
            <a:off x="4788000" y="333360"/>
            <a:ext cx="435600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Экологические проблемы носят, по существу, антропологический характер, будучи порождены человеком, а не природ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7" descr="02003284"/>
          <p:cNvPicPr/>
          <p:nvPr/>
        </p:nvPicPr>
        <p:blipFill>
          <a:blip r:embed="rId1"/>
          <a:stretch/>
        </p:blipFill>
        <p:spPr>
          <a:xfrm>
            <a:off x="0" y="333360"/>
            <a:ext cx="464328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8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может превратить в рай всю землю только тогда, когда он будет носить рай в себе сам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аксим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ведни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7" descr="16531"/>
          <p:cNvPicPr/>
          <p:nvPr/>
        </p:nvPicPr>
        <p:blipFill>
          <a:blip r:embed="rId1"/>
          <a:stretch/>
        </p:blipFill>
        <p:spPr>
          <a:xfrm>
            <a:off x="4211640" y="549360"/>
            <a:ext cx="493236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14006548"/>
          <p:cNvPicPr/>
          <p:nvPr/>
        </p:nvPicPr>
        <p:blipFill>
          <a:blip r:embed="rId1"/>
          <a:stretch/>
        </p:blipFill>
        <p:spPr>
          <a:xfrm>
            <a:off x="250920" y="404640"/>
            <a:ext cx="4681440" cy="6048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3002667"/>
          <p:cNvPicPr/>
          <p:nvPr/>
        </p:nvPicPr>
        <p:blipFill>
          <a:blip r:embed="rId2"/>
          <a:stretch/>
        </p:blipFill>
        <p:spPr>
          <a:xfrm>
            <a:off x="4997520" y="404640"/>
            <a:ext cx="396720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6T03:46:13Z</dcterms:created>
  <dc:creator>Дом</dc:creator>
  <dc:description/>
  <dc:language>en-US</dc:language>
  <cp:lastModifiedBy>Дом</cp:lastModifiedBy>
  <dcterms:modified xsi:type="dcterms:W3CDTF">2011-04-25T07:33:24Z</dcterms:modified>
  <cp:revision>4</cp:revision>
  <dc:subject/>
  <dc:title>Церковь и проблемы экологии</dc:title>
</cp:coreProperties>
</file>