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9B6-1E4B-4AD6-8536-DCE2C475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D69-B321-4E23-9DD4-4A273538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277-EB9E-48FE-894B-A0D3FBC4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647-ABC8-4AB1-9E31-75DC43C1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C340-BF26-44D7-8D23-2C594707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6CC6-DDD0-4095-BB45-6A161584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8704-707C-403C-A438-8EF6B4B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F48D-6686-4EEF-9371-C03CC45C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6D79-91B8-428D-B3C7-B5E7C703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61AF-E5AA-44E4-88C3-3A8A5C9C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90EC-E93A-4B5B-B692-F9C3DB1F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221-F5EE-49DF-8DBC-54DCD612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276F-3463-4D8D-9AC1-26F83B19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4EE7-B9AD-4394-B207-B951FE79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F44C-1C45-48EA-B869-BB5645C7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010A-4EAD-413A-B075-4BE0FA45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3F56-3F65-4B55-8C04-76C76D6A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5B8-7FE4-4391-85A7-9A1BD9FB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DC6-F73D-4AF3-8F04-2EDE85E3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F4B-E6BF-41A3-B0B9-E03C2AE5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844-0470-4EAB-9B86-C8F0C3E5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327-B749-468E-AA27-B7E505D2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F28-0A19-4BA6-949C-320089FE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836-60A4-4841-ABA7-3D3C34C0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A788-BE15-4A54-B211-E8268F376E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22D7-6C53-49F9-B487-ACE4E824709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zhgorod.net.ua/images/2005/11/29/konvert_pochta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Личное официальное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исьм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640" y="4051440"/>
            <a:ext cx="60343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езентацию подготовила учитель русского языка и литератур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МОУ СОШ №5 Абинского район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Быстрова Татьяна Иванов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2000" y="0"/>
            <a:ext cx="29527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-703440"/>
            <a:ext cx="691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50920" y="189000"/>
            <a:ext cx="8641800" cy="5975280"/>
            <a:chOff x="250920" y="189000"/>
            <a:chExt cx="8641800" cy="5975280"/>
          </a:xfrm>
        </p:grpSpPr>
        <p:cxnSp>
          <p:nvCxnSpPr>
            <p:cNvPr id="197" name="_s274546"/>
            <p:cNvCxnSpPr>
              <a:stCxn id="198" idx="0"/>
              <a:endCxn id="199" idx="3"/>
            </p:cNvCxnSpPr>
            <p:nvPr/>
          </p:nvCxnSpPr>
          <p:spPr>
            <a:xfrm flipV="1" rot="16200000">
              <a:off x="7532640" y="4070160"/>
              <a:ext cx="801000" cy="185040"/>
            </a:xfrm>
            <a:prstGeom prst="bentConnector3">
              <a:avLst>
                <a:gd name="adj1" fmla="val 14253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200" name="_s274544"/>
            <p:cNvCxnSpPr>
              <a:stCxn id="201" idx="0"/>
              <a:endCxn id="202" idx="3"/>
            </p:cNvCxnSpPr>
            <p:nvPr/>
          </p:nvCxnSpPr>
          <p:spPr>
            <a:xfrm flipV="1" rot="16200000">
              <a:off x="5292360" y="4070160"/>
              <a:ext cx="801000" cy="185040"/>
            </a:xfrm>
            <a:prstGeom prst="bentConnector3">
              <a:avLst>
                <a:gd name="adj1" fmla="val 14253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203" name="_s274542"/>
            <p:cNvCxnSpPr>
              <a:stCxn id="204" idx="0"/>
              <a:endCxn id="205" idx="3"/>
            </p:cNvCxnSpPr>
            <p:nvPr/>
          </p:nvCxnSpPr>
          <p:spPr>
            <a:xfrm flipV="1" rot="16200000">
              <a:off x="811080" y="4070160"/>
              <a:ext cx="801000" cy="185040"/>
            </a:xfrm>
            <a:prstGeom prst="bentConnector3">
              <a:avLst>
                <a:gd name="adj1" fmla="val 14253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206" name="_s274540"/>
            <p:cNvCxnSpPr>
              <a:stCxn id="207" idx="0"/>
              <a:endCxn id="208" idx="3"/>
            </p:cNvCxnSpPr>
            <p:nvPr/>
          </p:nvCxnSpPr>
          <p:spPr>
            <a:xfrm flipV="1" rot="16200000">
              <a:off x="3051720" y="4070160"/>
              <a:ext cx="801000" cy="185040"/>
            </a:xfrm>
            <a:prstGeom prst="bentConnector3">
              <a:avLst>
                <a:gd name="adj1" fmla="val 14253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209" name="_s274526"/>
            <p:cNvCxnSpPr>
              <a:stCxn id="199" idx="0"/>
              <a:endCxn id="210" idx="3"/>
            </p:cNvCxnSpPr>
            <p:nvPr/>
          </p:nvCxnSpPr>
          <p:spPr>
            <a:xfrm flipV="1" rot="16200000">
              <a:off x="5863320" y="18000"/>
              <a:ext cx="801000" cy="3519000"/>
            </a:xfrm>
            <a:prstGeom prst="bentConnector3">
              <a:avLst>
                <a:gd name="adj1" fmla="val 14253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211" name="_s274522"/>
            <p:cNvCxnSpPr>
              <a:stCxn id="202" idx="0"/>
              <a:endCxn id="210" idx="3"/>
            </p:cNvCxnSpPr>
            <p:nvPr/>
          </p:nvCxnSpPr>
          <p:spPr>
            <a:xfrm flipV="1" rot="16200000">
              <a:off x="4743000" y="1138320"/>
              <a:ext cx="801000" cy="1278360"/>
            </a:xfrm>
            <a:prstGeom prst="bentConnector3">
              <a:avLst>
                <a:gd name="adj1" fmla="val 14253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212" name="_s274521"/>
            <p:cNvCxnSpPr>
              <a:stCxn id="208" idx="0"/>
              <a:endCxn id="210" idx="3"/>
            </p:cNvCxnSpPr>
            <p:nvPr/>
          </p:nvCxnSpPr>
          <p:spPr>
            <a:xfrm flipH="1" flipV="1" rot="5400000">
              <a:off x="3623040" y="1296000"/>
              <a:ext cx="801000" cy="963360"/>
            </a:xfrm>
            <a:prstGeom prst="bentConnector3">
              <a:avLst>
                <a:gd name="adj1" fmla="val 14253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213" name="_s274520"/>
            <p:cNvCxnSpPr>
              <a:stCxn id="205" idx="0"/>
              <a:endCxn id="210" idx="3"/>
            </p:cNvCxnSpPr>
            <p:nvPr/>
          </p:nvCxnSpPr>
          <p:spPr>
            <a:xfrm flipH="1" flipV="1" rot="5400000">
              <a:off x="2502720" y="175680"/>
              <a:ext cx="801000" cy="3203640"/>
            </a:xfrm>
            <a:prstGeom prst="bentConnector3">
              <a:avLst>
                <a:gd name="adj1" fmla="val 14253"/>
              </a:avLst>
            </a:prstGeom>
            <a:ln w="28440">
              <a:solidFill>
                <a:srgbClr val="ffb800"/>
              </a:solidFill>
              <a:miter/>
            </a:ln>
          </p:spPr>
        </p:cxnSp>
        <p:sp>
          <p:nvSpPr>
            <p:cNvPr id="210" name="_s274516"/>
            <p:cNvSpPr/>
            <p:nvPr/>
          </p:nvSpPr>
          <p:spPr>
            <a:xfrm>
              <a:off x="1488600" y="189000"/>
              <a:ext cx="6167880" cy="1188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ef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mic Sans MS"/>
                </a:rPr>
                <a:t>Этикетные част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700" spc="-1" strike="noStrike">
                  <a:solidFill>
                    <a:srgbClr val="000000"/>
                  </a:solidFill>
                  <a:latin typeface="Comic Sans MS"/>
                </a:rPr>
                <a:t>личного официального письм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274517"/>
            <p:cNvSpPr/>
            <p:nvPr/>
          </p:nvSpPr>
          <p:spPr>
            <a:xfrm>
              <a:off x="250920" y="2178360"/>
              <a:ext cx="1920240" cy="158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поздравл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274518"/>
            <p:cNvSpPr/>
            <p:nvPr/>
          </p:nvSpPr>
          <p:spPr>
            <a:xfrm>
              <a:off x="2491200" y="2178360"/>
              <a:ext cx="1920240" cy="158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извин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274519"/>
            <p:cNvSpPr/>
            <p:nvPr/>
          </p:nvSpPr>
          <p:spPr>
            <a:xfrm>
              <a:off x="4731840" y="2178360"/>
              <a:ext cx="1920240" cy="158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просьб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274525"/>
            <p:cNvSpPr/>
            <p:nvPr/>
          </p:nvSpPr>
          <p:spPr>
            <a:xfrm>
              <a:off x="6972480" y="2178360"/>
              <a:ext cx="1920240" cy="158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благодар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74539"/>
            <p:cNvSpPr/>
            <p:nvPr/>
          </p:nvSpPr>
          <p:spPr>
            <a:xfrm>
              <a:off x="2493360" y="4563360"/>
              <a:ext cx="1918080" cy="1600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b2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протес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274541"/>
            <p:cNvSpPr/>
            <p:nvPr/>
          </p:nvSpPr>
          <p:spPr>
            <a:xfrm>
              <a:off x="252720" y="4563360"/>
              <a:ext cx="1918080" cy="1600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b2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соглас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274543"/>
            <p:cNvSpPr/>
            <p:nvPr/>
          </p:nvSpPr>
          <p:spPr>
            <a:xfrm>
              <a:off x="4733640" y="4563360"/>
              <a:ext cx="1918080" cy="1600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b2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возраж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74545"/>
            <p:cNvSpPr/>
            <p:nvPr/>
          </p:nvSpPr>
          <p:spPr>
            <a:xfrm>
              <a:off x="6974280" y="4563360"/>
              <a:ext cx="1918080" cy="1600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b2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отказ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152928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42920" y="151920"/>
            <a:ext cx="5041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Речевые формулы</a:t>
            </a:r>
            <a:br>
              <a:rPr sz="3600"/>
            </a:br>
            <a:r>
              <a:rPr b="0" i="1" lang="en-US" sz="2400" spc="-1" strike="noStrike">
                <a:solidFill>
                  <a:srgbClr val="ffb800"/>
                </a:solidFill>
                <a:latin typeface="Comic Sans MS"/>
              </a:rPr>
              <a:t>Выбор этикетных форм обращения определяется нормами русского  речевого этик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3888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Обращ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важаем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ногоуважаем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лубокоуважаем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рог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овари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оспод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00720" y="2637000"/>
            <a:ext cx="4176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Приветств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дравствуйт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решите (позвольте) приветствовать Вас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ветствую Вас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д вас приветствовать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71280" y="152280"/>
            <a:ext cx="47847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онцовка письм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285264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324000" y="1700280"/>
            <a:ext cx="8495280" cy="4896360"/>
            <a:chOff x="324000" y="1700280"/>
            <a:chExt cx="8495280" cy="4896360"/>
          </a:xfrm>
        </p:grpSpPr>
        <p:cxnSp>
          <p:nvCxnSpPr>
            <p:cNvPr id="222" name="_s291885"/>
            <p:cNvCxnSpPr>
              <a:stCxn id="223" idx="0"/>
              <a:endCxn id="224" idx="3"/>
            </p:cNvCxnSpPr>
            <p:nvPr/>
          </p:nvCxnSpPr>
          <p:spPr>
            <a:xfrm flipV="1" rot="16200000">
              <a:off x="7238880" y="5001120"/>
              <a:ext cx="612720" cy="130320"/>
            </a:xfrm>
            <a:prstGeom prst="bentConnector3">
              <a:avLst>
                <a:gd name="adj1" fmla="val 18636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225" name="_s291883"/>
            <p:cNvCxnSpPr>
              <a:stCxn id="226" idx="0"/>
              <a:endCxn id="227" idx="3"/>
            </p:cNvCxnSpPr>
            <p:nvPr/>
          </p:nvCxnSpPr>
          <p:spPr>
            <a:xfrm flipV="1" rot="16200000">
              <a:off x="4265280" y="5001120"/>
              <a:ext cx="612720" cy="130320"/>
            </a:xfrm>
            <a:prstGeom prst="bentConnector3">
              <a:avLst>
                <a:gd name="adj1" fmla="val 18636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228" name="_s291881"/>
            <p:cNvCxnSpPr>
              <a:stCxn id="229" idx="0"/>
              <a:endCxn id="230" idx="3"/>
            </p:cNvCxnSpPr>
            <p:nvPr/>
          </p:nvCxnSpPr>
          <p:spPr>
            <a:xfrm flipV="1" rot="16200000">
              <a:off x="1291680" y="5001120"/>
              <a:ext cx="612720" cy="130320"/>
            </a:xfrm>
            <a:prstGeom prst="bentConnector3">
              <a:avLst>
                <a:gd name="adj1" fmla="val 18636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231" name="_s291878"/>
            <p:cNvCxnSpPr>
              <a:stCxn id="224" idx="0"/>
              <a:endCxn id="232" idx="3"/>
            </p:cNvCxnSpPr>
            <p:nvPr/>
          </p:nvCxnSpPr>
          <p:spPr>
            <a:xfrm flipV="1" rot="16200000">
              <a:off x="5752080" y="1677960"/>
              <a:ext cx="612720" cy="3103920"/>
            </a:xfrm>
            <a:prstGeom prst="bentConnector3">
              <a:avLst>
                <a:gd name="adj1" fmla="val 18636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233" name="_s291877"/>
            <p:cNvCxnSpPr>
              <a:stCxn id="227" idx="0"/>
              <a:endCxn id="232" idx="3"/>
            </p:cNvCxnSpPr>
            <p:nvPr/>
          </p:nvCxnSpPr>
          <p:spPr>
            <a:xfrm flipV="1" rot="16200000">
              <a:off x="4265280" y="3164760"/>
              <a:ext cx="612720" cy="130320"/>
            </a:xfrm>
            <a:prstGeom prst="bentConnector3">
              <a:avLst>
                <a:gd name="adj1" fmla="val 18636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234" name="_s291876"/>
            <p:cNvCxnSpPr>
              <a:stCxn id="230" idx="0"/>
              <a:endCxn id="232" idx="3"/>
            </p:cNvCxnSpPr>
            <p:nvPr/>
          </p:nvCxnSpPr>
          <p:spPr>
            <a:xfrm flipH="1" flipV="1" rot="5400000">
              <a:off x="2778480" y="1807920"/>
              <a:ext cx="612720" cy="2844360"/>
            </a:xfrm>
            <a:prstGeom prst="bentConnector3">
              <a:avLst>
                <a:gd name="adj1" fmla="val 18636"/>
              </a:avLst>
            </a:prstGeom>
            <a:ln w="28440">
              <a:solidFill>
                <a:srgbClr val="ffb800"/>
              </a:solidFill>
              <a:miter/>
            </a:ln>
          </p:spPr>
        </p:cxnSp>
        <p:sp>
          <p:nvSpPr>
            <p:cNvPr id="232" name="_s291872"/>
            <p:cNvSpPr/>
            <p:nvPr/>
          </p:nvSpPr>
          <p:spPr>
            <a:xfrm>
              <a:off x="3297240" y="1700280"/>
              <a:ext cx="2548440" cy="1224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ef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Основ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элемент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291873"/>
            <p:cNvSpPr/>
            <p:nvPr/>
          </p:nvSpPr>
          <p:spPr>
            <a:xfrm>
              <a:off x="324000" y="3536280"/>
              <a:ext cx="2548440" cy="1224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Итоговые фраз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291874"/>
            <p:cNvSpPr/>
            <p:nvPr/>
          </p:nvSpPr>
          <p:spPr>
            <a:xfrm>
              <a:off x="3297240" y="3536280"/>
              <a:ext cx="2548440" cy="1224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Просьба писа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91875"/>
            <p:cNvSpPr/>
            <p:nvPr/>
          </p:nvSpPr>
          <p:spPr>
            <a:xfrm>
              <a:off x="6270840" y="3536280"/>
              <a:ext cx="2548440" cy="1224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Предположения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что переписк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будет нормально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291880"/>
            <p:cNvSpPr/>
            <p:nvPr/>
          </p:nvSpPr>
          <p:spPr>
            <a:xfrm>
              <a:off x="324000" y="5372640"/>
              <a:ext cx="2548440" cy="1224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b2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Благодарнос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91882"/>
            <p:cNvSpPr/>
            <p:nvPr/>
          </p:nvSpPr>
          <p:spPr>
            <a:xfrm>
              <a:off x="3297240" y="5372640"/>
              <a:ext cx="2548440" cy="1224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b2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Извинени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(факультативно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91884"/>
            <p:cNvSpPr/>
            <p:nvPr/>
          </p:nvSpPr>
          <p:spPr>
            <a:xfrm>
              <a:off x="6270840" y="5372640"/>
              <a:ext cx="2548440" cy="1224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b2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Подпис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50920" y="115560"/>
            <a:ext cx="374508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8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19280" y="1844280"/>
            <a:ext cx="532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Представьте себе, что вы уехали во время учебного года (на спортивные соревнования, к заболевшему другу, на какое- то семейное торжество и т.п.) и вам надо сообщить директору (классному руководителю, завучу) о причинах отъезда. Составьте текст такого пись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32000" y="151920"/>
            <a:ext cx="44244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слеслов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работка урока составлена по учебнику «Риторика» под редакцией Т.А.Ладыженской для 8-го клас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презентации урока использованы картинки из Интерн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518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пределите по началу тип и жанр писем. Когда они написаны? Какое обращение, по-вашему, самое вежливо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99640" y="1916280"/>
            <a:ext cx="366732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b8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Царю-государю и великому князю Михаилу Федоровичу всея Руси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03320" y="1828440"/>
            <a:ext cx="37782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8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Уважаемые господа! Сердечно благодарю вас за приглашение на ваш заво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440" y="3731760"/>
            <a:ext cx="37782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8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dff"/>
                </a:solidFill>
                <a:latin typeface="Comic Sans MS"/>
              </a:rPr>
              <a:t>Государю моему Порфению Васильевичу Ждан Кондырев челом бь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03320" y="3731760"/>
            <a:ext cx="37782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b8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Уважаемая Валентина Филипповна! С большим удовольствием мы узнали, что Вас назначили директором школ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51280" y="152280"/>
            <a:ext cx="3705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Признаки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личных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официальных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пис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696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Точность и лаконичность передачи необходимой информац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Однозначное толкование каждого положе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Корректность, сдержанность то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1640" y="212400"/>
            <a:ext cx="44643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е письмо вы отнесете к официальным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43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d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Здравствуй, Алла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Я теперь живу на новой квартире. Телефон у нас скоро будет, а пока пишу тебе письм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Я хочу пригласить тебя к себе на день рождения. Приезжай обязательно (адрес написан на конверте ) Мой день рождения 15 мая. Ты не забыла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Мама и папа тоже ждут теб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1 декабря 2006 года                       Ол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56000" y="119700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d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Многоуважаемый товарищ Петров И.А.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Через неделю в выставочном зале открывается выставка работ молодых художников. Мы приглашаем Вас на торжественное открытие этой выставки. Надеемся, что Вы не откажетесь от приглашения, а возможно. даже выступите с приветственной речь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С уважением к Ва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председатель организации «Молодые художники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В.Константин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22 октября 1998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День Российской почты"/>
          <p:cNvPicPr/>
          <p:nvPr/>
        </p:nvPicPr>
        <p:blipFill>
          <a:blip r:embed="rId1"/>
          <a:stretch/>
        </p:blipFill>
        <p:spPr>
          <a:xfrm>
            <a:off x="0" y="0"/>
            <a:ext cx="285768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6200" cy="17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Коммуникативные условия составления личного официального письма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Личное официальное письм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26920" y="1844640"/>
            <a:ext cx="7705440" cy="4678920"/>
            <a:chOff x="826920" y="1844640"/>
            <a:chExt cx="7705440" cy="4678920"/>
          </a:xfrm>
        </p:grpSpPr>
        <p:cxnSp>
          <p:nvCxnSpPr>
            <p:cNvPr id="169" name="_s270353"/>
            <p:cNvCxnSpPr>
              <a:stCxn id="170" idx="0"/>
              <a:endCxn id="171" idx="3"/>
            </p:cNvCxnSpPr>
            <p:nvPr/>
          </p:nvCxnSpPr>
          <p:spPr>
            <a:xfrm flipV="1" rot="16200000">
              <a:off x="4386960" y="5005080"/>
              <a:ext cx="585360" cy="112680"/>
            </a:xfrm>
            <a:prstGeom prst="bentConnector3">
              <a:avLst>
                <a:gd name="adj1" fmla="val 22215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172" name="_s270349"/>
            <p:cNvCxnSpPr>
              <a:stCxn id="173" idx="0"/>
              <a:endCxn id="174" idx="3"/>
            </p:cNvCxnSpPr>
            <p:nvPr/>
          </p:nvCxnSpPr>
          <p:spPr>
            <a:xfrm flipV="1" rot="16200000">
              <a:off x="5735520" y="1901520"/>
              <a:ext cx="585360" cy="2809800"/>
            </a:xfrm>
            <a:prstGeom prst="bentConnector3">
              <a:avLst>
                <a:gd name="adj1" fmla="val 22276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175" name="_s270348"/>
            <p:cNvCxnSpPr>
              <a:stCxn id="171" idx="0"/>
              <a:endCxn id="174" idx="3"/>
            </p:cNvCxnSpPr>
            <p:nvPr/>
          </p:nvCxnSpPr>
          <p:spPr>
            <a:xfrm flipV="1" rot="16200000">
              <a:off x="4386960" y="3250080"/>
              <a:ext cx="585360" cy="112680"/>
            </a:xfrm>
            <a:prstGeom prst="bentConnector3">
              <a:avLst>
                <a:gd name="adj1" fmla="val 22276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176" name="_s270347"/>
            <p:cNvCxnSpPr>
              <a:stCxn id="177" idx="0"/>
              <a:endCxn id="174" idx="3"/>
            </p:cNvCxnSpPr>
            <p:nvPr/>
          </p:nvCxnSpPr>
          <p:spPr>
            <a:xfrm flipH="1" flipV="1" rot="5400000">
              <a:off x="3038400" y="2013840"/>
              <a:ext cx="585360" cy="2585160"/>
            </a:xfrm>
            <a:prstGeom prst="bentConnector3">
              <a:avLst>
                <a:gd name="adj1" fmla="val 22276"/>
              </a:avLst>
            </a:prstGeom>
            <a:ln w="28440">
              <a:solidFill>
                <a:srgbClr val="ffb800"/>
              </a:solidFill>
              <a:miter/>
            </a:ln>
          </p:spPr>
        </p:cxnSp>
        <p:sp>
          <p:nvSpPr>
            <p:cNvPr id="174" name="_s270343"/>
            <p:cNvSpPr/>
            <p:nvPr/>
          </p:nvSpPr>
          <p:spPr>
            <a:xfrm>
              <a:off x="3523680" y="1844640"/>
              <a:ext cx="2311560" cy="1169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ef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Тип обращен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270344"/>
            <p:cNvSpPr/>
            <p:nvPr/>
          </p:nvSpPr>
          <p:spPr>
            <a:xfrm>
              <a:off x="826920" y="3599280"/>
              <a:ext cx="2311560" cy="1169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Один - мн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70345"/>
            <p:cNvSpPr/>
            <p:nvPr/>
          </p:nvSpPr>
          <p:spPr>
            <a:xfrm>
              <a:off x="3523680" y="3599280"/>
              <a:ext cx="2311560" cy="1169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официаль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270346"/>
            <p:cNvSpPr/>
            <p:nvPr/>
          </p:nvSpPr>
          <p:spPr>
            <a:xfrm>
              <a:off x="6220800" y="3599280"/>
              <a:ext cx="2311560" cy="1169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Один - один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70352"/>
            <p:cNvSpPr/>
            <p:nvPr/>
          </p:nvSpPr>
          <p:spPr>
            <a:xfrm>
              <a:off x="3523680" y="5353920"/>
              <a:ext cx="2311560" cy="1169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b2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Много - один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219564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76720" y="152280"/>
            <a:ext cx="4279680" cy="17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800"/>
                </a:solidFill>
                <a:latin typeface="Comic Sans MS"/>
              </a:rPr>
              <a:t>Структура официального письм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3389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бращение (уважительное, с указанием должности, звания и т.д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новная часть делового сообщен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нцовка (формулы прощания, выражения вежливости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дпис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бозначение времени и ме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Почта России"/>
          <p:cNvPicPr/>
          <p:nvPr/>
        </p:nvPicPr>
        <p:blipFill>
          <a:blip r:embed="rId1"/>
          <a:stretch/>
        </p:blipFill>
        <p:spPr>
          <a:xfrm>
            <a:off x="0" y="0"/>
            <a:ext cx="320364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40000" y="151920"/>
            <a:ext cx="51847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В личных официальных письмах М.В.Ломоносова выделите языковые средства, усиливающие вежлив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илостивый государь Иван Иванович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илостивое вашего превосходительства меня                     письмом напоминовение уверяет к великой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оей радости о непременном вашем ко м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нисходительстве, которое я через много лет за великое между моими благополучиями почита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(И.И.Шувалову, 1753г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Неоднократно писал я к его сиятельству и к вашему высакородию от истинного учердия к расширению наук в отечестве в Москву и на Украину  и представлял здесь словесно и письменно о исправлении застарелых непорядк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(Г.Н.Теплову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274840" cy="252108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187280" y="620640"/>
            <a:ext cx="7416360" cy="5686200"/>
            <a:chOff x="1187280" y="620640"/>
            <a:chExt cx="7416360" cy="5686200"/>
          </a:xfrm>
        </p:grpSpPr>
        <p:cxnSp>
          <p:nvCxnSpPr>
            <p:cNvPr id="187" name="_s282649"/>
            <p:cNvCxnSpPr>
              <a:stCxn id="188" idx="0"/>
              <a:endCxn id="189" idx="3"/>
            </p:cNvCxnSpPr>
            <p:nvPr/>
          </p:nvCxnSpPr>
          <p:spPr>
            <a:xfrm flipV="1" rot="16200000">
              <a:off x="5208840" y="2369880"/>
              <a:ext cx="1421280" cy="2186640"/>
            </a:xfrm>
            <a:prstGeom prst="bentConnector3">
              <a:avLst>
                <a:gd name="adj1" fmla="val 12490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190" name="_s282650"/>
            <p:cNvCxnSpPr>
              <a:stCxn id="191" idx="0"/>
              <a:endCxn id="189" idx="3"/>
            </p:cNvCxnSpPr>
            <p:nvPr/>
          </p:nvCxnSpPr>
          <p:spPr>
            <a:xfrm flipH="1" flipV="1" rot="5400000">
              <a:off x="3160800" y="2508120"/>
              <a:ext cx="1421280" cy="1910880"/>
            </a:xfrm>
            <a:prstGeom prst="bentConnector3">
              <a:avLst>
                <a:gd name="adj1" fmla="val 12490"/>
              </a:avLst>
            </a:prstGeom>
            <a:ln w="28440">
              <a:solidFill>
                <a:srgbClr val="ffb800"/>
              </a:solidFill>
              <a:miter/>
            </a:ln>
          </p:spPr>
        </p:cxnSp>
        <p:sp>
          <p:nvSpPr>
            <p:cNvPr id="189" name="_s282651"/>
            <p:cNvSpPr/>
            <p:nvPr/>
          </p:nvSpPr>
          <p:spPr>
            <a:xfrm>
              <a:off x="3235320" y="620640"/>
              <a:ext cx="3320280" cy="2132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ef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Содержа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личног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официальног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письма зависит о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82652"/>
            <p:cNvSpPr/>
            <p:nvPr/>
          </p:nvSpPr>
          <p:spPr>
            <a:xfrm>
              <a:off x="1187280" y="4174200"/>
              <a:ext cx="3320280" cy="2132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Comic Sans MS"/>
                </a:rPr>
                <a:t>Адресата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82653"/>
            <p:cNvSpPr/>
            <p:nvPr/>
          </p:nvSpPr>
          <p:spPr>
            <a:xfrm>
              <a:off x="5283360" y="4174200"/>
              <a:ext cx="3320280" cy="2132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Comic Sans MS"/>
                </a:rPr>
                <a:t>Цели письма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Сравните два письма А.Н.Толстого.Чем они отличаются друг от друга? К какому жанру можно отнести оба письм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Портрет А.Н. Толстого"/>
          <p:cNvPicPr/>
          <p:nvPr/>
        </p:nvPicPr>
        <p:blipFill>
          <a:blip r:embed="rId1"/>
          <a:stretch/>
        </p:blipFill>
        <p:spPr>
          <a:xfrm>
            <a:off x="179280" y="1628640"/>
            <a:ext cx="2232000" cy="2592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6920" y="1828440"/>
            <a:ext cx="75549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рогой Александр Львович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прочел вашу главу о сказке и нахожу, что это статья для журнала, но не глава для учебни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 сказке, да еще для молодежи, нужно                                    написать так, чтобы сказка предстала во все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е очаровании. Не нужно  исследований, не ну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цитат, не нужно оправданий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аш Алексей Толсто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важаемые товарищи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усский фольклор неизмеримо богаче, чем фольклор других народов. Но до сих пор у нас нет проработанного, классического текста былин, сказок и песен от древнейших    времен до наших дней. Наши дети вправе рассчитыва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 монументальный корпус прекрасных сказок своей родины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 тов. приветом Алексей Толсто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2:15:34Z</dcterms:created>
  <dc:creator>Олег</dc:creator>
  <dc:description/>
  <dc:language>en-US</dc:language>
  <cp:lastModifiedBy>Олег</cp:lastModifiedBy>
  <dcterms:modified xsi:type="dcterms:W3CDTF">2007-05-23T19:19:55Z</dcterms:modified>
  <cp:revision>5</cp:revision>
  <dc:subject/>
  <dc:title>Личное официальное  письмо</dc:title>
</cp:coreProperties>
</file>