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F2A2-3D3D-4497-A334-E2ECA9510B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4F1-9AAA-4FBB-B2AB-F4C4CE3B576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7FB-4459-4D4E-81BE-DFB1CF0F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9EC-A465-44AA-82C3-069B9996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AC4-2650-45AD-89E0-74E4D33B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FCE-8887-48C2-B8DE-1739BBF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BCCC-FB39-4046-8DFC-CAEAF02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40B-8CC2-4339-AE63-5D127C9D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ED8-6C58-4D80-BD59-576A0EE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C5D-97AB-4663-A2F0-DBD8A75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23C-6F88-4781-9A7F-636B07E3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C3DC-29E0-46EE-9AEA-820AD70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3991-1B55-423A-B586-694DF59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868-D22D-42BE-9A1F-D780FC6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7D98-E5B8-48FC-82D1-112680F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BD0-25B7-4020-9E61-7FFEBBF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032-5237-4826-9126-21A549CC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AFD3-E484-4CFC-A360-BB106FB2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D021-C528-4F67-BFB2-5598746E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E70-1DF8-44D7-8235-1E102CB8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394-FF72-477D-9F05-5C8A467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B04-BFC4-4BBF-8487-A86381F1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3BB-458C-4516-B944-89DA3106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08B-0314-4971-9A6B-23B897D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251-0D1A-492D-B593-1ED08CE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E68-B31E-40CE-8800-AEE6B39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952-C432-44C9-A349-B494B4860C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AC1B-4D2A-4A56-AC4E-03E2B0B98F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6" descr=""/>
          <p:cNvPicPr/>
          <p:nvPr/>
        </p:nvPicPr>
        <p:blipFill>
          <a:blip r:embed="rId1"/>
          <a:stretch/>
        </p:blipFill>
        <p:spPr>
          <a:xfrm>
            <a:off x="2816280" y="858960"/>
            <a:ext cx="3876480" cy="909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238880" y="5257440"/>
            <a:ext cx="1230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TextBox 5"/>
          <p:cNvGrpSpPr/>
          <p:nvPr/>
        </p:nvGrpSpPr>
        <p:grpSpPr>
          <a:xfrm>
            <a:off x="1401840" y="237960"/>
            <a:ext cx="5797440" cy="1322640"/>
            <a:chOff x="1401840" y="237960"/>
            <a:chExt cx="5797440" cy="1322640"/>
          </a:xfrm>
        </p:grpSpPr>
        <p:pic>
          <p:nvPicPr>
            <p:cNvPr id="161" name="TextBox 5" descr=""/>
            <p:cNvPicPr/>
            <p:nvPr/>
          </p:nvPicPr>
          <p:blipFill>
            <a:blip r:embed="rId2"/>
            <a:stretch/>
          </p:blipFill>
          <p:spPr>
            <a:xfrm>
              <a:off x="1401840" y="237960"/>
              <a:ext cx="579744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828800" y="457200"/>
              <a:ext cx="5257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omic Sans MS"/>
                </a:rPr>
                <a:t>ПРОФЕССИ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63" name="Рисунок 4" descr="c27c5437272f.png"/>
          <p:cNvPicPr/>
          <p:nvPr/>
        </p:nvPicPr>
        <p:blipFill>
          <a:blip r:embed="rId3"/>
          <a:stretch/>
        </p:blipFill>
        <p:spPr>
          <a:xfrm>
            <a:off x="-23760" y="1279440"/>
            <a:ext cx="2120760" cy="44625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iCAMC203M.jpg"/>
          <p:cNvPicPr/>
          <p:nvPr/>
        </p:nvPicPr>
        <p:blipFill>
          <a:blip r:embed="rId4"/>
          <a:stretch/>
        </p:blipFill>
        <p:spPr>
          <a:xfrm>
            <a:off x="1884240" y="4565520"/>
            <a:ext cx="962280" cy="21700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iCA7Z72AC.jpg"/>
          <p:cNvPicPr/>
          <p:nvPr/>
        </p:nvPicPr>
        <p:blipFill>
          <a:blip r:embed="rId5"/>
          <a:stretch/>
        </p:blipFill>
        <p:spPr>
          <a:xfrm>
            <a:off x="7693200" y="1206360"/>
            <a:ext cx="1206360" cy="4475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1" descr="i 55.jpg"/>
          <p:cNvPicPr/>
          <p:nvPr/>
        </p:nvPicPr>
        <p:blipFill>
          <a:blip r:embed="rId6"/>
          <a:stretch/>
        </p:blipFill>
        <p:spPr>
          <a:xfrm>
            <a:off x="6072120" y="4565520"/>
            <a:ext cx="957240" cy="217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2" descr="i 34.jpg"/>
          <p:cNvPicPr/>
          <p:nvPr/>
        </p:nvPicPr>
        <p:blipFill>
          <a:blip r:embed="rId7"/>
          <a:stretch/>
        </p:blipFill>
        <p:spPr>
          <a:xfrm>
            <a:off x="2048040" y="2206800"/>
            <a:ext cx="1792080" cy="4475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13228.jpg"/>
          <p:cNvPicPr/>
          <p:nvPr/>
        </p:nvPicPr>
        <p:blipFill>
          <a:blip r:embed="rId8"/>
          <a:stretch/>
        </p:blipFill>
        <p:spPr>
          <a:xfrm>
            <a:off x="5834160" y="1639800"/>
            <a:ext cx="1620720" cy="39258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4" descr="i 77.jpg"/>
          <p:cNvPicPr/>
          <p:nvPr/>
        </p:nvPicPr>
        <p:blipFill>
          <a:blip r:embed="rId9"/>
          <a:stretch/>
        </p:blipFill>
        <p:spPr>
          <a:xfrm>
            <a:off x="7693200" y="3852720"/>
            <a:ext cx="1334880" cy="47548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5" descr="i 66.jpg"/>
          <p:cNvPicPr/>
          <p:nvPr/>
        </p:nvPicPr>
        <p:blipFill>
          <a:blip r:embed="rId10"/>
          <a:stretch/>
        </p:blipFill>
        <p:spPr>
          <a:xfrm>
            <a:off x="189000" y="4425840"/>
            <a:ext cx="1762200" cy="4437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8" descr="врач.jpg"/>
          <p:cNvPicPr/>
          <p:nvPr/>
        </p:nvPicPr>
        <p:blipFill>
          <a:blip r:embed="rId11"/>
          <a:stretch/>
        </p:blipFill>
        <p:spPr>
          <a:xfrm>
            <a:off x="3906720" y="3706920"/>
            <a:ext cx="2116080" cy="54864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0" descr="BUTFLY1.gif"/>
          <p:cNvPicPr/>
          <p:nvPr/>
        </p:nvPicPr>
        <p:blipFill>
          <a:blip r:embed="rId12"/>
          <a:stretch/>
        </p:blipFill>
        <p:spPr>
          <a:xfrm rot="18026400">
            <a:off x="7757280" y="937080"/>
            <a:ext cx="461880" cy="4064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 0.04074 C -0.01962 0.04746 -0.02135 0.04954 -0.02569 0.05324 C -0.02535 0.07917 -0.02535 0.1051 -0.02465 0.13102 C -0.02448 0.13542 -0.02066 0.14607 -0.01944 0.14769 C -0.01736 0.15047 -0.01319 0.15602 -0.01319 0.15602 C -0.01076 0.16598 -0.01233 0.16181 -0.00903 0.16852 C -0.01163 0.18912 -0.01771 0.18079 -0.03611 0.17963 C -0.04271 0.17315 -0.05121 0.17061 -0.05903 0.16713 C -0.07691 0.16806 -0.09114 0.16783 -0.10798 0.17269 C -0.11354 0.17639 -0.11597 0.17662 -0.11944 0.18241 C -0.12309 0.18866 -0.12864 0.20209 -0.13298 0.20602 C -0.13524 0.21505 -0.13212 0.20625 -0.13715 0.21158 C -0.14062 0.21528 -0.14114 0.22385 -0.14444 0.22824 C -0.14896 0.23426 -0.15434 0.23774 -0.15903 0.24352 C -0.17309 0.26111 -0.18819 0.28241 -0.20694 0.29074 C -0.23021 0.28936 -0.25625 0.28565 -0.27778 0.2713 C -0.28316 0.2676 -0.2868 0.26111 -0.29236 0.25741 C -0.2967 0.24885 -0.30191 0.24676 -0.30903 0.24491 C -0.31771 0.24537 -0.32673 0.24468 -0.33507 0.2463 C -0.33628 0.24653 -0.33646 0.24908 -0.33715 0.25047 C -0.34062 0.25672 -0.34392 0.26019 -0.34861 0.26436 C -0.35139 0.27176 -0.35312 0.2757 -0.35903 0.27824 C -0.36233 0.28264 -0.36458 0.2838 -0.3684 0.28658 C -0.375 0.29144 -0.37552 0.29329 -0.3809 0.30047 C -0.38403 0.30463 -0.38715 0.30186 -0.39028 0.30463 C -0.39427 0.30811 -0.39739 0.30973 -0.40173 0.31158 C -0.40382 0.3125 -0.40798 0.31436 -0.40798 0.31436 C -0.42552 0.31204 -0.41614 0.31482 -0.42257 0.29908 C -0.42483 0.29352 -0.42934 0.29028 -0.43194 0.28519 C -0.43437 0.28056 -0.43733 0.27361 -0.43923 0.26852 C -0.44201 0.26111 -0.44167 0.2544 -0.44548 0.24769 C -0.44705 0.24144 -0.44861 0.23936 -0.45278 0.23519 C -0.45608 0.22662 -0.46701 0.21783 -0.47361 0.21297 C -0.47917 0.2088 -0.48437 0.20093 -0.49028 0.19769 C -0.4941 0.19537 -0.49878 0.19422 -0.50278 0.19213 C -0.5125 0.17917 -0.52448 0.17176 -0.53819 0.16991 C -0.5434 0.17037 -0.54878 0.16968 -0.55382 0.1713 C -0.55486 0.17176 -0.55434 0.17408 -0.55486 0.17547 C -0.55608 0.17848 -0.55903 0.1838 -0.55903 0.1838 C -0.56007 0.1919 -0.56215 0.2007 -0.56736 0.20602 C -0.56927 0.20811 -0.57205 0.20926 -0.57361 0.21158 C -0.57951 0.21945 -0.58524 0.22547 -0.5934 0.22824 C -0.60035 0.22778 -0.60746 0.22871 -0.61423 0.22686 C -0.61667 0.22616 -0.6184 0.22315 -0.62048 0.2213 C -0.62569 0.21667 -0.63229 0.21366 -0.63819 0.21158 C -0.64323 0.20486 -0.64983 0.20024 -0.6559 0.19491 C -0.65781 0.19121 -0.65816 0.18611 -0.66007 0.18241 C -0.66406 0.17454 -0.66788 0.1669 -0.67153 0.1588 C -0.67396 0.14607 -0.67048 0.15926 -0.67569 0.15047 C -0.67743 0.14769 -0.67726 0.14352 -0.67882 0.14074 C -0.68368 0.13218 -0.68194 0.13866 -0.68507 0.13102 C -0.68854 0.12246 -0.68993 0.11297 -0.69548 0.10741 C -0.69861 0.09699 -0.69965 0.08658 -0.7059 0.07824 C -0.70833 0.05533 -0.70451 0.08125 -0.71111 0.06019 C -0.71684 0.04167 -0.70712 0.06065 -0.71528 0.0463 C -0.71944 0.02986 -0.72239 0.02361 -0.73298 0.01297 C -0.7375 0.01343 -0.74219 0.01297 -0.74653 0.01436 C -0.75191 0.01621 -0.75191 0.03264 -0.75382 0.03797 C -0.75712 0.04653 -0.75989 0.05162 -0.76528 0.0588 C -0.76736 0.06158 -0.76805 0.06644 -0.77048 0.06852 C -0.77205 0.06991 -0.77864 0.07199 -0.7809 0.07269 C -0.78524 0.07084 -0.78767 0.06667 -0.79132 0.06297 C -0.79236 0.0588 -0.7934 0.05463 -0.79444 0.05047 C -0.79479 0.04908 -0.79548 0.0463 -0.79548 0.0463 C -0.79496 0.02894 -0.8 0.01459 -0.78923 0.00741 C -0.78889 0.00278 -0.78889 -0.00185 -0.78819 -0.00648 C -0.78785 -0.00926 -0.78611 -0.01481 -0.78611 -0.01481 E">
                                      <p:cBhvr>
                                        <p:cTn id="12" dur="15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«Путешествие в Страну Мастеров 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j0282747"/>
          <p:cNvPicPr/>
          <p:nvPr/>
        </p:nvPicPr>
        <p:blipFill>
          <a:blip r:embed="rId1"/>
          <a:stretch/>
        </p:blipFill>
        <p:spPr>
          <a:xfrm>
            <a:off x="539640" y="47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"/>
          <p:cNvPicPr/>
          <p:nvPr/>
        </p:nvPicPr>
        <p:blipFill>
          <a:blip r:embed="rId2"/>
          <a:srcRect l="13326" t="34944" r="14783" b="39373"/>
          <a:stretch/>
        </p:blipFill>
        <p:spPr>
          <a:xfrm>
            <a:off x="1660680" y="896760"/>
            <a:ext cx="6367320" cy="506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) Мы узнали о 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 Нам удалось выяснить, что 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) Оказывается 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) Самым интересным было 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) Мы сделали вывод, что 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СЕ РАБОТЫ ХОРОШИ!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ЫБИРАЙ НА ВКУС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j0284143"/>
          <p:cNvPicPr/>
          <p:nvPr/>
        </p:nvPicPr>
        <p:blipFill>
          <a:blip r:embed="rId1"/>
          <a:stretch/>
        </p:blipFill>
        <p:spPr>
          <a:xfrm>
            <a:off x="0" y="404640"/>
            <a:ext cx="1298520" cy="1952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284131"/>
          <p:cNvPicPr/>
          <p:nvPr/>
        </p:nvPicPr>
        <p:blipFill>
          <a:blip r:embed="rId2"/>
          <a:stretch/>
        </p:blipFill>
        <p:spPr>
          <a:xfrm>
            <a:off x="0" y="2714760"/>
            <a:ext cx="2786040" cy="2082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5256"/>
          <p:cNvPicPr/>
          <p:nvPr/>
        </p:nvPicPr>
        <p:blipFill>
          <a:blip r:embed="rId3"/>
          <a:stretch/>
        </p:blipFill>
        <p:spPr>
          <a:xfrm>
            <a:off x="1835280" y="4005360"/>
            <a:ext cx="3022560" cy="2495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j0286717"/>
          <p:cNvPicPr/>
          <p:nvPr/>
        </p:nvPicPr>
        <p:blipFill>
          <a:blip r:embed="rId4"/>
          <a:stretch/>
        </p:blipFill>
        <p:spPr>
          <a:xfrm>
            <a:off x="3143160" y="1785960"/>
            <a:ext cx="2293920" cy="2219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j0288852"/>
          <p:cNvPicPr/>
          <p:nvPr/>
        </p:nvPicPr>
        <p:blipFill>
          <a:blip r:embed="rId5"/>
          <a:stretch/>
        </p:blipFill>
        <p:spPr>
          <a:xfrm>
            <a:off x="5786280" y="5373720"/>
            <a:ext cx="2365560" cy="134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j0295184"/>
          <p:cNvPicPr/>
          <p:nvPr/>
        </p:nvPicPr>
        <p:blipFill>
          <a:blip r:embed="rId6"/>
          <a:stretch/>
        </p:blipFill>
        <p:spPr>
          <a:xfrm>
            <a:off x="6227640" y="1125360"/>
            <a:ext cx="2059200" cy="1589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j0295183"/>
          <p:cNvPicPr/>
          <p:nvPr/>
        </p:nvPicPr>
        <p:blipFill>
          <a:blip r:embed="rId7"/>
          <a:stretch/>
        </p:blipFill>
        <p:spPr>
          <a:xfrm>
            <a:off x="5572080" y="3000240"/>
            <a:ext cx="2928960" cy="19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4:38Z</dcterms:created>
  <dc:creator>User</dc:creator>
  <dc:description/>
  <dc:language>en-US</dc:language>
  <cp:lastModifiedBy>Каб №6</cp:lastModifiedBy>
  <dcterms:modified xsi:type="dcterms:W3CDTF">2012-02-28T08:39:20Z</dcterms:modified>
  <cp:revision>28</cp:revision>
  <dc:subject/>
  <dc:title>«…Все работы хороши,  выбирай на вкус ! »</dc:title>
</cp:coreProperties>
</file>