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gif" ContentType="image/gif"/>
  <Override PartName="/ppt/media/image12.gif" ContentType="image/gif"/>
  <Override PartName="/ppt/media/image7.gif" ContentType="image/gif"/>
  <Override PartName="/ppt/media/image11.gif" ContentType="image/gif"/>
  <Override PartName="/ppt/media/image17.gif" ContentType="image/gif"/>
  <Override PartName="/ppt/media/image3.png" ContentType="image/png"/>
  <Override PartName="/ppt/media/image16.gif" ContentType="image/gif"/>
  <Override PartName="/ppt/media/image15.gif" ContentType="image/gif"/>
  <Override PartName="/ppt/media/image1.png" ContentType="image/png"/>
  <Override PartName="/ppt/media/image14.gif" ContentType="image/gif"/>
  <Override PartName="/ppt/media/image2.png" ContentType="image/png"/>
  <Override PartName="/ppt/media/image4.jpeg" ContentType="image/jpeg"/>
  <Override PartName="/ppt/media/image8.gif" ContentType="image/gif"/>
  <Override PartName="/ppt/media/image13.gif" ContentType="image/gif"/>
  <Override PartName="/ppt/media/image5.gif" ContentType="image/gif"/>
  <Override PartName="/ppt/media/image10.gif" ContentType="image/gif"/>
  <Override PartName="/ppt/media/image6.gif" ContentType="image/gif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comments/comment1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Игорь" initials="И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<Relationship Id="rId23" Type="http://schemas.openxmlformats.org/officeDocument/2006/relationships/commentAuthors" Target="commentAuthors.xml"/>
</Relationships>
</file>

<file path=ppt/comments/comment14.xml><?xml version="1.0" encoding="utf-8"?>
<p:cmLst xmlns:p="http://schemas.openxmlformats.org/presentationml/2006/main">
  <p:cm authorId="0" dt="2008-11-04T13:53:58.156000000" idx="1">
    <p:pos x="10" y="10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B1E4-BD47-4A7B-9E40-226075953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0F25-4363-49D9-B8A8-112D0D2A3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6F4C-93C0-4219-B0DE-0FAD5BA10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Trebuchet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4686-7DDC-4558-8323-B2CE74088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1777A-EA6D-458A-8BFA-3B22A669C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Trebuchet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734FA-E1F3-4B13-A424-2B4D3E94D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00DE5-A2FC-495F-AA75-4C79D1784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70A89-F107-4E7E-B013-5AAC3C5E6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75EF8-4A4C-496D-AE9F-C177730CF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981D7-F4E5-4953-8056-7E5590703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BF061-DB19-4E6D-A340-A24777E2F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0984-CE5C-442C-B71B-F52FBAA88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E46FD-3397-408C-A1C3-EB4B8C12E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E2600-D78E-4683-B1AB-1B7193111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0D4D8-BF93-43A2-B3D3-933104B5B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C8F8C-3AAB-45BC-ABBA-E7090C9C6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B49D6-4C19-4DC2-946B-E74277B28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6E3F87-5C3F-42A7-A581-DB3899B2D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D08E6A-1255-492A-8B95-F028D018D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3ADF8C-1DED-47DD-8929-9DF5464E4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Trebuchet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9033FC-3D7B-4F88-82F6-580041EF2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9CA6B2-F419-4BE7-8B62-AAA661534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32E8-DB0A-4869-9F97-D94BE9800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1D8898-4454-499B-8BCC-EECCC1A85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Trebuchet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94458A-1028-4BAE-99DB-833E3AF36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23DFE3-8759-492C-8B6B-3AD62C68D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Trebuchet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557ED1-C993-4B8C-B334-45DEDDAD6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Trebuchet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9966B7-B292-4303-B1B6-F1FE43375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Trebuchet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FABF1C-CCC6-4FBB-830C-3B751FB86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924CDC-7299-480A-95AC-70557DA33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C1C8EF-5699-4C20-AB0D-9D6ED1459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9E2200-BC9F-4BD4-A286-6ABCE28F0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5D9DA1-80CE-497A-84DB-40E7D0C3F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2142-5E5F-419F-9792-C4501F4CC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C7F3DE-7E32-40FB-9FA5-AC79A4CFB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90049E-2BE4-4BA5-BBE6-37F40DAC7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47C370-8E3E-4D65-8F89-B2C6C8086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803927-C75B-4EFD-B89E-4D207A95A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Trebuchet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23CA82-89DF-4F92-BC2C-07A9A31AE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5C2FEB-35F1-481B-A86A-83F185AA2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8E3A95-35A9-448D-BD9A-72B30F052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Trebuchet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1E0704-D2A7-4658-A9C9-0B2D19D3C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9AE389-3515-4EC3-8F4B-C1CE0BA1B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0681E5-A9B6-45EB-B4CE-D12547DF5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B8AE-4BC0-4CB6-9CDE-4DC9162C2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BB8D2C-9AD0-457D-A9CC-409E5A788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525B8F-D453-491F-A0D7-A67757F0B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94EA46-80E5-4DF8-A09B-1FDCC158A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7025C8-06D5-4B8B-BDD9-7D9AF4295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AD7291-AF94-4C0D-BAC7-277D5BA02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1B3020-E3BE-4119-938B-F61EC0D31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2082D2-72DC-49DF-8D58-9723BD26B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443CBD-BC7E-4D2B-AFCE-10AD2DE06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D0DACF-071F-4F32-A6BC-D830565F6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EA05FD-06C9-424D-A0C9-59647DDA5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2962-C2FB-4CAD-848C-0C731BE49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5D3168-BF7B-48B1-A24F-B85320958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79C9-2F36-4BAB-960A-22EB0214C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2EFC-83B2-423C-AC7E-EE74D7FB6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0888-E494-46DF-8F4B-53890C443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Trebuchet MS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Trebuchet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744D1-0EFA-4DA1-B5F3-EEA6F3221158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Trebuchet MS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Trebuchet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55D12-B691-49C2-BAB7-81E0EE35B649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Trebuchet MS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6862A-BEED-4DFC-BF30-39E708F97492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Trebuchet MS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02E7A-D766-4B5A-8348-B77547C83B90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Trebuchet MS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AECB8-1FBA-44CC-A571-495F1942967C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3280" y="5454360"/>
            <a:ext cx="8183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ff8d3e"/>
              </a:solidFill>
              <a:latin typeface="Trebuchet MS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85800" y="428760"/>
            <a:ext cx="7772400" cy="55720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Georgia"/>
            </a:endParaRPr>
          </a:p>
          <a:p>
            <a:pPr marL="264960" indent="-26496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Georgia"/>
            </a:endParaRPr>
          </a:p>
          <a:p>
            <a:pPr marL="264960" indent="-26496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Georgia"/>
            </a:endParaRPr>
          </a:p>
          <a:p>
            <a:pPr marL="264960" indent="-26496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100" spc="-1" strike="noStrike">
                <a:solidFill>
                  <a:srgbClr val="771f28"/>
                </a:solidFill>
                <a:latin typeface="Georgia"/>
              </a:rPr>
              <a:t>Перспективные </a:t>
            </a:r>
            <a:endParaRPr b="0" lang="en-US" sz="4100" spc="-1" strike="noStrike">
              <a:solidFill>
                <a:srgbClr val="000000"/>
              </a:solidFill>
              <a:latin typeface="Georgia"/>
            </a:endParaRPr>
          </a:p>
          <a:p>
            <a:pPr marL="264960" indent="-26496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100" spc="-1" strike="noStrike">
                <a:solidFill>
                  <a:srgbClr val="771f28"/>
                </a:solidFill>
                <a:latin typeface="Georgia"/>
              </a:rPr>
              <a:t>школьные</a:t>
            </a:r>
            <a:endParaRPr b="0" lang="en-US" sz="4100" spc="-1" strike="noStrike">
              <a:solidFill>
                <a:srgbClr val="000000"/>
              </a:solidFill>
              <a:latin typeface="Georgia"/>
            </a:endParaRPr>
          </a:p>
          <a:p>
            <a:pPr marL="264960" indent="-26496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100" spc="-1" strike="noStrike">
                <a:solidFill>
                  <a:srgbClr val="771f28"/>
                </a:solidFill>
                <a:latin typeface="Georgia"/>
              </a:rPr>
              <a:t> </a:t>
            </a:r>
            <a:r>
              <a:rPr b="1" i="1" lang="ru-RU" sz="4100" spc="-1" strike="noStrike">
                <a:solidFill>
                  <a:srgbClr val="771f28"/>
                </a:solidFill>
                <a:latin typeface="Georgia"/>
              </a:rPr>
              <a:t>технологии-важнейшее  условие эффективности учебно-воспитательного процесса.</a:t>
            </a:r>
            <a:endParaRPr b="0" lang="en-US" sz="4100" spc="-1" strike="noStrike">
              <a:solidFill>
                <a:srgbClr val="000000"/>
              </a:solidFill>
              <a:latin typeface="Georgi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2" name="Picture 10" descr="D:\Documents and Settings\игорек\Рабочий стол\Школа\center.jpg"/>
          <p:cNvPicPr/>
          <p:nvPr/>
        </p:nvPicPr>
        <p:blipFill>
          <a:blip r:embed="rId1"/>
          <a:stretch/>
        </p:blipFill>
        <p:spPr>
          <a:xfrm>
            <a:off x="428760" y="357120"/>
            <a:ext cx="8286480" cy="157176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03280" y="213840"/>
            <a:ext cx="818352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771f28"/>
                </a:solidFill>
                <a:latin typeface="Trebuchet MS"/>
              </a:rPr>
              <a:t>      </a:t>
            </a:r>
            <a:r>
              <a:rPr b="1" i="1" lang="ru-RU" sz="2900" spc="-1" strike="noStrike">
                <a:solidFill>
                  <a:srgbClr val="771f28"/>
                </a:solidFill>
                <a:latin typeface="Trebuchet MS"/>
              </a:rPr>
              <a:t>Технологии разноуровневого </a:t>
            </a:r>
            <a:br>
              <a:rPr sz="2900"/>
            </a:br>
            <a:r>
              <a:rPr b="1" i="1" lang="ru-RU" sz="2900" spc="-1" strike="noStrike">
                <a:solidFill>
                  <a:srgbClr val="771f28"/>
                </a:solidFill>
                <a:latin typeface="Trebuchet MS"/>
              </a:rPr>
              <a:t>обучения.</a:t>
            </a:r>
            <a:br>
              <a:rPr sz="2900"/>
            </a:br>
            <a:r>
              <a:rPr b="1" i="1" lang="ru-RU" sz="2900" spc="-1" strike="noStrike">
                <a:solidFill>
                  <a:srgbClr val="771f28"/>
                </a:solidFill>
                <a:latin typeface="Trebuchet MS"/>
              </a:rPr>
              <a:t>                 (К.К. Платонов)</a:t>
            </a:r>
            <a:endParaRPr b="1" lang="en-US" sz="2900" spc="-1" strike="noStrike">
              <a:solidFill>
                <a:srgbClr val="ff8d3e"/>
              </a:solidFill>
              <a:latin typeface="Trebuchet MS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685800" y="1714680"/>
            <a:ext cx="7848720" cy="49147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48365a"/>
                </a:solidFill>
                <a:uFillTx/>
                <a:latin typeface="Georgia"/>
              </a:rPr>
              <a:t>Установка</a:t>
            </a:r>
            <a:r>
              <a:rPr b="0" lang="ru-RU" sz="2400" spc="-1" strike="noStrike">
                <a:solidFill>
                  <a:srgbClr val="48365a"/>
                </a:solidFill>
                <a:latin typeface="Georgia"/>
              </a:rPr>
              <a:t>: распределение класса по уровню обучаемости, определение темпа обучения, необходимого для каждого уровня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365a"/>
                </a:solidFill>
                <a:latin typeface="Georgia"/>
              </a:rPr>
              <a:t>	</a:t>
            </a:r>
            <a:r>
              <a:rPr b="0" lang="ru-RU" sz="2400" spc="-1" strike="noStrike">
                <a:solidFill>
                  <a:srgbClr val="48365a"/>
                </a:solidFill>
                <a:latin typeface="Georgia"/>
              </a:rPr>
              <a:t>Школа с уровневой дифференциацией  функционирует путем деления ученических потоков на подвижные и относительно гомогенные по составу группы, каждая из которых овладевает программным материалом в разных образовательных областях на следующих уровнях: 1- минимальном (государственный стандарт), 2- базовом, 3- вариативном ( творческом)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365a"/>
                </a:solidFill>
                <a:latin typeface="Georgia"/>
              </a:rPr>
              <a:t>	</a:t>
            </a:r>
            <a:r>
              <a:rPr b="0" i="1" lang="ru-RU" sz="2400" spc="-1" strike="noStrike">
                <a:solidFill>
                  <a:srgbClr val="48365a"/>
                </a:solidFill>
                <a:latin typeface="Georgia"/>
              </a:rPr>
              <a:t>В дальнейшем эта технология получила название          « технология обучения базису без отстающих»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61" name="Picture 4" descr="D:\Documents and Settings\игорек\Рабочий стол\Школа\78756399111dbcdbfcf00793dbe37981.gif"/>
          <p:cNvPicPr/>
          <p:nvPr/>
        </p:nvPicPr>
        <p:blipFill>
          <a:blip r:embed="rId1"/>
          <a:stretch/>
        </p:blipFill>
        <p:spPr>
          <a:xfrm>
            <a:off x="428760" y="285840"/>
            <a:ext cx="2714400" cy="150012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4" dur="20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7" dur="2000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0" dur="2000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56760" y="533160"/>
            <a:ext cx="83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48365a"/>
                </a:solidFill>
                <a:latin typeface="Trebuchet MS"/>
              </a:rPr>
              <a:t> </a:t>
            </a:r>
            <a:r>
              <a:rPr b="1" i="1" lang="ru-RU" sz="2900" spc="-1" strike="noStrike">
                <a:solidFill>
                  <a:srgbClr val="48365a"/>
                </a:solidFill>
                <a:latin typeface="Trebuchet MS"/>
              </a:rPr>
              <a:t>Технология коллективного взаимообучения</a:t>
            </a:r>
            <a:br>
              <a:rPr sz="2900"/>
            </a:br>
            <a:r>
              <a:rPr b="1" i="1" lang="ru-RU" sz="2900" spc="-1" strike="noStrike">
                <a:solidFill>
                  <a:srgbClr val="48365a"/>
                </a:solidFill>
                <a:latin typeface="Trebuchet MS"/>
              </a:rPr>
              <a:t>(А.Г. Ривин</a:t>
            </a:r>
            <a:r>
              <a:rPr b="1" i="1" lang="ru-RU" sz="2900" spc="-1" strike="noStrike">
                <a:solidFill>
                  <a:srgbClr val="000000"/>
                </a:solidFill>
                <a:latin typeface="Trebuchet MS"/>
              </a:rPr>
              <a:t>)</a:t>
            </a:r>
            <a:endParaRPr b="1" lang="en-US" sz="2900" spc="-1" strike="noStrike">
              <a:solidFill>
                <a:srgbClr val="ff8d3e"/>
              </a:solidFill>
              <a:latin typeface="Trebuchet MS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503280" y="1642680"/>
            <a:ext cx="8183520" cy="41432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88000"/>
          </a:bodyPr>
          <a:p>
            <a:pPr marL="232920" indent="-23292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8365a"/>
                </a:solidFill>
                <a:latin typeface="Georgia"/>
              </a:rPr>
              <a:t>Установка:</a:t>
            </a:r>
            <a:r>
              <a:rPr b="0" lang="ru-RU" sz="2000" spc="-1" strike="noStrike">
                <a:solidFill>
                  <a:srgbClr val="48365a"/>
                </a:solidFill>
                <a:latin typeface="Georgia"/>
              </a:rPr>
              <a:t>  работа в парах смешанного состава по определенным правилам позволяет плодотворно развивать у обучающихся  самостоятельность и коммуникативные умения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32920" indent="-23292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8365a"/>
                </a:solidFill>
                <a:latin typeface="Georgia"/>
              </a:rPr>
              <a:t>Основные преимущества ТКВ</a:t>
            </a:r>
            <a:r>
              <a:rPr b="0" lang="ru-RU" sz="2000" spc="-1" strike="noStrike">
                <a:solidFill>
                  <a:srgbClr val="48365a"/>
                </a:solidFill>
                <a:latin typeface="Georgi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32920" indent="-23292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8365a"/>
                </a:solidFill>
                <a:latin typeface="Georgia"/>
              </a:rPr>
              <a:t>     </a:t>
            </a:r>
            <a:r>
              <a:rPr b="0" lang="ru-RU" sz="2000" spc="-1" strike="noStrike">
                <a:solidFill>
                  <a:srgbClr val="48365a"/>
                </a:solidFill>
                <a:latin typeface="Georgia"/>
              </a:rPr>
              <a:t>-  в результате регулярно повторяющихся упражнений совершенствуются навыки логического мышления и понимания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32920" indent="-23292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8365a"/>
                </a:solidFill>
                <a:latin typeface="Georgia"/>
              </a:rPr>
              <a:t>     </a:t>
            </a:r>
            <a:r>
              <a:rPr b="0" lang="ru-RU" sz="2000" spc="-1" strike="noStrike">
                <a:solidFill>
                  <a:srgbClr val="48365a"/>
                </a:solidFill>
                <a:latin typeface="Georgia"/>
              </a:rPr>
              <a:t>-   в процессе речи развиваются навыки мыследеятельности,  включается работа памяти, идет мобилизация и актуализация предшествующего опыта знаний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32920" indent="-23292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8365a"/>
                </a:solidFill>
                <a:latin typeface="Georgia"/>
              </a:rPr>
              <a:t>    </a:t>
            </a:r>
            <a:r>
              <a:rPr b="0" lang="ru-RU" sz="2000" spc="-1" strike="noStrike">
                <a:solidFill>
                  <a:srgbClr val="48365a"/>
                </a:solidFill>
                <a:latin typeface="Georgia"/>
              </a:rPr>
              <a:t>-  каждый чувствует себя раскованно, работает в индивидуальном темпе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32920" indent="-23292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8365a"/>
                </a:solidFill>
                <a:latin typeface="Georgia"/>
              </a:rPr>
              <a:t>    </a:t>
            </a:r>
            <a:r>
              <a:rPr b="0" lang="ru-RU" sz="2000" spc="-1" strike="noStrike">
                <a:solidFill>
                  <a:srgbClr val="48365a"/>
                </a:solidFill>
                <a:latin typeface="Georgia"/>
              </a:rPr>
              <a:t>-  повышается ответственность не только за свои успехи, но и за  результаты коллективного труда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32920" indent="-23292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8365a"/>
                </a:solidFill>
                <a:latin typeface="Georgia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32920" indent="-23292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64" name="Picture 4" descr="D:\Documents and Settings\игорек\Рабочий стол\Школа\anmated_doll_00039.gif"/>
          <p:cNvPicPr/>
          <p:nvPr/>
        </p:nvPicPr>
        <p:blipFill>
          <a:blip r:embed="rId1"/>
          <a:stretch/>
        </p:blipFill>
        <p:spPr>
          <a:xfrm>
            <a:off x="428760" y="142920"/>
            <a:ext cx="3071520" cy="164304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7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2" dur="20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5" dur="2000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8" dur="2000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1" dur="2000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4" dur="2000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7" dur="2000"/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0" dur="2000"/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03280" y="356760"/>
            <a:ext cx="818352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r>
              <a:rPr b="1" i="1" lang="ru-RU" sz="3200" spc="-1" strike="noStrike">
                <a:solidFill>
                  <a:srgbClr val="771f28"/>
                </a:solidFill>
                <a:latin typeface="Trebuchet MS"/>
              </a:rPr>
              <a:t>Парную работу можно использовать в трех видах:</a:t>
            </a:r>
            <a:br>
              <a:rPr sz="2900"/>
            </a:br>
            <a:endParaRPr b="1" lang="en-US" sz="3200" spc="-1" strike="noStrike">
              <a:solidFill>
                <a:srgbClr val="ff8d3e"/>
              </a:solidFill>
              <a:latin typeface="Trebuchet MS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502920" y="2214720"/>
            <a:ext cx="8069400" cy="39290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5000"/>
          </a:bodyPr>
          <a:p>
            <a:pPr marL="251640" indent="-25164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Georgia"/>
              </a:rPr>
              <a:t>пара, которая объединяет по желанию двух учеников, меняющих ролями («учитель» - «ученик»); так могут заниматься два слабых ученика, два сильных, сильный и слабый при условии взаимного расположения;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51640" indent="-25164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Georgia"/>
              </a:rPr>
              <a:t>     </a:t>
            </a:r>
            <a:r>
              <a:rPr b="0" i="1" lang="ru-RU" sz="1800" spc="-1" strike="noStrike">
                <a:solidFill>
                  <a:srgbClr val="000000"/>
                </a:solidFill>
                <a:latin typeface="Georgia"/>
              </a:rPr>
              <a:t>динамическая пара: четверо учащихся готовят одно задание, но  имеющее четыре части; после подготовки своей части задания и самоконтроля школьник обсуждает задание трижды (с каждым партнером), причем каждый раз ему необходимо менять логику изложения, акценты и т.п., т.е. включать механизм  адаптации к индивидуальным особенностям товарища;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51640" indent="-25164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Georgia"/>
              </a:rPr>
              <a:t>      </a:t>
            </a:r>
            <a:r>
              <a:rPr b="0" i="1" lang="ru-RU" sz="1800" spc="-1" strike="noStrike">
                <a:solidFill>
                  <a:srgbClr val="000000"/>
                </a:solidFill>
                <a:latin typeface="Georgia"/>
              </a:rPr>
              <a:t>вариационная пара, в которой каждый член группы получает свое задание, выполняет его, анализирует вместе с учителем, проводит взаимообучения по схеме с остальными тремя товарищами, в результате каждый усваивает четыре порции учебного содержания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51640" indent="-25164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67" name="Picture 4" descr="D:\Documents and Settings\игорек\Рабочий стол\Школа\f270704a64d27d4c6b654f58f188359a.gif"/>
          <p:cNvPicPr/>
          <p:nvPr/>
        </p:nvPicPr>
        <p:blipFill>
          <a:blip r:embed="rId1"/>
          <a:stretch/>
        </p:blipFill>
        <p:spPr>
          <a:xfrm>
            <a:off x="357120" y="857160"/>
            <a:ext cx="3071880" cy="142884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7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2" dur="20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5" dur="200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8" dur="2000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771f28"/>
                </a:solidFill>
                <a:uFillTx/>
                <a:latin typeface="Trebuchet MS"/>
              </a:rPr>
              <a:t>Справка:</a:t>
            </a:r>
            <a:br>
              <a:rPr sz="3600"/>
            </a:br>
            <a:r>
              <a:rPr b="1" lang="ru-RU" sz="2900" spc="-1" strike="noStrike">
                <a:solidFill>
                  <a:srgbClr val="000000"/>
                </a:solidFill>
                <a:latin typeface="Trebuchet MS"/>
              </a:rPr>
              <a:t> </a:t>
            </a:r>
            <a:br>
              <a:rPr sz="2900"/>
            </a:br>
            <a:r>
              <a:rPr b="1" lang="ru-RU" sz="2900" spc="-1" strike="noStrike">
                <a:solidFill>
                  <a:srgbClr val="000000"/>
                </a:solidFill>
                <a:latin typeface="Trebuchet MS"/>
              </a:rPr>
              <a:t>      Современная психология утверждает: эффективность  произвольной памяти старшего школьника может быть оценена такими критериями: 10%- читает глазами, 26% - слышит, 30% видит, 50% видит и слышит, 70%- обсуждает, 80% опирается на опыт, 90% - говорит и делает совместно, 95% - обучает других.</a:t>
            </a:r>
            <a:br>
              <a:rPr sz="2900"/>
            </a:br>
            <a:r>
              <a:rPr b="1" lang="ru-RU" sz="2900" spc="-1" strike="noStrike">
                <a:solidFill>
                  <a:srgbClr val="000000"/>
                </a:solidFill>
                <a:latin typeface="Trebuchet MS"/>
              </a:rPr>
              <a:t> </a:t>
            </a:r>
            <a:br>
              <a:rPr sz="2900"/>
            </a:br>
            <a:endParaRPr b="1" lang="en-US" sz="2900" spc="-1" strike="noStrike">
              <a:solidFill>
                <a:srgbClr val="ff8d3e"/>
              </a:solidFill>
              <a:latin typeface="Trebuchet MS"/>
            </a:endParaRPr>
          </a:p>
        </p:txBody>
      </p:sp>
      <p:pic>
        <p:nvPicPr>
          <p:cNvPr id="269" name="Picture 3" descr="D:\Documents and Settings\игорек\Рабочий стол\Школа\191.gif"/>
          <p:cNvPicPr/>
          <p:nvPr/>
        </p:nvPicPr>
        <p:blipFill>
          <a:blip r:embed="rId1"/>
          <a:stretch/>
        </p:blipFill>
        <p:spPr>
          <a:xfrm>
            <a:off x="428760" y="428760"/>
            <a:ext cx="3071520" cy="192852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5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3280" y="428400"/>
            <a:ext cx="81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1" i="1" lang="ru-RU" sz="3200" spc="-1" strike="noStrike">
                <a:solidFill>
                  <a:srgbClr val="771f28"/>
                </a:solidFill>
                <a:latin typeface="Trebuchet MS"/>
              </a:rPr>
              <a:t>Технологии развивающего обучения</a:t>
            </a:r>
            <a:br>
              <a:rPr sz="3200"/>
            </a:br>
            <a:endParaRPr b="1" lang="en-US" sz="3200" spc="-1" strike="noStrike">
              <a:solidFill>
                <a:srgbClr val="ff8d3e"/>
              </a:solidFill>
              <a:latin typeface="Trebuchet MS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-360" y="1214280"/>
            <a:ext cx="8839080" cy="59486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8000"/>
          </a:bodyPr>
          <a:p>
            <a:pPr marL="259560" indent="-2595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   </a:t>
            </a: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Технология интенсивного обучения с помощью опор и опорных схем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(В.Ф.Шаталов) имеет исключительное значение для слабых учащихся, вселяет в них уверенность: Я – могу, я  - способен, я- не хуже других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59560" indent="-2595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      </a:t>
            </a: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Игровые технологии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совершенствуются целеполагающая свобода выбора , самостоятельность ( я – выбираю, я – управляю, я- принимаю решение), ответственность , формируется нравственная мотивация. Эта  технология имитирует реальную деятельность, в том числе производственную и социальную, помогает вписать учебный процесс в контекст реальной жизнедеятельности учащихся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59560" indent="-2595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      </a:t>
            </a: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Проблемные, поисковые, исследовательские технологии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формируют творческие способности ребенка (Я- творю, Я – выдумываю, Я – пробую), девиз этих технологий-«Все из жизни , все для жизни»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59560" indent="-2595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      </a:t>
            </a: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Информационные технологии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обеспечивают осмысление  процесса учения, перенесение центра тяжести с преподавания на учение, самообразование с помощью специальных программ.Эти технологии связаны с созданием и использованием педагогических программных средств(обучающие, контролирующие программы),использование ресурсов интернет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59560" indent="-2595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      </a:t>
            </a: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Альтернативные педагогические технологии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– дают ребенку широкие возможности свободы выбора, обеспечивают наилучшие условия для развития нравственно – волевой  мотивации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59560" indent="-2595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      </a:t>
            </a: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Тестовые технологии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-стандартизированные задания, по результатам выполнения которых судят о знаниях, умениях и навыках испытуемого. Чаще  всего тестирование является одним из методов контроля усвоения учащимися знаний, умений и навыков(объективность результатов, легкая обработка результатов, развитие логического мышления и внимания)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59560" indent="-2595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59560" indent="-2595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72" name="Picture 7" descr="D:\Documents and Settings\игорек\Рабочий стол\Школа\b_book.gif"/>
          <p:cNvPicPr/>
          <p:nvPr/>
        </p:nvPicPr>
        <p:blipFill>
          <a:blip r:embed="rId1"/>
          <a:stretch/>
        </p:blipFill>
        <p:spPr>
          <a:xfrm>
            <a:off x="357120" y="428760"/>
            <a:ext cx="571680" cy="78552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2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7" dur="20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0" dur="2000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3" dur="2000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6" dur="2000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9" dur="2000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2" dur="2000"/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5" dur="2000"/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3280" y="428760"/>
            <a:ext cx="818352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71f28"/>
                </a:solidFill>
                <a:latin typeface="Trebuchet MS"/>
              </a:rPr>
              <a:t>        </a:t>
            </a:r>
            <a:r>
              <a:rPr b="1" lang="ru-RU" sz="3600" spc="-1" strike="noStrike">
                <a:solidFill>
                  <a:srgbClr val="771f28"/>
                </a:solidFill>
                <a:latin typeface="Trebuchet MS"/>
              </a:rPr>
              <a:t>Технология </a:t>
            </a:r>
            <a:br>
              <a:rPr sz="3600"/>
            </a:br>
            <a:r>
              <a:rPr b="1" lang="ru-RU" sz="3600" spc="-1" strike="noStrike">
                <a:solidFill>
                  <a:srgbClr val="771f28"/>
                </a:solidFill>
                <a:latin typeface="Trebuchet MS"/>
              </a:rPr>
              <a:t>обучения успехом:</a:t>
            </a:r>
            <a:endParaRPr b="1" lang="en-US" sz="3600" spc="-1" strike="noStrike">
              <a:solidFill>
                <a:srgbClr val="ff8d3e"/>
              </a:solidFill>
              <a:latin typeface="Trebuchet MS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503280" y="1357200"/>
            <a:ext cx="8183520" cy="48578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48365a"/>
                </a:solidFill>
                <a:uFillTx/>
                <a:latin typeface="Georgia"/>
              </a:rPr>
              <a:t>Создание ситуации успеха на уроке</a:t>
            </a:r>
            <a:r>
              <a:rPr b="0" i="1" lang="ru-RU" sz="2400" spc="-1" strike="noStrike">
                <a:solidFill>
                  <a:srgbClr val="48365a"/>
                </a:solidFill>
                <a:latin typeface="Georgi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48365a"/>
                </a:solidFill>
                <a:latin typeface="Georgia"/>
              </a:rPr>
              <a:t>-атмосфера доброжелательности в классе на протяжении всего урока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48365a"/>
                </a:solidFill>
                <a:latin typeface="Georgia"/>
              </a:rPr>
              <a:t>-аванс успеха, снятие стрессовой ситуации, придание уверенности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48365a"/>
                </a:solidFill>
                <a:latin typeface="Georgia"/>
              </a:rPr>
              <a:t>-высокая мотивация предлагаемых действий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48365a"/>
                </a:solidFill>
                <a:latin typeface="Georgia"/>
              </a:rPr>
              <a:t>-реальная помощь в продвижении к успеху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48365a"/>
                </a:solidFill>
                <a:latin typeface="Georgia"/>
              </a:rPr>
              <a:t>-педагогическое внушение успешности обучения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48365a"/>
                </a:solidFill>
                <a:latin typeface="Georgia"/>
              </a:rPr>
              <a:t>-педагогическая поддержка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48365a"/>
                </a:solidFill>
                <a:latin typeface="Georgia"/>
              </a:rPr>
              <a:t>-оценивание(сравнивать ученика с самим собой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48365a"/>
                </a:solidFill>
                <a:latin typeface="Georgia"/>
              </a:rPr>
              <a:t>-самооценка ребенка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75" name="Picture 4" descr="D:\Documents and Settings\игорек\Рабочий стол\Школа\anmated_doll_0002.gif"/>
          <p:cNvPicPr/>
          <p:nvPr/>
        </p:nvPicPr>
        <p:blipFill>
          <a:blip r:embed="rId1"/>
          <a:stretch/>
        </p:blipFill>
        <p:spPr>
          <a:xfrm>
            <a:off x="142920" y="0"/>
            <a:ext cx="2214360" cy="207180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2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7" dur="2000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0" dur="2000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3" dur="2000"/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6" dur="2000"/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9" dur="2000"/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2" dur="2000"/>
                                        <p:tgtEl>
                                          <p:spTgt spid="2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5" dur="2000"/>
                                        <p:tgtEl>
                                          <p:spTgt spid="2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8" dur="2000"/>
                                        <p:tgtEl>
                                          <p:spTgt spid="2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1" dur="2000"/>
                                        <p:tgtEl>
                                          <p:spTgt spid="2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03280" y="285840"/>
            <a:ext cx="81835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9b268"/>
                </a:solidFill>
                <a:latin typeface="Trebuchet MS"/>
              </a:rPr>
              <a:t>         </a:t>
            </a:r>
            <a:r>
              <a:rPr b="1" lang="ru-RU" sz="3600" spc="-1" strike="noStrike">
                <a:solidFill>
                  <a:srgbClr val="f9b268"/>
                </a:solidFill>
                <a:latin typeface="Trebuchet MS"/>
              </a:rPr>
              <a:t>Определение технологии</a:t>
            </a:r>
            <a:endParaRPr b="1" lang="en-US" sz="3600" spc="-1" strike="noStrike">
              <a:solidFill>
                <a:srgbClr val="ff8d3e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685800" y="1214280"/>
            <a:ext cx="7772400" cy="4957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6000"/>
          </a:bodyPr>
          <a:p>
            <a:pPr marL="254160" indent="-2541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71f28"/>
                </a:solidFill>
                <a:latin typeface="Georgia"/>
              </a:rPr>
              <a:t>Технология </a:t>
            </a:r>
            <a:r>
              <a:rPr b="0" lang="ru-RU" sz="2800" spc="-1" strike="noStrike">
                <a:solidFill>
                  <a:srgbClr val="771f28"/>
                </a:solidFill>
                <a:latin typeface="Georgia"/>
              </a:rPr>
              <a:t>– это система последовательных действий, обеспечивающая в определенных условиях конкретный, гарантированный результат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54160" indent="-2541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71f28"/>
                </a:solidFill>
                <a:latin typeface="Georgia"/>
              </a:rPr>
              <a:t>Педагогическая технология</a:t>
            </a:r>
            <a:r>
              <a:rPr b="0" lang="ru-RU" sz="2800" spc="-1" strike="noStrike">
                <a:solidFill>
                  <a:srgbClr val="771f28"/>
                </a:solidFill>
                <a:latin typeface="Georgia"/>
              </a:rPr>
              <a:t> – это совокупность психолого-педагогических приемов, методов , средств, обеспечивающих гарантированный результат качества образования каждого конкретного ребенка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54160" indent="-2541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54160" indent="-2541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5" name="Picture 5" descr="D:\Documents and Settings\игорек\Рабочий стол\Школа\bbede0006c530d485ca772fc67e59d7f.gif"/>
          <p:cNvPicPr/>
          <p:nvPr/>
        </p:nvPicPr>
        <p:blipFill>
          <a:blip r:embed="rId1"/>
          <a:stretch/>
        </p:blipFill>
        <p:spPr>
          <a:xfrm>
            <a:off x="214200" y="0"/>
            <a:ext cx="1857600" cy="142884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3280" y="5408280"/>
            <a:ext cx="8183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ff8d3e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85800" y="428760"/>
            <a:ext cx="7772400" cy="55720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71f28"/>
                </a:solidFill>
                <a:latin typeface="Georgia"/>
              </a:rPr>
              <a:t>      </a:t>
            </a:r>
            <a:r>
              <a:rPr b="1" i="1" lang="ru-RU" sz="3200" spc="-1" strike="noStrike">
                <a:solidFill>
                  <a:srgbClr val="771f28"/>
                </a:solidFill>
                <a:latin typeface="Georgia"/>
              </a:rPr>
              <a:t>Различают 3 основные группы педтехнологий: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- 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объяснительно – иллюстративные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- личностно – ориентированные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- технологии развивающего обучения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8" name="Picture 4" descr="D:\Documents and Settings\игорек\Рабочий стол\Школа\dbdee13c60c9204fee7ec8d256b5f9fa.gif"/>
          <p:cNvPicPr/>
          <p:nvPr/>
        </p:nvPicPr>
        <p:blipFill>
          <a:blip r:embed="rId1"/>
          <a:stretch/>
        </p:blipFill>
        <p:spPr>
          <a:xfrm>
            <a:off x="357120" y="214200"/>
            <a:ext cx="1785960" cy="178596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28760"/>
            <a:ext cx="81835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8d3e"/>
                </a:solidFill>
                <a:latin typeface="Trebuchet MS"/>
              </a:rPr>
              <a:t>Режимы:</a:t>
            </a:r>
            <a:endParaRPr b="1" lang="en-US" sz="4800" spc="-1" strike="noStrike">
              <a:solidFill>
                <a:srgbClr val="ff8d3e"/>
              </a:solidFill>
              <a:latin typeface="Trebuchet MS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503280" y="1285560"/>
            <a:ext cx="8183520" cy="4714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5000"/>
          </a:bodyPr>
          <a:p>
            <a:pPr marL="251640" indent="-25164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              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51640" indent="-25164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251640" indent="-25164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Georgia"/>
              </a:rPr>
              <a:t>Я – обучаемый (пассивный)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251640" indent="-25164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Georgia"/>
              </a:rPr>
              <a:t>Я – учусь (активный)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251640" indent="-25164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Georgia"/>
              </a:rPr>
              <a:t>Я – обучающий (экстраактивный)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251640" indent="-25164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Georgia"/>
              </a:rPr>
              <a:t>Диалоговый (интерактивный)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1" name="Picture 2" descr="D:\Documents and Settings\игорек\Рабочий стол\Школа\c83f7e733a96e6d5ef16c2592d5e4320.gif"/>
          <p:cNvPicPr/>
          <p:nvPr/>
        </p:nvPicPr>
        <p:blipFill>
          <a:blip r:embed="rId1"/>
          <a:stretch/>
        </p:blipFill>
        <p:spPr>
          <a:xfrm>
            <a:off x="285840" y="285840"/>
            <a:ext cx="3000240" cy="221436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56760" y="0"/>
            <a:ext cx="8215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71f28"/>
                </a:solidFill>
                <a:latin typeface="Trebuchet MS"/>
              </a:rPr>
              <a:t>Традиционные технологии</a:t>
            </a:r>
            <a:endParaRPr b="1" lang="en-US" sz="2800" spc="-1" strike="noStrike">
              <a:solidFill>
                <a:srgbClr val="ff8d3e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4560" y="609480"/>
            <a:ext cx="8001000" cy="65534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8000"/>
          </a:bodyPr>
          <a:p>
            <a:pPr marL="259560" indent="-2595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00"/>
                </a:solidFill>
                <a:latin typeface="Georgia"/>
              </a:rPr>
              <a:t>Объяснительно – иллюстративные технологии.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259560" indent="-2595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259560" indent="-2595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               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Учитель                                                                                                                          Ученик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259560" indent="-2595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259560" indent="-2595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45f07"/>
                </a:solidFill>
                <a:latin typeface="Georgia"/>
              </a:rPr>
              <a:t>УСТАНОВКИ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259560" indent="-2595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259560" indent="-2595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Социальный заказ                                                                                                       - интерес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259560" indent="-2595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прохождение программы                                                                                            - познавательные способности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259560" indent="-2595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                                                                  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утверждение себя как яркой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259560" indent="-2595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                                                                   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индивидуальности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259560" indent="-2595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259560" indent="-2595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                                                                                              </a:t>
            </a:r>
            <a:r>
              <a:rPr b="0" lang="ru-RU" sz="1200" spc="-1" strike="noStrike">
                <a:solidFill>
                  <a:srgbClr val="b45f07"/>
                </a:solidFill>
                <a:latin typeface="Georgia"/>
              </a:rPr>
              <a:t> </a:t>
            </a:r>
            <a:r>
              <a:rPr b="0" lang="ru-RU" sz="1200" spc="-1" strike="noStrike">
                <a:solidFill>
                  <a:srgbClr val="b45f07"/>
                </a:solidFill>
                <a:latin typeface="Georgia"/>
              </a:rPr>
              <a:t>РОЛЬ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259560" indent="-2595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259560" indent="-2595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доминирующая                                                                                                   пассивная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259560" indent="-2595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(командир, судья, начальник)                                                                      (соблюдение тишины и выполнение 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259560" indent="-2595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                                                                               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предписаний)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259560" indent="-2595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259560" indent="-2595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45f07"/>
                </a:solidFill>
                <a:latin typeface="Georgia"/>
              </a:rPr>
              <a:t>РЕЖИМ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259560" indent="-2595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        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Принудительный                                                                   психологические  последствия,       протест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259560" indent="-2595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                                                                                                                     </a:t>
            </a:r>
            <a:r>
              <a:rPr b="0" lang="ru-RU" sz="2800" spc="-1" strike="noStrike">
                <a:solidFill>
                  <a:srgbClr val="b45f07"/>
                </a:solidFill>
                <a:latin typeface="Georgia"/>
              </a:rPr>
              <a:t> </a:t>
            </a:r>
            <a:r>
              <a:rPr b="0" lang="ru-RU" sz="1200" spc="-1" strike="noStrike">
                <a:solidFill>
                  <a:srgbClr val="b45f07"/>
                </a:solidFill>
                <a:latin typeface="Georgia"/>
              </a:rPr>
              <a:t>ВЫХОД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259560" indent="-2595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 </a:t>
            </a:r>
            <a:r>
              <a:rPr b="1" lang="ru-RU" sz="1600" spc="-1" strike="noStrike">
                <a:solidFill>
                  <a:srgbClr val="783f04"/>
                </a:solidFill>
                <a:latin typeface="Georgia"/>
              </a:rPr>
              <a:t>                           </a:t>
            </a:r>
            <a:r>
              <a:rPr b="1" lang="ru-RU" sz="1600" spc="-1" strike="noStrike">
                <a:solidFill>
                  <a:srgbClr val="783f04"/>
                </a:solidFill>
                <a:latin typeface="Georgia"/>
              </a:rPr>
              <a:t>новые               современные                 педтехнологии 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59560" indent="-2595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4" name="Rectangle 4"/>
          <p:cNvSpPr/>
          <p:nvPr/>
        </p:nvSpPr>
        <p:spPr>
          <a:xfrm>
            <a:off x="3733920" y="1523880"/>
            <a:ext cx="12952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5"/>
          <p:cNvSpPr/>
          <p:nvPr/>
        </p:nvSpPr>
        <p:spPr>
          <a:xfrm>
            <a:off x="3500280" y="5786280"/>
            <a:ext cx="1366920" cy="42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6"/>
          <p:cNvSpPr/>
          <p:nvPr/>
        </p:nvSpPr>
        <p:spPr>
          <a:xfrm>
            <a:off x="3643200" y="3071880"/>
            <a:ext cx="129564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7"/>
          <p:cNvSpPr/>
          <p:nvPr/>
        </p:nvSpPr>
        <p:spPr>
          <a:xfrm>
            <a:off x="3714840" y="4572000"/>
            <a:ext cx="12952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Line 8"/>
          <p:cNvSpPr/>
          <p:nvPr/>
        </p:nvSpPr>
        <p:spPr>
          <a:xfrm flipV="1">
            <a:off x="4419720" y="1219320"/>
            <a:ext cx="17524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Line 9"/>
          <p:cNvSpPr/>
          <p:nvPr/>
        </p:nvSpPr>
        <p:spPr>
          <a:xfrm flipH="1" flipV="1">
            <a:off x="1904760" y="1219320"/>
            <a:ext cx="2514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Line 10"/>
          <p:cNvSpPr/>
          <p:nvPr/>
        </p:nvSpPr>
        <p:spPr>
          <a:xfrm>
            <a:off x="4419720" y="1828800"/>
            <a:ext cx="1371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11"/>
          <p:cNvSpPr/>
          <p:nvPr/>
        </p:nvSpPr>
        <p:spPr>
          <a:xfrm flipH="1">
            <a:off x="2057400" y="1828800"/>
            <a:ext cx="22860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12"/>
          <p:cNvSpPr/>
          <p:nvPr/>
        </p:nvSpPr>
        <p:spPr>
          <a:xfrm>
            <a:off x="4952880" y="3276720"/>
            <a:ext cx="9907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Line 13"/>
          <p:cNvSpPr/>
          <p:nvPr/>
        </p:nvSpPr>
        <p:spPr>
          <a:xfrm flipH="1">
            <a:off x="2133360" y="3276720"/>
            <a:ext cx="15238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Line 14"/>
          <p:cNvSpPr/>
          <p:nvPr/>
        </p:nvSpPr>
        <p:spPr>
          <a:xfrm>
            <a:off x="4876920" y="4876920"/>
            <a:ext cx="10666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Line 15"/>
          <p:cNvSpPr/>
          <p:nvPr/>
        </p:nvSpPr>
        <p:spPr>
          <a:xfrm flipH="1">
            <a:off x="2590560" y="4876920"/>
            <a:ext cx="9903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Line 16"/>
          <p:cNvSpPr/>
          <p:nvPr/>
        </p:nvSpPr>
        <p:spPr>
          <a:xfrm>
            <a:off x="4952880" y="6248520"/>
            <a:ext cx="7621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Line 17"/>
          <p:cNvSpPr/>
          <p:nvPr/>
        </p:nvSpPr>
        <p:spPr>
          <a:xfrm flipH="1">
            <a:off x="3047760" y="6248520"/>
            <a:ext cx="6094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sh dir="d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ru-RU" sz="3600" spc="-1" strike="noStrike" u="sng">
                <a:solidFill>
                  <a:srgbClr val="771f28"/>
                </a:solidFill>
                <a:uFillTx/>
                <a:latin typeface="Trebuchet MS"/>
              </a:rPr>
              <a:t>Справка</a:t>
            </a:r>
            <a:r>
              <a:rPr b="1" lang="ru-RU" sz="3600" spc="-1" strike="noStrike">
                <a:solidFill>
                  <a:srgbClr val="771f28"/>
                </a:solidFill>
                <a:latin typeface="Trebuchet MS"/>
              </a:rPr>
              <a:t>:</a:t>
            </a:r>
            <a:br>
              <a:rPr sz="3600"/>
            </a:br>
            <a:br>
              <a:rPr sz="3600"/>
            </a:br>
            <a:r>
              <a:rPr b="1" lang="ru-RU" sz="2900" spc="-1" strike="noStrike">
                <a:solidFill>
                  <a:srgbClr val="000000"/>
                </a:solidFill>
                <a:latin typeface="Trebuchet MS"/>
              </a:rPr>
              <a:t>      </a:t>
            </a:r>
            <a:r>
              <a:rPr b="1" i="1" lang="ru-RU" sz="2900" spc="-1" strike="noStrike">
                <a:solidFill>
                  <a:srgbClr val="48365a"/>
                </a:solidFill>
                <a:latin typeface="Trebuchet MS"/>
              </a:rPr>
              <a:t>Многие учителя привыкают к нормам этих отношений и часто считают, что у них  сложился необходимый контакт в работе с учащимися. 73% учителей отмечают, что имеют контакт с детьми, в то же время положительно ответили на этот вопрос только 18% учащихся.</a:t>
            </a:r>
            <a:br>
              <a:rPr sz="2900"/>
            </a:br>
            <a:br>
              <a:rPr sz="2900"/>
            </a:br>
            <a:endParaRPr b="1" lang="en-US" sz="2900" spc="-1" strike="noStrike">
              <a:solidFill>
                <a:srgbClr val="ff8d3e"/>
              </a:solidFill>
              <a:latin typeface="Trebuchet MS"/>
            </a:endParaRPr>
          </a:p>
        </p:txBody>
      </p:sp>
      <p:pic>
        <p:nvPicPr>
          <p:cNvPr id="249" name="Picture 3" descr="D:\Documents and Settings\игорек\Рабочий стол\Школа\54321.gif"/>
          <p:cNvPicPr/>
          <p:nvPr/>
        </p:nvPicPr>
        <p:blipFill>
          <a:blip r:embed="rId1"/>
          <a:stretch/>
        </p:blipFill>
        <p:spPr>
          <a:xfrm>
            <a:off x="571680" y="428760"/>
            <a:ext cx="2714400" cy="164304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18352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1" lang="en-US" sz="3200" spc="-1" strike="noStrike">
              <a:solidFill>
                <a:srgbClr val="ff8d3e"/>
              </a:solidFill>
              <a:latin typeface="Trebuchet MS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1357200" y="428760"/>
            <a:ext cx="7329600" cy="56433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71f28"/>
                </a:solidFill>
                <a:latin typeface="Georgia"/>
              </a:rPr>
              <a:t>   </a:t>
            </a:r>
            <a:r>
              <a:rPr b="1" i="1" lang="ru-RU" sz="3200" spc="-1" strike="noStrike">
                <a:solidFill>
                  <a:srgbClr val="771f28"/>
                </a:solidFill>
                <a:latin typeface="Georgia"/>
              </a:rPr>
              <a:t>Личностно – ориентированные педтехнологии: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  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-</a:t>
            </a:r>
            <a:r>
              <a:rPr b="0" lang="ru-RU" sz="3000" spc="-1" strike="noStrike">
                <a:solidFill>
                  <a:srgbClr val="000000"/>
                </a:solidFill>
                <a:latin typeface="Georgia"/>
              </a:rPr>
              <a:t>  </a:t>
            </a:r>
            <a:r>
              <a:rPr b="0" i="1" lang="ru-RU" sz="3000" spc="-1" strike="noStrike">
                <a:solidFill>
                  <a:srgbClr val="000000"/>
                </a:solidFill>
                <a:latin typeface="Georgia"/>
              </a:rPr>
              <a:t>технология полного усвоения знаний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Georgia"/>
              </a:rPr>
              <a:t>   </a:t>
            </a:r>
            <a:r>
              <a:rPr b="0" i="1" lang="ru-RU" sz="3000" spc="-1" strike="noStrike">
                <a:solidFill>
                  <a:srgbClr val="000000"/>
                </a:solidFill>
                <a:latin typeface="Georgia"/>
              </a:rPr>
              <a:t>-  разноуровневое обучение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Georgia"/>
              </a:rPr>
              <a:t>   </a:t>
            </a:r>
            <a:r>
              <a:rPr b="0" i="1" lang="ru-RU" sz="3000" spc="-1" strike="noStrike">
                <a:solidFill>
                  <a:srgbClr val="000000"/>
                </a:solidFill>
                <a:latin typeface="Georgia"/>
              </a:rPr>
              <a:t>-   коллективное взаимообучение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Georgia"/>
              </a:rPr>
              <a:t>   </a:t>
            </a:r>
            <a:r>
              <a:rPr b="0" i="1" lang="ru-RU" sz="3000" spc="-1" strike="noStrike">
                <a:solidFill>
                  <a:srgbClr val="000000"/>
                </a:solidFill>
                <a:latin typeface="Georgia"/>
              </a:rPr>
              <a:t>-   модульное обучение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52" name="Picture 5" descr="D:\Documents and Settings\игорек\Рабочий стол\Школа\e8b094b7950d327c31c53f3be710d585.gif"/>
          <p:cNvPicPr/>
          <p:nvPr/>
        </p:nvPicPr>
        <p:blipFill>
          <a:blip r:embed="rId1"/>
          <a:stretch/>
        </p:blipFill>
        <p:spPr>
          <a:xfrm>
            <a:off x="285840" y="500040"/>
            <a:ext cx="2000160" cy="207180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" dur="20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2000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" dur="2000"/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" dur="2000"/>
                                        <p:tgtEl>
                                          <p:spTgt spid="2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3280" y="214200"/>
            <a:ext cx="8183520" cy="12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771f28"/>
                </a:solidFill>
                <a:latin typeface="Trebuchet MS"/>
              </a:rPr>
              <a:t>Принципы личностно-    ориентированных технологий:</a:t>
            </a:r>
            <a:endParaRPr b="1" lang="en-US" sz="3800" spc="-1" strike="noStrike">
              <a:solidFill>
                <a:srgbClr val="ff8d3e"/>
              </a:solidFill>
              <a:latin typeface="Trebuchet MS"/>
            </a:endParaRPr>
          </a:p>
        </p:txBody>
      </p:sp>
      <p:sp>
        <p:nvSpPr>
          <p:cNvPr id="254" name="Прямоугольник 2"/>
          <p:cNvSpPr/>
          <p:nvPr/>
        </p:nvSpPr>
        <p:spPr>
          <a:xfrm>
            <a:off x="428760" y="1428840"/>
            <a:ext cx="8286480" cy="49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>
              <a:lnSpc>
                <a:spcPct val="90000"/>
              </a:lnSpc>
              <a:buClr>
                <a:srgbClr val="48365a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8365a"/>
                </a:solidFill>
                <a:latin typeface="Times New Roman"/>
              </a:rPr>
              <a:t>Личностная ориентация (направленность) воспитания и обучения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90000"/>
              </a:lnSpc>
              <a:buClr>
                <a:srgbClr val="48365a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8365a"/>
                </a:solidFill>
                <a:latin typeface="Times New Roman"/>
              </a:rPr>
              <a:t>Гуманно-демократический стиль отношений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90000"/>
              </a:lnSpc>
              <a:buClr>
                <a:srgbClr val="48365a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8365a"/>
                </a:solidFill>
                <a:latin typeface="Times New Roman"/>
              </a:rPr>
              <a:t>Индивидуальный подход к ребенку</a:t>
            </a:r>
            <a:r>
              <a:rPr b="0" i="1" lang="en-US" sz="2800" spc="-1" strike="noStrike">
                <a:solidFill>
                  <a:srgbClr val="48365a"/>
                </a:solidFill>
                <a:latin typeface="Times New Roman"/>
              </a:rPr>
              <a:t>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90000"/>
              </a:lnSpc>
              <a:buClr>
                <a:srgbClr val="48365a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8365a"/>
                </a:solidFill>
                <a:latin typeface="Times New Roman"/>
              </a:rPr>
              <a:t>Природосообразность обучения и воспитания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90000"/>
              </a:lnSpc>
              <a:buClr>
                <a:srgbClr val="48365a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8365a"/>
                </a:solidFill>
                <a:latin typeface="Times New Roman"/>
              </a:rPr>
              <a:t>Опора на внутренние саморегулирующие механизмы развития личност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90000"/>
              </a:lnSpc>
              <a:buClr>
                <a:srgbClr val="48365a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Picture 4" descr="D:\Documents and Settings\игорек\Рабочий стол\Школа\18ab3d0a2342513213e1d088960ebb4c.gif"/>
          <p:cNvPicPr/>
          <p:nvPr/>
        </p:nvPicPr>
        <p:blipFill>
          <a:blip r:embed="rId1"/>
          <a:stretch/>
        </p:blipFill>
        <p:spPr>
          <a:xfrm>
            <a:off x="0" y="0"/>
            <a:ext cx="1714680" cy="142884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indefinite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6" dur="indefinite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7" dur="indefinite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indefinite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92" dur="indefinite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93" dur="indefinite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785600" y="214200"/>
            <a:ext cx="6824520" cy="18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r>
              <a:rPr b="1" i="1" lang="ru-RU" sz="2400" spc="-1" strike="noStrike">
                <a:solidFill>
                  <a:srgbClr val="771f28"/>
                </a:solidFill>
                <a:latin typeface="Trebuchet MS"/>
              </a:rPr>
              <a:t>Технология полного усвоения знаний.</a:t>
            </a:r>
            <a:br>
              <a:rPr sz="2400"/>
            </a:br>
            <a:r>
              <a:rPr b="1" i="1" lang="ru-RU" sz="2400" spc="-1" strike="noStrike">
                <a:solidFill>
                  <a:srgbClr val="771f28"/>
                </a:solidFill>
                <a:latin typeface="Trebuchet MS"/>
              </a:rPr>
              <a:t>                                              (М.В. Кларин)</a:t>
            </a:r>
            <a:br>
              <a:rPr sz="2400"/>
            </a:br>
            <a:endParaRPr b="1" lang="en-US" sz="2400" spc="-1" strike="noStrike">
              <a:solidFill>
                <a:srgbClr val="ff8d3e"/>
              </a:solidFill>
              <a:latin typeface="Trebuchet MS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85800" y="1643040"/>
            <a:ext cx="7772400" cy="4214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8000"/>
          </a:bodyPr>
          <a:p>
            <a:pPr marL="259560" indent="-2595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8365a"/>
                </a:solidFill>
                <a:latin typeface="Georgia"/>
              </a:rPr>
              <a:t>Установка:</a:t>
            </a:r>
            <a:r>
              <a:rPr b="0" i="1" lang="ru-RU" sz="1800" spc="-1" strike="noStrike">
                <a:solidFill>
                  <a:srgbClr val="48365a"/>
                </a:solidFill>
                <a:latin typeface="Georgia"/>
              </a:rPr>
              <a:t> все обучаемые способны полностью усвоить необходимый  учебный материал при  рациональной  организации учебного  процесса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59560" indent="-2595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48365a"/>
                </a:solidFill>
                <a:latin typeface="Georgia"/>
              </a:rPr>
              <a:t>    </a:t>
            </a:r>
            <a:r>
              <a:rPr b="0" i="1" lang="ru-RU" sz="1800" spc="-1" strike="noStrike">
                <a:solidFill>
                  <a:srgbClr val="48365a"/>
                </a:solidFill>
                <a:latin typeface="Georgia"/>
              </a:rPr>
              <a:t>-    </a:t>
            </a:r>
            <a:r>
              <a:rPr b="0" i="1" lang="ru-RU" sz="1800" spc="-1" strike="noStrike" u="sng">
                <a:solidFill>
                  <a:srgbClr val="48365a"/>
                </a:solidFill>
                <a:uFillTx/>
                <a:latin typeface="Georgia"/>
              </a:rPr>
              <a:t>знание</a:t>
            </a:r>
            <a:r>
              <a:rPr b="0" i="1" lang="ru-RU" sz="1800" spc="-1" strike="noStrike">
                <a:solidFill>
                  <a:srgbClr val="48365a"/>
                </a:solidFill>
                <a:latin typeface="Georgia"/>
              </a:rPr>
              <a:t>: ученик запоминает и воспроизводит конкретную учебную единицу   ( термин, факт, понятие, принцип, процедуру)- « запомнил, воспроизвел, узнал»;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59560" indent="-2595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48365a"/>
                </a:solidFill>
                <a:latin typeface="Georgia"/>
              </a:rPr>
              <a:t>    </a:t>
            </a:r>
            <a:r>
              <a:rPr b="0" i="1" lang="ru-RU" sz="1800" spc="-1" strike="noStrike">
                <a:solidFill>
                  <a:srgbClr val="48365a"/>
                </a:solidFill>
                <a:latin typeface="Georgia"/>
              </a:rPr>
              <a:t>-    </a:t>
            </a:r>
            <a:r>
              <a:rPr b="0" i="1" lang="ru-RU" sz="1800" spc="-1" strike="noStrike" u="sng">
                <a:solidFill>
                  <a:srgbClr val="48365a"/>
                </a:solidFill>
                <a:uFillTx/>
                <a:latin typeface="Georgia"/>
              </a:rPr>
              <a:t>понимание</a:t>
            </a:r>
            <a:r>
              <a:rPr b="0" i="1" lang="ru-RU" sz="1800" spc="-1" strike="noStrike">
                <a:solidFill>
                  <a:srgbClr val="48365a"/>
                </a:solidFill>
                <a:latin typeface="Georgia"/>
              </a:rPr>
              <a:t>: ученик преобразует учебный материал из одной формы выражения в другую (  объясняет, кратко излагает, прогнозирует дальнейшее развитие явлений, событий);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59560" indent="-2595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48365a"/>
                </a:solidFill>
                <a:latin typeface="Georgia"/>
              </a:rPr>
              <a:t>     </a:t>
            </a:r>
            <a:r>
              <a:rPr b="0" i="1" lang="ru-RU" sz="1800" spc="-1" strike="noStrike">
                <a:solidFill>
                  <a:srgbClr val="48365a"/>
                </a:solidFill>
                <a:latin typeface="Georgia"/>
              </a:rPr>
              <a:t>-   </a:t>
            </a:r>
            <a:r>
              <a:rPr b="0" i="1" lang="ru-RU" sz="1800" spc="-1" strike="noStrike" u="sng">
                <a:solidFill>
                  <a:srgbClr val="48365a"/>
                </a:solidFill>
                <a:uFillTx/>
                <a:latin typeface="Georgia"/>
              </a:rPr>
              <a:t> применение</a:t>
            </a:r>
            <a:r>
              <a:rPr b="0" i="1" lang="ru-RU" sz="1800" spc="-1" strike="noStrike">
                <a:solidFill>
                  <a:srgbClr val="48365a"/>
                </a:solidFill>
                <a:latin typeface="Georgia"/>
              </a:rPr>
              <a:t>: ученик демонстрирует применение изученного материала в конкретных условиях и в новой ситуации;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59560" indent="-2595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48365a"/>
                </a:solidFill>
                <a:latin typeface="Georgia"/>
              </a:rPr>
              <a:t>    </a:t>
            </a:r>
            <a:r>
              <a:rPr b="0" i="1" lang="ru-RU" sz="1800" spc="-1" strike="noStrike">
                <a:solidFill>
                  <a:srgbClr val="48365a"/>
                </a:solidFill>
                <a:latin typeface="Georgia"/>
              </a:rPr>
              <a:t>-     </a:t>
            </a:r>
            <a:r>
              <a:rPr b="0" i="1" lang="ru-RU" sz="1800" spc="-1" strike="noStrike" u="sng">
                <a:solidFill>
                  <a:srgbClr val="48365a"/>
                </a:solidFill>
                <a:uFillTx/>
                <a:latin typeface="Georgia"/>
              </a:rPr>
              <a:t> оценка</a:t>
            </a:r>
            <a:r>
              <a:rPr b="0" i="1" lang="ru-RU" sz="1800" spc="-1" strike="noStrike">
                <a:solidFill>
                  <a:srgbClr val="48365a"/>
                </a:solidFill>
                <a:latin typeface="Georgia"/>
              </a:rPr>
              <a:t>: ученик оценивает значение учебного материала для данной конкретной цели – « определил ценность и значение объекта изучения»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59560" indent="-2595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58" name="Picture 4" descr="D:\Documents and Settings\игорек\Рабочий стол\Школа\4166484024201f2ec3cbf5452a6a542a.gif"/>
          <p:cNvPicPr/>
          <p:nvPr/>
        </p:nvPicPr>
        <p:blipFill>
          <a:blip r:embed="rId1"/>
          <a:stretch/>
        </p:blipFill>
        <p:spPr>
          <a:xfrm>
            <a:off x="214200" y="0"/>
            <a:ext cx="2071800" cy="178596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3T06:11:39Z</dcterms:created>
  <dc:creator>завуч</dc:creator>
  <dc:description/>
  <dc:language>en-US</dc:language>
  <cp:lastModifiedBy>Admin</cp:lastModifiedBy>
  <dcterms:modified xsi:type="dcterms:W3CDTF">2009-11-22T19:01:26Z</dcterms:modified>
  <cp:revision>46</cp:revision>
  <dc:subject/>
  <dc:title>«Перспективные  школьные технологии»</dc:title>
</cp:coreProperties>
</file>