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CE6-5C49-47C7-AC26-3077E854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83D-FA9C-41D8-9969-1B9C978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5B1-BDD5-4768-AE01-253D986E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5DC-7E7F-4FF3-9B3F-CB5DEE00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AFCD-B740-48D3-B297-FBB7EAEC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D12-C85A-4EDB-85D7-3A869343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F68C-168C-41C0-AFCE-BBCF40F3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F212-918F-48BE-8004-606360DA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8F3B-9B24-49BE-ADB3-73986CBA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181C-CFC8-444D-8BA0-906830A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D17-F9BD-49F3-BA3F-56C68D5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E38-938D-468A-9B21-1E3F355D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BAA-F0EF-42FE-AE7F-5AC1422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9ABD-73B2-4FFD-BD1F-634AD160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C4C4-BF0D-492E-A210-0FABD095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7D31-B044-40EC-AC1E-79CA160B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A407-7ABE-4762-ACA7-99994E82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C14-1210-47A5-AFB6-AFAA94BD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81F-D604-4DCB-BA30-26B946D5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17E-DFC7-42CA-994A-45D842F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1B4-29BD-482C-9627-B31D8314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BAE-1FCD-4874-9461-386EBBD2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D9F-BBE4-47C3-B053-B7354EA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859-E62E-4D20-A021-CE5FCB9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B1A5-4C1F-4237-B934-11FCF3E95F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72EE-73FE-4D76-A732-72AED279C0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0464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e4a8"/>
                </a:solidFill>
                <a:latin typeface="Tahoma"/>
              </a:rPr>
              <a:t>Функции</a:t>
            </a:r>
            <a:br>
              <a:rPr sz="8000"/>
            </a:br>
            <a:r>
              <a:rPr b="1" i="1" lang="en-US" sz="8000" spc="-1" strike="noStrike">
                <a:solidFill>
                  <a:srgbClr val="00e4a8"/>
                </a:solidFill>
                <a:latin typeface="Tahoma"/>
              </a:rPr>
              <a:t>синонимов</a:t>
            </a:r>
            <a:br>
              <a:rPr sz="8000"/>
            </a:br>
            <a:r>
              <a:rPr b="0" i="1" lang="en-US" sz="8000" spc="-1" strike="noStrike">
                <a:solidFill>
                  <a:srgbClr val="00e4a8"/>
                </a:solidFill>
                <a:latin typeface="Tahoma"/>
              </a:rPr>
              <a:t>в речи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правьте ошиб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415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Наступила вой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полнять ро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Играть большое зна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редпринять ме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звать вним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казать забо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существить задач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Сказать информаци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овышение кругозо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казывать консульт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итать треп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полнять гимнасти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Наполниться терпени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72360" y="765000"/>
            <a:ext cx="2592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Укажите лишнее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лово в ряду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иноним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704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Карикатурный, шаржированный, гротесковый, смешн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Обещание, обязательство, решение, слов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Лицемер, фарисей, лицедей, ханж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Инициатор, активист, пионер, застрельщик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Жаловаться, жалеть, сетовать, ропта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Покладистый, уступчивый, сговорчивый, сердобольны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Оберегать, охранять, ограничивать, огражда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115920"/>
            <a:ext cx="27352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ункции синоним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Уточнения, допол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Он словно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отерялся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немного, словно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сробел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/Л.Н.Толстой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Разъяс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Я употребляю слово обыденный в том смысле, в котором оно значит: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ыкновенный, тривиальный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ривычный.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/Л.Шустрова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опоставления обозначаемых ими поняти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Врача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ригласить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а фельдшера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озвать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/А.Чехов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ротивопоставл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Он собственно не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шел, а волочился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, не поднимая ног от земли /А.Куприн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Замещения, когда необходимо избегать повторения сл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Орловский мужик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живет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в дранных осиновых избенках…Калужский оброчный мужик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итает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в просторных сосновых избах. /И.Тургенев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16720" y="0"/>
          <a:ext cx="24382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0"/>
                    <a:ext cx="24382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кажите, какое из слов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является синонимом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данном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1.    Авангард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ередов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ерв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лучш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высш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.    Гуман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светл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человеч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необыкновен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замечатель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. Благоразум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обродетель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высоконравствен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благород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здравомыслящ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4. Духов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ушист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любим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нравствен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уш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182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0438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йдите предложение, которое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вязано с предыдущим при помощи субстантивированного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местоимения и синоним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75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1) Прошло три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2) многочисленная публика собралась в Киеве слушать оригинального музыканта.(3) Он был слеп, но молва передавала чудеса о его музыкальном таланте и его личной судьбе. (4) Говорили, будто в детстве он был похищен из зажиточной семьи бандой слепцов, с которыми бродил, пока известный профессор не обратил внимание на его замечательный музыкальный талан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5) Другие передавали, что он сам ушел из семьи к нищим из каких-то романтических побуждений. (6) Как бы то ни было, зала была набита битком, и сбор был пол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942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Исправьте ошибки и запишите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примеры в отредактированном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Тропинка привела нас к обрыву. Под обрывом шумела р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Начался разлив. Разлив – тяжелое время для зверей и пти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Возле клетки с попугаями толпились зеваки. Попугаи удивленно смотрели на зева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Медведь издали обнюхал гостя и пошел на него. Раздался выстрел, и он упал замерт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58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9722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реди предложений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5 –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найдите предложение, которое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вязано с предыдущим с помощью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контекстных синоним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5)К созданию будущего Словаря В.И.Даля подтолкнул А.С.Пушкин, дружба с которым у него сохранится до последнего вздоха поэта. (6) Буквально на руках Даля скончался его великий советчик и друг.(7) «Словом человека не убьешь», - где-то услышит поговорку Даль, а верной оказалась другая: «Слово пуще стрелы ранит».(8)Даль собрал за свою долгую жизнь более 200 тысяч слов.(9)Если их просто выписать столбиком, понадобится 450 ученических тетрадей.(10)Но Владимир Иванович еще и объяснял каждое слово, и привел примеры их употребления в пословицах и крылатых выражениях. (11)Так, слово «добро» он проиллюстрировал 60 пословицам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65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82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осстановить высказывание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Д.И.Фонвизина,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использовав нужные синонимы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ветхий, старый, старинный, древни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7040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человек обыкновенно любит вспоминать … происшествия и рассказывать о … обычаях; а если он скуп, то в сундуках его найдешь много … вещей; нередко бывает он заматерелым в своих привычк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87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Проверьте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704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Старый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человек обыкновенно любит вспоминать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авние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роисшествия и рассказывать о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старинных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ычаях; а если он скуп, то в сундуках его найдешь много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ветхих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вещей; нередко бывает он заматерелым в своих привычк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кажите общее значение всех  выделенных сл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Какими оттенками значений они различают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ходит ли прилагательное «заматерелый» в единый синонимический ряд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flipH="1">
            <a:off x="7380000" y="189000"/>
            <a:ext cx="14079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40:28Z</dcterms:created>
  <dc:creator>лего</dc:creator>
  <dc:description/>
  <dc:language>en-US</dc:language>
  <cp:lastModifiedBy>лего</cp:lastModifiedBy>
  <dcterms:modified xsi:type="dcterms:W3CDTF">2008-03-20T20:21:33Z</dcterms:modified>
  <cp:revision>10</cp:revision>
  <dc:subject/>
  <dc:title>Синонимы  как изобразительное средство языка</dc:title>
</cp:coreProperties>
</file>