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2.png" ContentType="image/png"/>
  <Override PartName="/ppt/media/image34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37.jpeg" ContentType="image/jpeg"/>
  <Override PartName="/ppt/media/image6.png" ContentType="image/png"/>
  <Override PartName="/ppt/media/image29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F64-150B-4C92-8D1C-0C907442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6DC-E523-47C1-A2A3-B13C20C6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84202-C76B-428E-923F-90BFD5A6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B7FE9-D80C-4843-A530-C2CEBC00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8C63E-0440-44C6-BB3F-8BB577E7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1AD63-BA1B-4986-AADD-45AAC7B0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256FC-F0BE-4D25-9DB0-B5884C04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D2A6C-FE34-44D7-BDA1-BB7B00ED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1E871-FF56-4C8C-8D8D-DD278E28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AE684-DCAE-49A0-B9F7-54392D5F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4683D-D6AE-4255-8415-CFC614A0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FD041-2528-4394-8538-AFD1AF0A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E5D-C372-4536-BA68-CBF41487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77773-B083-4D69-B869-7E4C0B55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88933-F864-4C97-B8A3-4FA80C20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4664E-C35E-4229-8159-24F57CB1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B1B7C-C78A-4B17-B0CA-A2F369BB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09084-01FD-4FDE-982D-BC915A3D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2091D-CDF7-4378-ABB3-63A2B50B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52E4B-47FB-4D66-BBEE-ED1C51E4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E619A-C40D-48FC-882B-FAD15112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21C00-BC3F-4B02-BF4F-00028213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64F06-7A99-454B-8790-95C72746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2F2-1602-4E48-B7A0-0D834A74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E39A7-A66E-48A9-890F-A3BE3C6C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A55A-EEDE-416D-ACC2-B0206B90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24DF-4739-4DB0-A5C4-B38FC663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B4F8-CABE-4D36-85C6-CA0C90C2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39AC-369A-4642-AFF4-433F173C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E956-C928-431E-9E36-7BDA7671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9914-105D-4FC5-9B76-01F13D59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3085-8ABA-45B7-A291-1477454B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90D-F2A6-4DB2-B0C4-97194EA1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F009-EAA4-4542-AEF4-3A2AE2E3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3EF9-A063-465A-A9C5-A0B7DD62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C50E-A16B-44F2-95D6-19D9D753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08A7-6672-4321-B386-8D26253E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15FD-DE0A-4519-8C43-9BF5CDF0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6C51B-BDB9-4890-AD73-6BA681E3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A59F4-0230-44B8-AAC7-B919071E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74797-1458-4FAD-88EF-166867FD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B6777-F712-40BB-9751-AC937061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B7966-4A75-4110-B862-0C37F568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925-13B4-4DF8-B66E-7FE7C498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67BD-BC65-4505-8EEE-D3F3778A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C6A4D-C16A-4ED8-AAA3-06D38826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0B3E-AE31-4A9A-9165-80BBD2CB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5993C-4A9F-4C83-93C9-8440C624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6F57-45FC-4CB0-8F53-2BE8BF66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6E42B-C535-455F-BA76-DFD27042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370B-9DDB-4494-A5BB-752D1F2B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9B099-91C8-421D-809F-291A0187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CCD15-6D49-4529-946C-9D5F31C1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266DD-7A57-4D77-90E6-03297481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D87C-B6D9-4FC7-A7BD-9F0105D0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7B20E-4A96-497C-810A-FAE6FDAF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8CA15-3353-4FD3-9A37-AD62339C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B5985-2364-433A-B062-C282EA49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3A71C-4E64-44EB-8F58-F68EAF97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DC8A9-E5B4-49DA-BFD5-11805C32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432BC-A117-4255-9665-E8B551A8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DC9A5-C73C-4126-B76A-47B62D73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166D9-98DF-46F0-9BF2-F3A845D7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0F2A2-5951-4341-BCEB-12D40A68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3E602-4DCA-4686-8BBC-81D33379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E3E-2258-467E-B75C-15E647D6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7C7C2-6C2E-420F-BB84-3DC26F8F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9E2D6-824F-4629-AD21-B7964E26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B50E6-557D-4232-878D-6DB209D7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9A883-28FC-4B47-8F06-19ABF324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0A8E8-2DFE-41A3-A950-AEE6475B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3BEF7-0041-40E3-9111-6612DC0B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F87B3-743D-477C-9D09-C130135D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07B97-2141-4E13-A8DA-4101D159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C985E-4C38-4174-9AF5-80AAE9D5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15164-177D-41B8-8D8F-E04F8381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D73-CD49-4410-BF45-6BF3000C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0AD9C-451B-4636-A9AC-74F488B5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04904-6322-4C78-8F0F-7146813B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7FB8F-CD85-4035-956A-975116DD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87ACC-A8B7-4309-A2AF-1B6C11A7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0A1BB-B69F-456D-873F-E7B73828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5BCA2-C8FB-4824-895C-7A6D34E6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64066-9DB5-4E93-B4F5-57C164EA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C62D1-526F-4175-B554-48123143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43A54-1EF6-4F01-B888-1AE35AC6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B9071-8535-4264-98AC-D931C122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AD6-13BD-45CB-9C8E-8F4CFA04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83137-90E1-49EE-A73E-09FF0E78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7D29B-B11F-44A3-9F25-E3C9D1BF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01742-4002-43D6-8EE9-8C94BC11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8362E-EA17-4BB2-A425-F0718D22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14A5A-3342-4738-85E1-07FCAC34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7F39A-BD3B-4FB7-BA28-71D2C1E8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EDC7C-46ED-41BA-9A9C-FCDD802E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88339-9510-4F91-A8EA-223EFD31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6C9ED-7652-423C-B7C4-A007307A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16079-3259-4D57-8912-609C4CBE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A09-562E-4044-B843-112915EE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8D013-7A71-4CBC-AF7B-EE01B1AB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45DBE-852F-4B04-BE39-02ED0B7C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F4BCF-102B-4C26-9604-16C56ADA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850D6-AEAB-4942-B1DF-84C246BC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60D94-B92A-462C-B61E-6E29B4E6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864DB-9BFA-40D4-95B4-75BD7A5A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C32D6-C495-405D-91B5-61D6DCFD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22873-3F79-4092-A4A9-2870C244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883DB-B237-4349-9C57-7CD7B372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E32D5-45BF-4111-8F77-1AB37757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B4E-8B5D-40F0-86BA-6A44E876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113B2-268F-4B70-88F9-4645B623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7A14D-7471-4026-9EF6-550081DF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8F031-C424-494C-8849-3CFAC847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EDABD-8FF3-479D-BCB5-D6CA6BE2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A9149-802E-4ED0-9B06-7F87832E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4D842-E6C8-4B88-88F5-580DCBC9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DDC4B-9FA4-4AC8-92D5-E2B785B6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9AD58-2563-49C8-9345-785DE53C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43153-04B7-4D83-AD7D-BA699C72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CD3C0-DD72-419A-A31C-D2132951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7033-BC9F-4250-A124-77DEB9EC065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FF66-2A1D-464F-B229-8E48C9C023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C901-C3C2-449A-AB74-8D3048B02BC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59F6-2466-4808-911E-A131294EF2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B1F2-3224-4654-9F2E-5143BB95F2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F791-0E70-42EB-BE88-121255CB61A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5890-15E3-468B-91A8-F55296429C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8F81-FCD8-4F08-821E-64E5D991825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A7E4-5730-4F84-9CC1-4331578BDC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6825-3BE3-4BAB-B581-D2254DBE7E7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371600" y="4357440"/>
            <a:ext cx="640080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0" name="WordArt 5" descr="Частый вертикальный"/>
          <p:cNvPicPr/>
          <p:nvPr/>
        </p:nvPicPr>
        <p:blipFill>
          <a:blip r:embed="rId1"/>
          <a:stretch/>
        </p:blipFill>
        <p:spPr>
          <a:xfrm>
            <a:off x="1616040" y="493560"/>
            <a:ext cx="5742000" cy="1371600"/>
          </a:xfrm>
          <a:prstGeom prst="rect">
            <a:avLst/>
          </a:prstGeom>
          <a:ln w="0">
            <a:noFill/>
          </a:ln>
        </p:spPr>
      </p:pic>
      <p:pic>
        <p:nvPicPr>
          <p:cNvPr id="451" name="WordArt 6" descr="Частый вертикальный"/>
          <p:cNvPicPr/>
          <p:nvPr/>
        </p:nvPicPr>
        <p:blipFill>
          <a:blip r:embed="rId2"/>
          <a:stretch/>
        </p:blipFill>
        <p:spPr>
          <a:xfrm>
            <a:off x="1706400" y="1920960"/>
            <a:ext cx="5731200" cy="2943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7" descr="C:\ФОТО ПРИРОДА\1.jpg"/>
          <p:cNvPicPr/>
          <p:nvPr/>
        </p:nvPicPr>
        <p:blipFill>
          <a:blip r:embed="rId3"/>
          <a:stretch/>
        </p:blipFill>
        <p:spPr>
          <a:xfrm>
            <a:off x="476280" y="4554360"/>
            <a:ext cx="2595600" cy="19465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C:\ФОТО ПРИРОДА\1.18.jpg"/>
          <p:cNvPicPr/>
          <p:nvPr/>
        </p:nvPicPr>
        <p:blipFill>
          <a:blip r:embed="rId4"/>
          <a:stretch/>
        </p:blipFill>
        <p:spPr>
          <a:xfrm>
            <a:off x="5214960" y="4429080"/>
            <a:ext cx="3498840" cy="22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Заголовок 1" descr=""/>
          <p:cNvPicPr/>
          <p:nvPr/>
        </p:nvPicPr>
        <p:blipFill>
          <a:blip r:embed="rId1"/>
          <a:stretch/>
        </p:blipFill>
        <p:spPr>
          <a:xfrm>
            <a:off x="2498760" y="208080"/>
            <a:ext cx="4724280" cy="9190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5572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Степные животные, а это главным образом грызуны, питаются травами. Многие обитатели степей из-за отсутствия природных укрытий живут в норах — степной хорек, суслики, различные мыш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8" name="Picture 7" descr="w54"/>
          <p:cNvPicPr/>
          <p:nvPr/>
        </p:nvPicPr>
        <p:blipFill>
          <a:blip r:embed="rId2"/>
          <a:stretch/>
        </p:blipFill>
        <p:spPr>
          <a:xfrm>
            <a:off x="5643720" y="192888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Rectangl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496000" cy="10191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323640" y="1143000"/>
            <a:ext cx="82803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Полупустыни и пустыни умеренного пояса. Сухое и жаркое лето в зоне полупустынь и пустынь сказывается на почвах, растительности и животном мире. Условия для жизни растений очень суровы: сухость воздуха, сильная жара, холодные, порой со снежными метелями зимы. Особенно беден растительный покров в жарких и сухих пустынях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" descr="7"/>
          <p:cNvPicPr/>
          <p:nvPr/>
        </p:nvPicPr>
        <p:blipFill>
          <a:blip r:embed="rId1"/>
          <a:stretch/>
        </p:blipFill>
        <p:spPr>
          <a:xfrm>
            <a:off x="4916520" y="2033640"/>
            <a:ext cx="3860640" cy="368136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4"/>
          <p:cNvSpPr/>
          <p:nvPr/>
        </p:nvSpPr>
        <p:spPr>
          <a:xfrm>
            <a:off x="357120" y="428760"/>
            <a:ext cx="442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ражают своей безжизненностью голые сыпучие пески пустыни Такла-Макан. Пески впитывают в себя влагу изредка выпадающих дождей, и когда пригреет весеннее солнце, пустыня ожива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60116E-006 L -0.60295 -0.00971 E">
                                      <p:cBhvr>
                                        <p:cTn id="191" dur="2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457200" y="642960"/>
            <a:ext cx="832968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В почвах полупустынь и пустынь много солей, и в этих условиях могут расти лишь некоторые растения, например солянк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В полупустынях и пустынях преобладают грызуны и копытные. В Центральной Азии встречаются двугорбый верблюд, дикие ослы — куланы. Эти редкие животные занесены в Красную книгу и охраняются законо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208080" y="171360"/>
            <a:ext cx="8240760" cy="9986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456840" y="928800"/>
            <a:ext cx="5915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В Европе, по берегам теплого Средиземного моря, расположена зона жестколистных вечнозеленых лесов и кустарников, причем кустарники занимают большую площадь, чем лес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Преобладающие здесь коричневые почвы плодородны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6" name="Picture 5" descr=""/>
          <p:cNvPicPr/>
          <p:nvPr/>
        </p:nvPicPr>
        <p:blipFill>
          <a:blip r:embed="rId2"/>
          <a:stretch/>
        </p:blipFill>
        <p:spPr>
          <a:xfrm>
            <a:off x="7093080" y="2060640"/>
            <a:ext cx="17906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6840" y="571680"/>
            <a:ext cx="818676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Вечнозеленые растения хорошо приспособлены к летней жаре и сухости воздуха. У них плотные, блестящие листья, а у некоторых растений они узкие, иногда покрытые волосками. Все это уменьшает испарение. В условиях дождливой мягкой зимы бурно разрастаются трав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57200" y="3567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Леса на берегах Средиземного моря почти полностью вырублены. На их месте возникли заросли вечнозеленых кустарников и невысоких деревьев — земляничное дерево, плоды которого по внешнему виду напоминают землянику, низкорослый каменный дуб с мелкими блестящими колючими листьями, мирт и др. Из культурных растений выращивают маслины, виноград, цитрусовые и другие раст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341280" y="60480"/>
            <a:ext cx="8521560" cy="135396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5986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Зона переменно-влажных субтропических лесов на юго-востоке Евразии занимает южную часть Китая и Японии. В отличие от Средиземноморья лето здесь влажное, а зима сравнительно сухая и прохладная. Поэтому вечнозеленые растения — магнолия, камелия, камфарный лавр — приспособились к зимней сухости. Эта зона давно освоена человеком. На месте сведенных лесов население выращивает рис, чайный куст, цитрусовы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1" name="Picture 5" descr=""/>
          <p:cNvPicPr/>
          <p:nvPr/>
        </p:nvPicPr>
        <p:blipFill>
          <a:blip r:embed="rId2"/>
          <a:stretch/>
        </p:blipFill>
        <p:spPr>
          <a:xfrm>
            <a:off x="6948360" y="1989000"/>
            <a:ext cx="198468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359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85480" y="1214280"/>
            <a:ext cx="63579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В саваннах Евразии среди высоких трав, в основном злаков, растут пальмы, акация, тиковое и саловое деревья. Кое-где встречаются и редкостойные леса. В сухое время года некоторые деревья на 3—4 месяца сбрасывают листву. Тик дает твердую ценную древесину, которая не гниет в воде. Саловое дерево достигает больших размеров — 35 м высоты. Его используют в строительств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4" name="Picture 5" descr=""/>
          <p:cNvPicPr/>
          <p:nvPr/>
        </p:nvPicPr>
        <p:blipFill>
          <a:blip r:embed="rId2"/>
          <a:stretch/>
        </p:blipFill>
        <p:spPr>
          <a:xfrm>
            <a:off x="6357960" y="2571840"/>
            <a:ext cx="249228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4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57120" y="213840"/>
            <a:ext cx="850104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В зоне субэкваториальных переменно-влажных лесов дождей больше, чем в саваннах, а сухой период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непродолжителен.  Поэтому и растительность напоминает расположенные южнее экваториальные леса. Только некоторые деревья в сухой период сбрасывают листву. Субэкваториальные леса отличаются разнообразием пород деревьев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208080" y="285840"/>
            <a:ext cx="8485200" cy="15001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250560" y="2276640"/>
            <a:ext cx="52671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Арктические пустыни, тундры и лесотундры в Евразии не заходят так далеко на юг, как в Северной Америке. В природе этих зон на обоих материках много общего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И это не случайно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Ведь зоны расположены на северной окраине материков, где продолжителен период низких температур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Picture 5" descr=""/>
          <p:cNvPicPr/>
          <p:nvPr/>
        </p:nvPicPr>
        <p:blipFill>
          <a:blip r:embed="rId2"/>
          <a:stretch/>
        </p:blipFill>
        <p:spPr>
          <a:xfrm>
            <a:off x="6073920" y="2898720"/>
            <a:ext cx="1998360" cy="23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9" name="Picture 2" descr="C:\Мамы дикой природы\А.33.jpg"/>
          <p:cNvPicPr/>
          <p:nvPr/>
        </p:nvPicPr>
        <p:blipFill>
          <a:blip r:embed="rId1"/>
          <a:stretch/>
        </p:blipFill>
        <p:spPr>
          <a:xfrm>
            <a:off x="357120" y="428760"/>
            <a:ext cx="821556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6840" y="499680"/>
            <a:ext cx="82580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Животный мир саванн и субэкваториальных лесов разнообразен и имеет много общего На Индостане и на острове Шри Ланка до сих пор живут дикие слоны. Прирученных слонов используют на хозяйственных тяжелых работах. Повсюду много обезьян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2714760" y="3286080"/>
            <a:ext cx="4429080" cy="31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1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Rectangle 4" descr=""/>
          <p:cNvPicPr/>
          <p:nvPr/>
        </p:nvPicPr>
        <p:blipFill>
          <a:blip r:embed="rId1"/>
          <a:stretch/>
        </p:blipFill>
        <p:spPr>
          <a:xfrm>
            <a:off x="1925640" y="244440"/>
            <a:ext cx="5675400" cy="9190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456840" y="836640"/>
            <a:ext cx="532908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в Евразии расположены преимущественно на островах, они пока еще занимают большие территории, но из-за вырубки площади под ними резко сокращаются. Все реже встречаются и без того редкие животные — некоторые виды носорогов, дикие быки, человекообразная обезьяна — орангутан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4" name="Picture 6" descr=""/>
          <p:cNvPicPr/>
          <p:nvPr/>
        </p:nvPicPr>
        <p:blipFill>
          <a:blip r:embed="rId2"/>
          <a:stretch/>
        </p:blipFill>
        <p:spPr>
          <a:xfrm>
            <a:off x="5643720" y="2120760"/>
            <a:ext cx="3198600" cy="34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158760" y="281160"/>
            <a:ext cx="8435880" cy="141912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7" name="Picture 2" descr="C:\Мамы дикой природы\А.14.jpg"/>
          <p:cNvPicPr/>
          <p:nvPr/>
        </p:nvPicPr>
        <p:blipFill>
          <a:blip r:embed="rId2"/>
          <a:stretch/>
        </p:blipFill>
        <p:spPr>
          <a:xfrm>
            <a:off x="428760" y="1714680"/>
            <a:ext cx="4143240" cy="4572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" descr="C:\Мамы дикой природы\А.15.jpg"/>
          <p:cNvPicPr/>
          <p:nvPr/>
        </p:nvPicPr>
        <p:blipFill>
          <a:blip r:embed="rId3"/>
          <a:stretch/>
        </p:blipFill>
        <p:spPr>
          <a:xfrm>
            <a:off x="4648320" y="171468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6840" y="499680"/>
            <a:ext cx="790092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В настоящее время большие площади субэкваториальных и экваториальных лесов в Индии и Индокитае освоены человеком. На равнинах Восточной и Южной Азии выращивают рис, а на юго-востоке Китая, в Индии и на острове Шри Ланка — чайный куст. Чайные плантации обычно расположены по склонам гор и в предгорьях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Rectangle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8699760" cy="91908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32400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Горные территории Евразии занимают почти половину площади материка. Наиболее ярко высотную поясность можно наблюдать на южных склонах Гималаев, обильно увлажненных муссонами, а в Европе — на южных склонах Альп. Хозяйственная деятельность человека тесно связана с жизнью в горах. Лучше всего освоены подножия и южные склоны гор, наиболее удобные для жизни населения. Здесь обычно располагаются населенные пункты, поля культурных растений, проложены дороги. На высокогорных лугах пасут скот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56840" y="499680"/>
            <a:ext cx="51944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Природа арктических пустынь и тундры пока еще мало изменена хозяйственной деятельностью человека. Однако заметно сократилась численность некоторых животных, например белого медведя. Запрет на отстрел позволил сохранить этого уникального звер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8" name="Picture 8" descr="zveri00068"/>
          <p:cNvPicPr/>
          <p:nvPr/>
        </p:nvPicPr>
        <p:blipFill>
          <a:blip r:embed="rId1"/>
          <a:stretch/>
        </p:blipFill>
        <p:spPr>
          <a:xfrm>
            <a:off x="5838840" y="2643120"/>
            <a:ext cx="312588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06704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71320" y="713880"/>
            <a:ext cx="81435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В Евразии они занимают обширные территории. Наибольшая по площади — тайга. В умеренном климатическом поясе лето гораздо теплее и продолжительнее, чем в тундре и лесотундре, благодаря чему появляется древесная растительность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7600" indent="-32760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Почвы в зоне тайги подзолистые. На них растут устойчивые к холоду хвойные деревья — сосна и ель, а к востоку от Уральских гор — пихта, сибирская сосна, а также лиственница — единственное хвойное дерево, сбрасывающее свою хвою на зим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7600" indent="-32760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0" y="1785600"/>
            <a:ext cx="5143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Зона смешанных и широколиственных лесов расположена лишь на западе и востоке материка. 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Широколиственные деревья более теплолюбивы, в тайге их не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Прямоугольник 5"/>
          <p:cNvSpPr/>
          <p:nvPr/>
        </p:nvSpPr>
        <p:spPr>
          <a:xfrm>
            <a:off x="2928960" y="35712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Лесные зо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6" descr="Тигр1"/>
          <p:cNvPicPr/>
          <p:nvPr/>
        </p:nvPicPr>
        <p:blipFill>
          <a:blip r:embed="rId1"/>
          <a:stretch/>
        </p:blipFill>
        <p:spPr>
          <a:xfrm>
            <a:off x="5357880" y="1254240"/>
            <a:ext cx="2649600" cy="39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0" y="571680"/>
            <a:ext cx="657216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Почвы по сравнению с подзолами более плодородн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Наиболее типичны для европейских широколиственных лесов дуб и бук. Буковые леса растут во влажном и теплом климате. На Восточно-Европейской равнине осадков становится меньше, разница между летними и зимними температурами заметнее, поэтому буковые леса уступают место дубовым. Растут здесь липа, клен и другие деревья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5" name="Picture 5" descr=""/>
          <p:cNvPicPr/>
          <p:nvPr/>
        </p:nvPicPr>
        <p:blipFill>
          <a:blip r:embed="rId1"/>
          <a:stretch/>
        </p:blipFill>
        <p:spPr>
          <a:xfrm>
            <a:off x="6429240" y="2286000"/>
            <a:ext cx="23130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5554800" cy="56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Животный мир лучше сохранился в тайге. Здесь живут волки, медведи, лоси, белки, приспособленные к жизни в лесу. В смешанных и широколиственных лесах многие животные стали редкими и находятся под охраной человека. Занесены в Красную книгу зубр, уссурийский тигр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7" name="Picture 8" descr="Тигренок"/>
          <p:cNvPicPr/>
          <p:nvPr/>
        </p:nvPicPr>
        <p:blipFill>
          <a:blip r:embed="rId1"/>
          <a:stretch/>
        </p:blipFill>
        <p:spPr>
          <a:xfrm>
            <a:off x="5940360" y="1555920"/>
            <a:ext cx="303840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8" descr="3"/>
          <p:cNvPicPr/>
          <p:nvPr/>
        </p:nvPicPr>
        <p:blipFill>
          <a:blip r:embed="rId1"/>
          <a:stretch/>
        </p:blipFill>
        <p:spPr>
          <a:xfrm>
            <a:off x="214200" y="1000080"/>
            <a:ext cx="2571840" cy="2357640"/>
          </a:xfrm>
          <a:prstGeom prst="rect">
            <a:avLst/>
          </a:prstGeom>
          <a:ln w="0">
            <a:noFill/>
          </a:ln>
        </p:spPr>
      </p:pic>
      <p:sp>
        <p:nvSpPr>
          <p:cNvPr id="469" name="WordArt 9"/>
          <p:cNvSpPr txBox="1"/>
          <p:nvPr/>
        </p:nvSpPr>
        <p:spPr>
          <a:xfrm>
            <a:off x="539640" y="333360"/>
            <a:ext cx="64087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0" name="Picture 4" descr="11"/>
          <p:cNvPicPr/>
          <p:nvPr/>
        </p:nvPicPr>
        <p:blipFill>
          <a:blip r:embed="rId2"/>
          <a:stretch/>
        </p:blipFill>
        <p:spPr>
          <a:xfrm>
            <a:off x="6143760" y="642960"/>
            <a:ext cx="2714400" cy="27147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9" descr="1"/>
          <p:cNvPicPr/>
          <p:nvPr/>
        </p:nvPicPr>
        <p:blipFill>
          <a:blip r:embed="rId3"/>
          <a:stretch/>
        </p:blipFill>
        <p:spPr>
          <a:xfrm>
            <a:off x="3000240" y="9698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2"/>
          <p:cNvPicPr/>
          <p:nvPr/>
        </p:nvPicPr>
        <p:blipFill>
          <a:blip r:embed="rId4"/>
          <a:stretch/>
        </p:blipFill>
        <p:spPr>
          <a:xfrm>
            <a:off x="357120" y="37861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C:\ФОТО ПРИРОДА\1.18.jpg"/>
          <p:cNvPicPr/>
          <p:nvPr/>
        </p:nvPicPr>
        <p:blipFill>
          <a:blip r:embed="rId5"/>
          <a:stretch/>
        </p:blipFill>
        <p:spPr>
          <a:xfrm>
            <a:off x="4786200" y="3786120"/>
            <a:ext cx="4143600" cy="26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Rectangle 2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0000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68360" y="642960"/>
            <a:ext cx="781848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Черноземные почвы степей знамениты своим плодородием. Поэтому лесостепи и степи почти полностью распаханы. Естественная растительность осталась только в заповедниках и местах, неудобных для распашки. Соотношение тепла и влаги в них благоприятно для возделывания различных культурных растений — зерновых, сахарной свеклы, подсолнечника. В степях, а иногда и в лесостепях бывают засухи, следовательно, необходимо орошени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9:22Z</dcterms:created>
  <dc:creator>Елена</dc:creator>
  <dc:description/>
  <dc:language>en-US</dc:language>
  <cp:lastModifiedBy>User</cp:lastModifiedBy>
  <dcterms:modified xsi:type="dcterms:W3CDTF">2013-02-16T06:34:59Z</dcterms:modified>
  <cp:revision>34</cp:revision>
  <dc:subject/>
  <dc:title>Слайд 1</dc:title>
</cp:coreProperties>
</file>