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E1F-E6EF-41A1-B9A3-E34BCDE3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943-2735-4100-AA46-F608A1D2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337-FAD4-4C47-A359-4CB8F8BC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DB5-58E8-4E0E-9634-D5DD125B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007C8-3B2B-4DB9-862E-99EECC6D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DF3FC-70C4-4877-88F2-DAFDEC41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77F2C-4E3D-40F2-ABB3-079359CB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77494-73B6-46B9-A488-83A15E29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E561E-22DE-42D6-B380-BDBAE980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639D5-42F7-4924-950B-348AB671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4F9D8-C31F-41E5-A7F3-29EE0330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3A9-1C05-4BD5-A43C-A9C01038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96BBD-EA0E-475F-9F72-BA2020E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61825-90EA-44AD-8AC0-E31F27F8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008A6-2432-4ACC-985D-EA20EF68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4B36D-4BCD-4298-B692-6F0689F4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4B0D9-58B2-49CE-BC1A-6B6AED23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4D5F-D343-49AF-ACE8-91F4CEC0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D0A2-8569-47D3-BA50-3B88BD3A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AA1C9-ED7E-40AF-8BA1-D2ABB355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D6EA8-262C-42D6-949E-626A6CD7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8ADE8-70F3-47A1-8545-5702C8FE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52F-E8C1-4C8C-8EB0-2089FF4C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C8B4-2830-4899-8276-396DB888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69AA2-0B30-478A-8C6A-D4CE9AFB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9711-3A6C-4F73-9C31-841BB466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5629-622B-4D1F-BEF2-F116CDF2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7A457-FA84-451C-A340-691FB183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6E7FA-5846-4D9D-A83D-079CD2DB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0E8E-A295-45A1-964D-175F50B1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A90B32-EF81-4026-9C75-F5E5289D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28B691-9279-41EE-88C4-A821282F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40AEB-8ADC-480C-BFBF-A0BF9ED0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51C-DF03-43D8-BD1F-15E6281F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16AE06-17DC-4A35-9979-D06E470B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F61A5-8094-4177-8AFE-DA970AD6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2269F5-F2D1-458E-A27F-F0BAE0A0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1BA6E-F629-491E-98C5-C5F97764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9B869-10A8-4D55-8CA3-3269C8B6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BBC8D1-DA7B-4AB9-9EC1-D70ADDD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E8603D-CBA8-4EEC-9AD3-FE7F253A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D2AB0E-6B05-4D2C-8EB9-4CAE90F8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22C6F-5F28-4559-9F95-87F046BD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15F-EA28-40F5-8366-FE85BA5B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A88-44D9-47CC-90A0-3D3E47C2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D54-2BB3-4B3C-92F5-A7A21BA4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157E-E594-4837-9DF0-F3CDFACA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169-F327-483B-B3D9-F5F15128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C01E-89F6-40EE-80BD-DED2C63BB72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DA6-134C-493D-894F-42A513E3DB3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4D70-C597-4EA2-842C-1E6400E8DC0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D0B2-906E-4E17-BD81-CC6A0B32B17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714560" y="4285800"/>
            <a:ext cx="40482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Constantia"/>
              </a:rPr>
              <a:t>Составила Мостовая М.Н.,     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Constantia"/>
              </a:rPr>
              <a:t>учитель ОПК МБОУ СОШ № 5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fefac9"/>
                </a:solidFill>
                <a:latin typeface="Constantia"/>
              </a:rPr>
              <a:t>Абинского района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fefac9"/>
                </a:solidFill>
                <a:latin typeface="Constantia"/>
              </a:rPr>
              <a:t>Краснодарского кр</a:t>
            </a: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ая</a:t>
            </a: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3" name="Содержимое 6" descr="metropolit.jpg"/>
          <p:cNvPicPr/>
          <p:nvPr/>
        </p:nvPicPr>
        <p:blipFill>
          <a:blip r:embed="rId1"/>
          <a:stretch/>
        </p:blipFill>
        <p:spPr>
          <a:xfrm>
            <a:off x="285840" y="214200"/>
            <a:ext cx="4357440" cy="385776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7" descr="patriarh.jpg"/>
          <p:cNvPicPr/>
          <p:nvPr/>
        </p:nvPicPr>
        <p:blipFill>
          <a:blip r:embed="rId2"/>
          <a:stretch/>
        </p:blipFill>
        <p:spPr>
          <a:xfrm>
            <a:off x="4500720" y="2714760"/>
            <a:ext cx="442908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Содержимое 6" descr="15.jpg"/>
          <p:cNvPicPr/>
          <p:nvPr/>
        </p:nvPicPr>
        <p:blipFill>
          <a:blip r:embed="rId1"/>
          <a:stretch/>
        </p:blipFill>
        <p:spPr>
          <a:xfrm>
            <a:off x="2500200" y="1357200"/>
            <a:ext cx="4214880" cy="5286600"/>
          </a:xfrm>
          <a:prstGeom prst="rect">
            <a:avLst/>
          </a:prstGeom>
          <a:ln w="0">
            <a:noFill/>
          </a:ln>
        </p:spPr>
      </p:pic>
      <p:pic>
        <p:nvPicPr>
          <p:cNvPr id="176" name="Заголовок 4" descr=""/>
          <p:cNvPicPr/>
          <p:nvPr/>
        </p:nvPicPr>
        <p:blipFill>
          <a:blip r:embed="rId2"/>
          <a:stretch/>
        </p:blipFill>
        <p:spPr>
          <a:xfrm>
            <a:off x="426960" y="212760"/>
            <a:ext cx="822960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Текст 7" descr=""/>
          <p:cNvPicPr/>
          <p:nvPr/>
        </p:nvPicPr>
        <p:blipFill>
          <a:blip r:embed="rId1"/>
          <a:stretch/>
        </p:blipFill>
        <p:spPr>
          <a:xfrm>
            <a:off x="457200" y="360360"/>
            <a:ext cx="4041720" cy="122400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11" descr="Гавриил.jpg"/>
          <p:cNvPicPr/>
          <p:nvPr/>
        </p:nvPicPr>
        <p:blipFill>
          <a:blip r:embed="rId2"/>
          <a:stretch/>
        </p:blipFill>
        <p:spPr>
          <a:xfrm>
            <a:off x="5572080" y="1857240"/>
            <a:ext cx="2571840" cy="4286520"/>
          </a:xfrm>
          <a:prstGeom prst="rect">
            <a:avLst/>
          </a:prstGeom>
          <a:ln w="0">
            <a:noFill/>
          </a:ln>
        </p:spPr>
      </p:pic>
      <p:pic>
        <p:nvPicPr>
          <p:cNvPr id="179" name="Содержимое 12" descr="Михаил.jpg"/>
          <p:cNvPicPr/>
          <p:nvPr/>
        </p:nvPicPr>
        <p:blipFill>
          <a:blip r:embed="rId3"/>
          <a:stretch/>
        </p:blipFill>
        <p:spPr>
          <a:xfrm>
            <a:off x="1071720" y="1857240"/>
            <a:ext cx="2643120" cy="43578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593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grpSp>
        <p:nvGrpSpPr>
          <p:cNvPr id="181" name="Текст 9"/>
          <p:cNvGrpSpPr/>
          <p:nvPr/>
        </p:nvGrpSpPr>
        <p:grpSpPr>
          <a:xfrm>
            <a:off x="4651200" y="360360"/>
            <a:ext cx="4035600" cy="1066680"/>
            <a:chOff x="4651200" y="360360"/>
            <a:chExt cx="4035600" cy="1066680"/>
          </a:xfrm>
        </p:grpSpPr>
        <p:pic>
          <p:nvPicPr>
            <p:cNvPr id="182" name="Текст 9" descr=""/>
            <p:cNvPicPr/>
            <p:nvPr/>
          </p:nvPicPr>
          <p:blipFill>
            <a:blip r:embed="rId4"/>
            <a:stretch/>
          </p:blipFill>
          <p:spPr>
            <a:xfrm>
              <a:off x="4653720" y="363240"/>
              <a:ext cx="4031280" cy="10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651200" y="360360"/>
              <a:ext cx="40356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efac9"/>
                  </a:solidFill>
                  <a:latin typeface="Constantia"/>
                </a:rPr>
                <a:t>Святой Архангел Гаврии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Содержимое 8" descr="Святой Дмитрий Солунский.jpg"/>
          <p:cNvPicPr/>
          <p:nvPr/>
        </p:nvPicPr>
        <p:blipFill>
          <a:blip r:embed="rId1"/>
          <a:stretch/>
        </p:blipFill>
        <p:spPr>
          <a:xfrm>
            <a:off x="2643120" y="1500120"/>
            <a:ext cx="3929040" cy="5000760"/>
          </a:xfrm>
          <a:prstGeom prst="rect">
            <a:avLst/>
          </a:prstGeom>
          <a:ln w="0">
            <a:noFill/>
          </a:ln>
        </p:spPr>
      </p:pic>
      <p:pic>
        <p:nvPicPr>
          <p:cNvPr id="185" name="Заголовок 6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Содержимое 3" descr="Благовещение.jpg"/>
          <p:cNvPicPr/>
          <p:nvPr/>
        </p:nvPicPr>
        <p:blipFill>
          <a:blip r:embed="rId1"/>
          <a:stretch/>
        </p:blipFill>
        <p:spPr>
          <a:xfrm>
            <a:off x="2643120" y="1428840"/>
            <a:ext cx="4143600" cy="5143320"/>
          </a:xfrm>
          <a:prstGeom prst="rect">
            <a:avLst/>
          </a:prstGeom>
          <a:ln w="0">
            <a:noFill/>
          </a:ln>
        </p:spPr>
      </p:pic>
      <p:pic>
        <p:nvPicPr>
          <p:cNvPr id="187" name="Заголовок 2" descr=""/>
          <p:cNvPicPr/>
          <p:nvPr/>
        </p:nvPicPr>
        <p:blipFill>
          <a:blip r:embed="rId2"/>
          <a:stretch/>
        </p:blipFill>
        <p:spPr>
          <a:xfrm>
            <a:off x="262080" y="152280"/>
            <a:ext cx="8600760" cy="1463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Текст 4" descr=""/>
          <p:cNvPicPr/>
          <p:nvPr/>
        </p:nvPicPr>
        <p:blipFill>
          <a:blip r:embed="rId1"/>
          <a:stretch/>
        </p:blipFill>
        <p:spPr>
          <a:xfrm>
            <a:off x="353880" y="285840"/>
            <a:ext cx="4145040" cy="115884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8" descr="Господь Вседержитель.jpg"/>
          <p:cNvPicPr/>
          <p:nvPr/>
        </p:nvPicPr>
        <p:blipFill>
          <a:blip r:embed="rId2"/>
          <a:stretch/>
        </p:blipFill>
        <p:spPr>
          <a:xfrm>
            <a:off x="1000080" y="1714680"/>
            <a:ext cx="2786040" cy="4572000"/>
          </a:xfrm>
          <a:prstGeom prst="rect">
            <a:avLst/>
          </a:prstGeom>
          <a:ln w="0">
            <a:noFill/>
          </a:ln>
        </p:spPr>
      </p:pic>
      <p:pic>
        <p:nvPicPr>
          <p:cNvPr id="190" name="Содержимое 9" descr="Святой Апостол Петр.jpg"/>
          <p:cNvPicPr/>
          <p:nvPr/>
        </p:nvPicPr>
        <p:blipFill>
          <a:blip r:embed="rId3"/>
          <a:stretch/>
        </p:blipFill>
        <p:spPr>
          <a:xfrm>
            <a:off x="5072040" y="1785960"/>
            <a:ext cx="3071880" cy="44290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4593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grpSp>
        <p:nvGrpSpPr>
          <p:cNvPr id="192" name="Текст 6"/>
          <p:cNvGrpSpPr/>
          <p:nvPr/>
        </p:nvGrpSpPr>
        <p:grpSpPr>
          <a:xfrm>
            <a:off x="4651200" y="285840"/>
            <a:ext cx="4035600" cy="927000"/>
            <a:chOff x="4651200" y="285840"/>
            <a:chExt cx="4035600" cy="927000"/>
          </a:xfrm>
        </p:grpSpPr>
        <p:pic>
          <p:nvPicPr>
            <p:cNvPr id="193" name="Текст 6" descr=""/>
            <p:cNvPicPr/>
            <p:nvPr/>
          </p:nvPicPr>
          <p:blipFill>
            <a:blip r:embed="rId4"/>
            <a:stretch/>
          </p:blipFill>
          <p:spPr>
            <a:xfrm>
              <a:off x="4653720" y="285840"/>
              <a:ext cx="40312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651200" y="285840"/>
              <a:ext cx="403560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efac9"/>
                  </a:solidFill>
                  <a:latin typeface="Constantia"/>
                </a:rPr>
                <a:t>Святой Апостол Петр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Текст 1" descr=""/>
          <p:cNvPicPr/>
          <p:nvPr/>
        </p:nvPicPr>
        <p:blipFill>
          <a:blip r:embed="rId1"/>
          <a:stretch/>
        </p:blipFill>
        <p:spPr>
          <a:xfrm>
            <a:off x="426960" y="360360"/>
            <a:ext cx="420552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Содержимое 6" descr="Пресвятая Богородица Иверская.jpg"/>
          <p:cNvPicPr/>
          <p:nvPr/>
        </p:nvPicPr>
        <p:blipFill>
          <a:blip r:embed="rId2"/>
          <a:stretch/>
        </p:blipFill>
        <p:spPr>
          <a:xfrm>
            <a:off x="857160" y="1785960"/>
            <a:ext cx="3071880" cy="4429080"/>
          </a:xfrm>
          <a:prstGeom prst="rect">
            <a:avLst/>
          </a:prstGeom>
          <a:ln w="0">
            <a:noFill/>
          </a:ln>
        </p:spPr>
      </p:pic>
      <p:pic>
        <p:nvPicPr>
          <p:cNvPr id="197" name="Содержимое 7" descr="Пресвятая Богородица Умягчение всех сердец.jpg"/>
          <p:cNvPicPr/>
          <p:nvPr/>
        </p:nvPicPr>
        <p:blipFill>
          <a:blip r:embed="rId3"/>
          <a:stretch/>
        </p:blipFill>
        <p:spPr>
          <a:xfrm>
            <a:off x="5214960" y="1643040"/>
            <a:ext cx="3071880" cy="4572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517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grpSp>
        <p:nvGrpSpPr>
          <p:cNvPr id="199" name="Текст 5"/>
          <p:cNvGrpSpPr/>
          <p:nvPr/>
        </p:nvGrpSpPr>
        <p:grpSpPr>
          <a:xfrm>
            <a:off x="4651200" y="285840"/>
            <a:ext cx="4035600" cy="1287360"/>
            <a:chOff x="4651200" y="285840"/>
            <a:chExt cx="4035600" cy="1287360"/>
          </a:xfrm>
        </p:grpSpPr>
        <p:pic>
          <p:nvPicPr>
            <p:cNvPr id="200" name="Текст 5" descr=""/>
            <p:cNvPicPr/>
            <p:nvPr/>
          </p:nvPicPr>
          <p:blipFill>
            <a:blip r:embed="rId4"/>
            <a:stretch/>
          </p:blipFill>
          <p:spPr>
            <a:xfrm>
              <a:off x="4653720" y="285840"/>
              <a:ext cx="403128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651200" y="285840"/>
              <a:ext cx="40356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efac9"/>
                  </a:solidFill>
                  <a:latin typeface="Constantia"/>
                </a:rPr>
                <a:t>Пресвятая Богородица Умягчение Злых Сердец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3:29:55Z</dcterms:created>
  <dc:creator>ДОМ</dc:creator>
  <dc:description/>
  <dc:language>en-US</dc:language>
  <cp:lastModifiedBy>Дом</cp:lastModifiedBy>
  <dcterms:modified xsi:type="dcterms:W3CDTF">2011-04-25T07:32:14Z</dcterms:modified>
  <cp:revision>6</cp:revision>
  <dc:subject/>
  <dc:title>Иконописец  Владимир Бутов</dc:title>
</cp:coreProperties>
</file>