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3BB-CA99-45B8-99FB-B30F7AC3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08F-63E3-43D2-A0E8-6E9AF7FC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562-EB00-4A4F-927D-B7571273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D6D-1401-46FB-BD45-2D0B9AE6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7E66-2F16-4CE9-A1F4-D104AEE9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B545-1856-418C-9F10-28147079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CFCA-9F8A-4D86-BCDA-328E302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D6A5-079F-4E29-9302-FAEBC94C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3851-DABA-42D9-9C02-ADBC6355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A024-B29D-4338-AE48-1D88B7CD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8483-2270-40E1-ADDF-9BC32A6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338-0610-4962-858A-91F0FD7D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BFF6-7ECA-4096-97EC-C33CFE7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BE21-3C9C-411F-88BF-F43CE5C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B6D3-9864-4863-84D2-919D47C6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3558-2313-4DE3-B9F9-2AE8805A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CB53-63E4-4BD6-8919-C5841052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87A-56AA-4973-861C-64E69D0E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571-EEC7-4795-ACBB-17DE6010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A06-90B0-46DC-92B3-1CA105F9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C29-11A6-476E-B974-C62DACF6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925-2458-4399-8D10-F1E7A76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AF1-8E4C-4FB9-8B35-6564605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5D5-FDA5-4E97-A96F-E0BA8529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E611-B5EE-4265-BC49-24004C29F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D361-78E4-42FB-AE43-B80AC4D593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Здоровье личности и народа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pic>
        <p:nvPicPr>
          <p:cNvPr id="99" name="Picture 12" descr="7"/>
          <p:cNvPicPr/>
          <p:nvPr/>
        </p:nvPicPr>
        <p:blipFill>
          <a:blip r:embed="rId1"/>
          <a:stretch/>
        </p:blipFill>
        <p:spPr>
          <a:xfrm>
            <a:off x="250920" y="1557360"/>
            <a:ext cx="8713800" cy="51847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4286160" y="5357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0e5"/>
                </a:solidFill>
                <a:latin typeface="Arial"/>
              </a:rPr>
              <a:t>Составила Мостовая М.Н.,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0e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90e5"/>
                </a:solidFill>
                <a:latin typeface="Arial"/>
              </a:rPr>
              <a:t>учитель ОПК МБОУ СОШ №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0e5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90e5"/>
                </a:solidFill>
                <a:latin typeface="Arial"/>
              </a:rPr>
              <a:t>Абинского рай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0e5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90e5"/>
                </a:solidFill>
                <a:latin typeface="Arial"/>
              </a:rPr>
              <a:t>Краснодар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720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17960" y="476280"/>
            <a:ext cx="3927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очитай врача честью по надобности в нем; ибо Господь создал его и от Вышняго врачевание: Господь создал из земли врачевства, и благоразумный человек не будет пренебрегать ими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исус, сын Сирах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0000050782-preview"/>
          <p:cNvPicPr/>
          <p:nvPr/>
        </p:nvPicPr>
        <p:blipFill>
          <a:blip r:embed="rId1"/>
          <a:stretch/>
        </p:blipFill>
        <p:spPr>
          <a:xfrm>
            <a:off x="250920" y="476280"/>
            <a:ext cx="453708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3141720"/>
            <a:ext cx="45864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…Кто научился благодарить Бога за свои болезни, тот недалек от святост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оанн Златоу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0" descr="0000050832-preview"/>
          <p:cNvPicPr/>
          <p:nvPr/>
        </p:nvPicPr>
        <p:blipFill>
          <a:blip r:embed="rId1"/>
          <a:stretch/>
        </p:blipFill>
        <p:spPr>
          <a:xfrm>
            <a:off x="4859280" y="260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17960" y="692280"/>
            <a:ext cx="3927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ьянство – вражда на Бога…Пьянство отгоняет Святого Дух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итель Василий Вели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ьянство – корень всех зол… Пьяница – живой мертвец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оанн Златоу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33476"/>
          <p:cNvPicPr/>
          <p:nvPr/>
        </p:nvPicPr>
        <p:blipFill>
          <a:blip r:embed="rId1"/>
          <a:stretch/>
        </p:blipFill>
        <p:spPr>
          <a:xfrm>
            <a:off x="0" y="692280"/>
            <a:ext cx="478800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3927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комания и алкоголизм становятся проявлением духовной болезни не только отдельного человека, но всего об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100"/>
          <p:cNvPicPr/>
          <p:nvPr/>
        </p:nvPicPr>
        <p:blipFill>
          <a:blip r:embed="rId1"/>
          <a:stretch/>
        </p:blipFill>
        <p:spPr>
          <a:xfrm>
            <a:off x="5734080" y="1557360"/>
            <a:ext cx="2798640" cy="4167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41f5a487b195354be63a5bb3a485"/>
          <p:cNvPicPr/>
          <p:nvPr/>
        </p:nvPicPr>
        <p:blipFill>
          <a:blip r:embed="rId1"/>
          <a:stretch/>
        </p:blipFill>
        <p:spPr>
          <a:xfrm>
            <a:off x="826920" y="260280"/>
            <a:ext cx="777744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2:00:44Z</dcterms:created>
  <dc:creator>Дом</dc:creator>
  <dc:description/>
  <dc:language>en-US</dc:language>
  <cp:lastModifiedBy>Дом</cp:lastModifiedBy>
  <dcterms:modified xsi:type="dcterms:W3CDTF">2011-04-25T07:31:51Z</dcterms:modified>
  <cp:revision>7</cp:revision>
  <dc:subject/>
  <dc:title>Здоровье личности и народа</dc:title>
</cp:coreProperties>
</file>