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CC6E-5E99-45DD-A646-F725E687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2386-2905-414E-B25B-FBFFAE91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DE2F-94A8-4D9B-B144-007A3E35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CAF4-3A66-44E2-AD65-1DE401BD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C74F-A835-480C-859A-96C3F0A2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1B93-02C5-429D-9259-268F1E06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5F89-2732-4C7F-9E61-3048E6C5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8939-3A34-48FE-96BA-434A1438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3330-1C9E-4861-9C50-6FF67A49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CE74-0DF7-4605-8AB7-EE8486AF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7992-3F17-4486-98D8-4CBF9B2C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D6D3-13D2-4884-8880-6B618440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7B45-9D43-457A-81A0-8A4E22F9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4AA3-355E-4AF4-ABA0-ADEBC998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BD42-560A-4924-ABAD-B5E56CC4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439C-FA6F-41D9-BBA3-12D25452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48C4-FFD7-4DDA-B192-D32E3813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E6700-CDCE-46D3-8370-3F6A9AB9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6E160-D723-4E96-B2AB-631F22B6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DD76E-B692-4475-967E-A8732FC0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D5E00-252E-46AC-B747-947A51E0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4046D-BFAA-47C8-8AE4-B8FFBDC4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4668-A844-427E-8AE8-8EE4AEF6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73657-520F-4E78-B599-4436D2D5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CD4CA-0F91-4808-9F06-FFCCF462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4346D-300D-4FCB-9B0A-0EB14E39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F43FB-D592-4516-A584-45EBB4E4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D17F3-2D05-4B0A-9F07-05FA2DBB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5695D-F5A9-43EF-AD05-AA77614D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E093A-0842-4034-9AE2-B4051D24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92674-820F-4E25-BE3E-CC0C5ED0E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690BE-5B54-4E90-BCA8-A72D698D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F2060-01D2-4A97-9E78-D40236C7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F5FD-53F0-46B7-8260-AACF69D4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FFB46-6AD0-49B3-BC4E-45040E3D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F4E33-AB60-4DB9-8FBA-C91B37B0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63A35-C832-497F-8C2C-88E6CD17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56B10-3C17-4D98-A386-75F7FBDB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FA6D2-88FE-4A7D-AE99-E3E4860B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F66DE-DDE0-49A1-8F11-7A8CB878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3BBBB-1FD8-4164-B031-DB1FAB8C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D848C-7727-4D52-8E0F-670DA1F4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376BC-AAB8-4C65-ACE8-A34EAE72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1F025-DC67-401B-B405-6F459564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402C-13D1-41F3-9621-4189BF55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BB0D6-DF23-4CD1-9C13-5096CEC0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277F8-7B14-4E27-ACB2-3D5FD26B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BE853-6463-4DAD-B1FA-EF1993F6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138E5-FD89-427D-BFEA-324E70CD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C9B19-1D2A-4411-8CC0-4C9B8DF6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D7E3C-AB15-4AA1-BA12-F1470FE1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F0635-4DE1-4702-BCCA-530E2919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4D5D5-0F79-4451-B462-D77E6849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94600-5519-4FEA-B4ED-5AF09408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05856-B5F3-40F2-A4DD-3C37B4FF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5586-ADF1-4D9A-83B4-200E36D1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D2CDC-5ADA-4B41-8AFA-8C1B2A7F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C43178-3B25-4C53-B23E-207E0A91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5B493C-36B1-4573-AD17-60E2AD7E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87A24E-B1B8-408B-A6AC-58C855AB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E85388-EC5D-4D17-835F-978BB4DF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D12610-8486-4025-A0AA-36B90714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5ECF17-DA5A-40B7-BD15-C473F1E5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2835B8-0CBC-496E-B0B1-47BB0C37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E5ABAB-534E-466D-88DC-14406D64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48A075-58FB-47D7-8BDE-4CEEE40B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258B-4F78-4B89-989D-B11D1A08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6B846A-7543-4139-A2FE-243C75FC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BC5C7B-2624-4DC4-9CDB-B534E88E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3B12F7-D74A-43C8-8DA8-FA9FBA67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5DD96-06AB-49CD-8338-6888F135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0F848-3359-47A7-9120-674E2172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C7F4E-B5D9-43D2-B680-022F096A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DEAF9-5A61-4C36-9E17-3C934897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1CF8F-39E6-49C7-BFF9-547EC26A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6F461-E43C-47F1-B7D9-7E1CB051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06B9A-200A-45EE-9FBB-A6C8CAEE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A2BE-9E39-4243-884A-DE044664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C4AB9-A111-483F-844B-BB1193A4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4387B-AD5E-4C63-9CBB-9A5D0BB8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B5B98-EB16-44C8-BB31-2A9F736B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10975-7201-4AA2-A3A0-D7B1767E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68AB2-8396-471E-9AC4-980610D3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DAB5F-C2BB-4CA6-ADE5-F9BEDC47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89F47-0D52-4E24-BB5A-5E16271F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DE6AB-C802-40EB-965A-B9F9B642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20B2E-0FDE-47B7-A93F-96FD459B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364F7-3F53-4805-AA7C-FB9116AB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CFCC-907B-45F2-98AA-145E1153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8208E-7C88-42DF-BACA-424F7D50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D1FA6-C958-4FF6-96A6-FE9E794C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9C95B-A8C2-46D5-9805-2EDFBB74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9D2F6-A0C0-43C4-882D-FA6D6160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6F1E1-07DD-4D8B-876B-FE41A49C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25230-2A85-4380-8B54-D5E56A53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4D2CE-5F1D-4693-BF79-0D653530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1247-3560-4CD6-BB4C-C78F7576C7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F2D0-31FA-4B52-A518-FA11EB2F70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9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C9FC-3D3E-4FD6-8962-A6AF8E532DD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36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D6D3-6074-4FC8-A612-27C5639FA4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96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4EC3-12F5-40D6-82D2-8046CC5F48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B89E-380D-4C8C-B812-9E1886A5F1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AD83-0DA3-49E4-B947-DFCDD9A3B37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3CA2-2C0D-4EA4-9A4B-9EC45D1158E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Церковь и светские науки, культура, образование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5357880" y="5105520"/>
            <a:ext cx="3571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ила Мостовая М.Н.,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ОПК МБОУ СОШ № 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бинского райо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аснодарского кр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-13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7720" y="765000"/>
            <a:ext cx="8007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"Истинное Слово, когда пришло, показало, что не все мнения и не все учения хороши, но одни худы, а другие хороши"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вятой Иустин Философ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бразов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484280"/>
            <a:ext cx="80074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"всякий имеющий ум признает ученость (paideusin - образование) первым для нас благом. И не только эту благороднейшую и нашу ученость, которая: имеет своим предметом одно спасение и красоту умосозерцаемого, но и ученость внешнюю, которой многие христиане по невежеству гнушаются как ненадежной, опасной и удаляющей от Бога"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ригорий Богосл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овременная нау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нцип, лежащий в основе современного научно-технического развития заключается в установке, что это развитие не должно быть ограничено какими-либо моральными, философскими или религиозными требования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обеспечения нормальной человеческой жизни как никогда необходимо возвращение к утраченной связи научного знания с религиозными духовными и нравственными ценностя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-14220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49760" y="1905120"/>
            <a:ext cx="4037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ука и религия "в распрю прийти не могут: разве кто из некоторого тщеславия и показания своего мудрования на них вражду восклеплет"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Picture 7" descr="wr007"/>
          <p:cNvPicPr/>
          <p:nvPr/>
        </p:nvPicPr>
        <p:blipFill>
          <a:blip r:embed="rId1"/>
          <a:stretch/>
        </p:blipFill>
        <p:spPr>
          <a:xfrm>
            <a:off x="250920" y="333360"/>
            <a:ext cx="3948120" cy="5762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98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вятитель Московский Филарет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"Вера Христова не во вражде с истинным знанием, потому что не в союзе с невежеством"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ультур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917960" y="1628280"/>
            <a:ext cx="3927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здав человека, Бог поместил его в раю, повелев возделывать и хранить Свое творение (Быт. 2. 15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ультура как сохранение окружающего мира и забота о нем является богозаповеданным деланием челове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Picture 6" descr="kedar_field"/>
          <p:cNvPicPr/>
          <p:nvPr/>
        </p:nvPicPr>
        <p:blipFill>
          <a:blip r:embed="rId1"/>
          <a:stretch/>
        </p:blipFill>
        <p:spPr>
          <a:xfrm>
            <a:off x="250920" y="1557360"/>
            <a:ext cx="45147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14220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333360"/>
            <a:ext cx="80074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"Писание общим именем мудрости называет вообще все мирские науки и искусства, все, до чего ум человеческий мог дойти... ибо всякое искусство и всякое знание происходит от Бога"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лимент Александрийск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14220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7720" y="404640"/>
            <a:ext cx="800748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"Как в искусной музыкальной гармонии каждая струна издает различный звук, одна - высокий, другая - низкий, так и в этом Художник и Творец-Слово, хотя и поставил различных изобретателей различных занятий и искусств, но все дал в распоряжение всех желающих, чтобы соединить наc узами общения и человеколюбия и сделать нашу жизнь более цивилизованной"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игорий Богос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Церковь восприняла многое из созданного человечеством в области искусства и культуры.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8" name="Picture 6" descr="0_506d_13024b5e_L"/>
          <p:cNvPicPr/>
          <p:nvPr/>
        </p:nvPicPr>
        <p:blipFill>
          <a:blip r:embed="rId1"/>
          <a:stretch/>
        </p:blipFill>
        <p:spPr>
          <a:xfrm>
            <a:off x="1147680" y="2349360"/>
            <a:ext cx="3143160" cy="41911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Иверская икона Божией матери"/>
          <p:cNvPicPr/>
          <p:nvPr/>
        </p:nvPicPr>
        <p:blipFill>
          <a:blip r:embed="rId2"/>
          <a:stretch/>
        </p:blipFill>
        <p:spPr>
          <a:xfrm>
            <a:off x="5724360" y="2276640"/>
            <a:ext cx="3095640" cy="432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04:25:40Z</dcterms:created>
  <dc:creator>Дом</dc:creator>
  <dc:description/>
  <dc:language>en-US</dc:language>
  <cp:lastModifiedBy>Дом</cp:lastModifiedBy>
  <dcterms:modified xsi:type="dcterms:W3CDTF">2011-04-25T07:33:40Z</dcterms:modified>
  <cp:revision>5</cp:revision>
  <dc:subject/>
  <dc:title>Церковь и светские науки, культура, образование, средства массовой информации</dc:title>
</cp:coreProperties>
</file>