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8B64-0E43-4C36-9156-7642AFA4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80F3-DF5C-4EAF-8C72-F55EF961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C76-7299-4E82-9135-B3EB7CB0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7826-5D13-4209-9CA0-AA5A4D5B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FE7-5CB3-4649-9CAA-A8D4026B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636B-9CFB-4207-AF5E-9B519FB2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6E3-9294-46A0-970F-5FB1AE3A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C37-8AF5-4527-9079-CB27CB45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54D4-A64E-46B0-AD19-3708BFDF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D353-77DF-4945-8FE0-4B59F224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8E3-7153-4711-AFB5-A40FD6D2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483-F48F-4618-BDB5-C5A0D004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E874-2B30-4644-B95C-08BDA71A23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800"/>
                </a:solidFill>
                <a:latin typeface="Arial"/>
              </a:rPr>
              <a:t>Церковь и международные отнош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0_506d_13024b5e_L"/>
          <p:cNvPicPr/>
          <p:nvPr/>
        </p:nvPicPr>
        <p:blipFill>
          <a:blip r:embed="rId1"/>
          <a:stretch/>
        </p:blipFill>
        <p:spPr>
          <a:xfrm>
            <a:off x="428760" y="1428840"/>
            <a:ext cx="4176720" cy="51130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4929120" y="550080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Составила Мостовая М.Н.,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учитель ОПК МБОУ СОШ №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Абин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Краснодарско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75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cc"/>
                </a:solidFill>
                <a:latin typeface="Arial"/>
              </a:rPr>
              <a:t>Церковь стремится к утверждению христианских ценностей в процессе принятия важнейших общественных решений как на национальном, так и на международном уровне. Она добивается признания легитимности религиозного мировоззрения как основания для общественно значимых деяний (в том числе государственных) и как существенного фактора, которые должны влиять на формирование (изменение) международного права и на деятельность международных организаций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0_5059_59ef8027_L"/>
          <p:cNvPicPr/>
          <p:nvPr/>
        </p:nvPicPr>
        <p:blipFill>
          <a:blip r:embed="rId1"/>
          <a:stretch/>
        </p:blipFill>
        <p:spPr>
          <a:xfrm>
            <a:off x="108000" y="620640"/>
            <a:ext cx="43876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Народы и государства вступают друг с другом в экономические, политические, военные и иные отношения. В результате государства возникают и исчезают, меняют свои границы, объединяются или разделяются; они также создают или упраздняют различные союзы. В Священном Писании содержатся многочисленные исторические свидетельства о построении международных отношений</a:t>
            </a:r>
            <a:r>
              <a:rPr b="0" lang="ru-RU" sz="3200" spc="-1" strike="noStrike">
                <a:solidFill>
                  <a:srgbClr val="00a8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3164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Христианский идеал поведения народа и правительства в сфере международных отношений заключается в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"золотом правиле":</a:t>
            </a: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"Во всем, как хотите, чтобы с вами поступали люди, так поступайте и вы с ними" (Мф. 7. 12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0_505b_e2a403ce_L"/>
          <p:cNvPicPr/>
          <p:nvPr/>
        </p:nvPicPr>
        <p:blipFill>
          <a:blip r:embed="rId1"/>
          <a:stretch/>
        </p:blipFill>
        <p:spPr>
          <a:xfrm>
            <a:off x="0" y="981000"/>
            <a:ext cx="4788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44956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"Если возможно с вашей стороны, будьте в мире со всеми людьми" (Рим. 12. 1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Апостол Пав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"Вспомним закон, исполним волю Божественного Начальника мира - не помнить зла, прощать оскорбления, быть мирными даже 'с ненавидящими мир' кольми паче с предлагающими прекращение вражды и простирающими руку мирную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Святитель Филарет 1856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0_505a_5762214d_L"/>
          <p:cNvPicPr/>
          <p:nvPr/>
        </p:nvPicPr>
        <p:blipFill>
          <a:blip r:embed="rId1"/>
          <a:stretch/>
        </p:blipFill>
        <p:spPr>
          <a:xfrm>
            <a:off x="4648320" y="1125360"/>
            <a:ext cx="44956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a800"/>
                </a:solidFill>
                <a:latin typeface="Arial"/>
              </a:rPr>
              <a:t>Не отрицая исторического значения моноэтнического государства, Православная Церковь одновременно приветствует добровольное объединение народов в единый организм и создание государств многонациональных, если в них не нарушаются права какого-либо из народ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Помня о том, что единство есть благо, а разобщенность - зло, Церковь приветствует тенденции к объединению стран и народов, особенно имеющих историческую и культурную общность, при условии, что эти объединения не направлены против третьей сторо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Приветствуется международное сотрудничество в культурной, научной, просветительской, информационной областях, если оно устрояется на равноправной и взаимоуважительной основе, направлено на обогащение каждого из вовлеченных в него народов опытом, знаниями и плодами творческих достиж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Международные орган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Международные организации способствуют разрешению различных споров и конфликтов. С другой стороны, эти организации могут становиться средствами несправедливого доминирования стран сильных над слабыми, богатых над бедными, технологически и информационно развитых над остальным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При проведении политики, связанной с принятием обязывающих международных соглашений и действиями международных организаций, правительства должны отстаивать духовную, культурную и иную самобытность стран и народов, законные интересы государств. В рамках самих международных организаций необходимо обеспечить равенство суверенных государств в доступе к механизмам принятия решений и в праве решающего голо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3:36:40Z</dcterms:created>
  <dc:creator>Дом</dc:creator>
  <dc:description/>
  <dc:language>en-US</dc:language>
  <cp:lastModifiedBy>Дом</cp:lastModifiedBy>
  <dcterms:modified xsi:type="dcterms:W3CDTF">2011-04-25T07:33:08Z</dcterms:modified>
  <cp:revision>4</cp:revision>
  <dc:subject/>
  <dc:title>Церковь и международные отношения.</dc:title>
</cp:coreProperties>
</file>