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7.jpeg" ContentType="image/jpeg"/>
  <Override PartName="/ppt/media/image11.png" ContentType="image/png"/>
  <Override PartName="/ppt/media/image32.gif" ContentType="image/gif"/>
  <Override PartName="/ppt/media/image19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29.gif" ContentType="image/gif"/>
  <Override PartName="/ppt/media/image36.jpeg" ContentType="image/jpeg"/>
  <Override PartName="/ppt/media/image37.gif" ContentType="image/gif"/>
  <Override PartName="/ppt/media/image6.png" ContentType="image/png"/>
  <Override PartName="/ppt/media/image26.gif" ContentType="image/gif"/>
  <Override PartName="/ppt/media/image20.jpeg" ContentType="image/jpeg"/>
  <Override PartName="/ppt/media/image4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E50-5FAE-4725-8CDC-3D152EFA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89E-01C6-474E-89C0-C22C74D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BC2-D3A3-42BB-BE9B-6C2F6685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88E-9794-48A5-90E6-C18D471F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2C0-A9BE-45D8-A11D-B3341E2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B8D-9DC1-4244-B42A-986B1E8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647-59BA-455A-95AD-3A859B1F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3C6-F23D-491F-8A36-3862968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A90-85C6-4F17-BC6F-63931CC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A64-B3DD-4759-87D6-FA7D3CD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553-D474-47C9-80E4-68DDD9A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6A0-7885-4D58-A8C0-C1C3E32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1D8-0674-446D-A9F2-EBB3D9310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31948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554040" y="2809800"/>
            <a:ext cx="801684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Наталья Юрьевна\Рабочий стол\фотографии\sp1.JPG"/>
          <p:cNvPicPr/>
          <p:nvPr/>
        </p:nvPicPr>
        <p:blipFill>
          <a:blip r:embed="rId2"/>
          <a:stretch/>
        </p:blipFill>
        <p:spPr>
          <a:xfrm>
            <a:off x="281160" y="208080"/>
            <a:ext cx="350964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:\Documents and Settings\Наталья Юрьевна\Рабочий стол\фотографии\многое\DSC01700.JPG"/>
          <p:cNvPicPr/>
          <p:nvPr/>
        </p:nvPicPr>
        <p:blipFill>
          <a:blip r:embed="rId3"/>
          <a:stretch/>
        </p:blipFill>
        <p:spPr>
          <a:xfrm>
            <a:off x="3638520" y="353880"/>
            <a:ext cx="2249640" cy="1687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C:\Documents and Settings\Наталья Юрьевна\Рабочий стол\фотографии\многое\DSC01704.JPG"/>
          <p:cNvPicPr/>
          <p:nvPr/>
        </p:nvPicPr>
        <p:blipFill>
          <a:blip r:embed="rId4"/>
          <a:stretch/>
        </p:blipFill>
        <p:spPr>
          <a:xfrm>
            <a:off x="5711760" y="993600"/>
            <a:ext cx="2737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14200" y="4857840"/>
            <a:ext cx="8715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илинка Владисл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Бронзовый призёр открытого личного первенства Краснодарского края по настольному теннису среди юношей 2010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Бронзовый призёр на Спортивных играх Народов Юг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3843360" y="3186000"/>
          <a:ext cx="1457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3186000"/>
                    <a:ext cx="1457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6" descr="C:\Documents and Settings\сош№5\Мои документы\Мои рисунки\Безымянныйнешген.JPG"/>
          <p:cNvPicPr/>
          <p:nvPr/>
        </p:nvPicPr>
        <p:blipFill>
          <a:blip r:embed="rId3"/>
          <a:stretch/>
        </p:blipFill>
        <p:spPr>
          <a:xfrm>
            <a:off x="1785960" y="214200"/>
            <a:ext cx="5562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1425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 Министерства образования и науки  РФ от 30 августа 2010 г. N 88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енные приказом Министерства образования Российской Федерации от 9 марта 2004 г. N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етий урок физической культуры должен решать следующие задач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560" y="1071720"/>
            <a:ext cx="9001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имание школьниками важной социальной роли физической культуры для развития их личности и подготовки к уче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теоретических и практических основ, используя которые можно эффективно заниматься физической культурой и формировать навык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положительного отношения школьников к физической культуре, установки на здоровый стиль жизни, физическое самосовершенствование, потребности в регулярных занятиях физическими упражнени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системой практических умений и навыков, обеспечивающих сохранение и укрепление здоровья, психическое благополучие, развитие и совершенствование индивидуальных способностей, качеств и свойств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общей физической подготовл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чальная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основными понятиями физическ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доступными упражнениями оздоровительного и общеразвивающего характе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младших школьников тем упражнениям, которые реально позволяют улучшить различные функции организма, способствуют их гармоничному развит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ж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игры и упражнения для формирования основных двигательных качест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детей знаниям по основам оздоровительной и развивающей физическ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на уроках упражнения для профилактики различных заболе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сновная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одолжить знакомить  с основами физической куль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ктивно формировать физической культуры, приспосабливаясь к индивидуальным особенностям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школьники учатся использовать полученные знания, умения и навыки на практике, в соответствии со своими потребност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едняя (полная)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 на формирование физической культуры учащихся  на основе ранее сформированных знаний, навыков и ум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ство с историей возникновения оздоровительной физической культуры, ее основными направлениями, различными оздоровительными системами, накопленными в мировой куль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шеклассники должны знать те процессы, которые происходят в организме при их выполнении. Это позволяет в том числе осмысленно подбирать и самостоятельно выполнять оздоровительные упражнения, оценивать их тренировочное влияние на орга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560" y="21420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ть с детьми по старинке, отмахиваясь от реальной ситуации, недопустимо. И именно от учителя зависит то, какое содержание получат учащиеся по предмету «физическая культура», каким предстанет учитель перед своими учениками — безразличным исполнителем-механизмом или творчески работающим педагогом, с которым интересно, с которым открываешь новые знания о себе самом, о своих возможностях и скрытых резер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урок физкультуры должен заканчиваться «на подъеме», с чувством, словно ты выпил кислородный коктейль или пробежал пятикилометровый кросс свежим весенним утр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064880"/>
            <a:ext cx="8229600" cy="27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63520" y="347760"/>
            <a:ext cx="841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сли вы будете смеяться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отя бы 10 минут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о ваш сон станет спокойным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 бодрствование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ассудительным и энергичным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риск инфаркта снизится на 50%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E:\3829e1d70ec304ed8c73521170a4ba56.gif"/>
          <p:cNvPicPr/>
          <p:nvPr/>
        </p:nvPicPr>
        <p:blipFill>
          <a:blip r:embed="rId1"/>
          <a:stretch/>
        </p:blipFill>
        <p:spPr>
          <a:xfrm>
            <a:off x="3071880" y="4000680"/>
            <a:ext cx="26431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33300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Ешьте каждый день всего-навсего 30 граммов рыбы- это снижает уровень холестерина в крови и способствует профилактике болезни сердца и кровеносных сосу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E:\Новая папка22\mpositive16.jpg"/>
          <p:cNvPicPr/>
          <p:nvPr/>
        </p:nvPicPr>
        <p:blipFill>
          <a:blip r:embed="rId1"/>
          <a:stretch/>
        </p:blipFill>
        <p:spPr>
          <a:xfrm>
            <a:off x="6929280" y="4000680"/>
            <a:ext cx="15004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9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Не подавляйте в себе негативные эмоции, вы рискуете заболеть неврозом или какой-либо соматической болезнь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E:\61f734e911a56fde3dc6a80da04f9d9a.gif"/>
          <p:cNvPicPr/>
          <p:nvPr/>
        </p:nvPicPr>
        <p:blipFill>
          <a:blip r:embed="rId1"/>
          <a:stretch/>
        </p:blipFill>
        <p:spPr>
          <a:xfrm>
            <a:off x="3071880" y="3214800"/>
            <a:ext cx="297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682560" y="493560"/>
            <a:ext cx="7785000" cy="579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Наталья Юрьевна\Рабочий стол\фото.jpg"/>
          <p:cNvPicPr/>
          <p:nvPr/>
        </p:nvPicPr>
        <p:blipFill>
          <a:blip r:embed="rId2"/>
          <a:stretch/>
        </p:blipFill>
        <p:spPr>
          <a:xfrm>
            <a:off x="1071720" y="3357720"/>
            <a:ext cx="201456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47592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Ходите больше пешком – это профилактика гипертон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E:\Новая папка22\an13.gif"/>
          <p:cNvPicPr/>
          <p:nvPr/>
        </p:nvPicPr>
        <p:blipFill>
          <a:blip r:embed="rId1"/>
          <a:stretch/>
        </p:blipFill>
        <p:spPr>
          <a:xfrm>
            <a:off x="1428840" y="3929040"/>
            <a:ext cx="6383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9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Если любите петь, то пойте каждый день – это продлевает вашу жизнь, развивает грудную мусакулатуру и укрепляет сердечную мышцу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Новая папка22\043.gif"/>
          <p:cNvPicPr/>
          <p:nvPr/>
        </p:nvPicPr>
        <p:blipFill>
          <a:blip r:embed="rId1"/>
          <a:stretch/>
        </p:blipFill>
        <p:spPr>
          <a:xfrm>
            <a:off x="6215040" y="3143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60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Не надейтесь на медицину, она неплохо лечит многие болезни, но не может сделать человека здоровым. Бойтесь попасть в плен к врачам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E:\Новая папка22\mpositive4.jpg"/>
          <p:cNvPicPr/>
          <p:nvPr/>
        </p:nvPicPr>
        <p:blipFill>
          <a:blip r:embed="rId1"/>
          <a:stretch/>
        </p:blipFill>
        <p:spPr>
          <a:xfrm>
            <a:off x="3500280" y="3714840"/>
            <a:ext cx="2143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59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Живите делами сегодняшнего дня по принципу «здесь и сейчас», не сожалейте о прошлом и особо не беспокойтесь, что будет завт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E:\78756399111dbcdbfcf00793dbe37981.gif"/>
          <p:cNvPicPr/>
          <p:nvPr/>
        </p:nvPicPr>
        <p:blipFill>
          <a:blip r:embed="rId1"/>
          <a:stretch/>
        </p:blipFill>
        <p:spPr>
          <a:xfrm>
            <a:off x="3071880" y="3500280"/>
            <a:ext cx="3143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a1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1239"/>
                </a:solidFill>
                <a:latin typeface="Times New Roman"/>
              </a:rPr>
              <a:t>Думайте больше о светлых и радостных сторонах жизни, а не о тёмных и печальных, ибо «наша жизнь есть то, что мы о ней думае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E:\Новая папка22\mpositive9.jpg"/>
          <p:cNvPicPr/>
          <p:nvPr/>
        </p:nvPicPr>
        <p:blipFill>
          <a:blip r:embed="rId1"/>
          <a:stretch/>
        </p:blipFill>
        <p:spPr>
          <a:xfrm>
            <a:off x="5143680" y="3571920"/>
            <a:ext cx="35002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22960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Надо стараться приносить радость другим людям. Делая добро другим, вы делаете его прежде всего самому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E:\f103.gif"/>
          <p:cNvPicPr/>
          <p:nvPr/>
        </p:nvPicPr>
        <p:blipFill>
          <a:blip r:embed="rId1"/>
          <a:stretch/>
        </p:blipFill>
        <p:spPr>
          <a:xfrm>
            <a:off x="6000840" y="3571920"/>
            <a:ext cx="2571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34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Умейте расслабляться и сбрасывать лишнее напряжение,т.к. нервно – психическая напряжённость – главная причина утомл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E:\Новая папка22\ange072.gif"/>
          <p:cNvPicPr/>
          <p:nvPr/>
        </p:nvPicPr>
        <p:blipFill>
          <a:blip r:embed="rId1"/>
          <a:stretch/>
        </p:blipFill>
        <p:spPr>
          <a:xfrm>
            <a:off x="6357960" y="3571920"/>
            <a:ext cx="224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Здоровье не самоцель, а лишь условие достижения счастья и благополучия в семье и на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572080" y="4214880"/>
            <a:ext cx="329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Отдыхайте до того, как пришло чувство усталост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E:\Новая папка22\gif_17_04.gif"/>
          <p:cNvPicPr/>
          <p:nvPr/>
        </p:nvPicPr>
        <p:blipFill>
          <a:blip r:embed="rId1"/>
          <a:stretch/>
        </p:blipFill>
        <p:spPr>
          <a:xfrm>
            <a:off x="5214960" y="4143240"/>
            <a:ext cx="29527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2" descr=""/>
          <p:cNvPicPr/>
          <p:nvPr/>
        </p:nvPicPr>
        <p:blipFill>
          <a:blip r:embed="rId2"/>
          <a:stretch/>
        </p:blipFill>
        <p:spPr>
          <a:xfrm>
            <a:off x="304920" y="1517760"/>
            <a:ext cx="8553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следования учё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560" y="1071720"/>
            <a:ext cx="9001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82  –  85%   дневного времени большинство учащихся находится в статическом положении (сидя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ладших школьников произвольная двигательная деятельность   (ходьба,  игры) занимает только 16 – 19% времени су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нные  формы физического  воспитания  у младших школьников занимают лишь  1  –  3  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ая   двигательная активность детей с поступлением в школу падает почти  на  5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езультаты обуч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Двигательная активно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1. челночный бег 3х10м (сек) – позволяет исследовать не только быстроту, но и косвенно оценить ловкость, координационные способности испытуем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2. прыжок в длину с места (см) -позволяет оценить скоростно-силовые возможност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3. подтягивание   у мальчиков, подъём туловища за 30 секунд у девочек (количество раз). Тесты позволяют оценить силовые возможности, силовую выносливость ребё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4. бег 6 минут (м) -тест позволяет оценить вынослив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Заболевае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Анкетирование родителей 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вигательная 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713880"/>
            <a:ext cx="2714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елночный бег 3х10 (сек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8" descr=""/>
          <p:cNvPicPr/>
          <p:nvPr/>
        </p:nvPicPr>
        <p:blipFill>
          <a:blip r:embed="rId1"/>
          <a:stretch/>
        </p:blipFill>
        <p:spPr>
          <a:xfrm>
            <a:off x="0" y="1214280"/>
            <a:ext cx="3143160" cy="2428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00440" y="785880"/>
            <a:ext cx="311292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ок в длину с места (с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0" y="314316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тягивание   у мальчиков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30 секунд (кол-во раз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Object 7" descr=""/>
          <p:cNvPicPr/>
          <p:nvPr/>
        </p:nvPicPr>
        <p:blipFill>
          <a:blip r:embed="rId2"/>
          <a:stretch/>
        </p:blipFill>
        <p:spPr>
          <a:xfrm>
            <a:off x="0" y="3714840"/>
            <a:ext cx="3143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3"/>
          <p:cNvSpPr/>
          <p:nvPr/>
        </p:nvSpPr>
        <p:spPr>
          <a:xfrm>
            <a:off x="3214800" y="307188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нятие туловища у девочек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30 секунд (кол-во раз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9" descr=""/>
          <p:cNvPicPr/>
          <p:nvPr/>
        </p:nvPicPr>
        <p:blipFill>
          <a:blip r:embed="rId3"/>
          <a:stretch/>
        </p:blipFill>
        <p:spPr>
          <a:xfrm>
            <a:off x="2928960" y="3571920"/>
            <a:ext cx="3143160" cy="25002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5"/>
          <p:cNvSpPr/>
          <p:nvPr/>
        </p:nvSpPr>
        <p:spPr>
          <a:xfrm>
            <a:off x="6000840" y="314316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г 6 минут (м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11" descr=""/>
          <p:cNvPicPr/>
          <p:nvPr/>
        </p:nvPicPr>
        <p:blipFill>
          <a:blip r:embed="rId4"/>
          <a:stretch/>
        </p:blipFill>
        <p:spPr>
          <a:xfrm>
            <a:off x="6000840" y="3571920"/>
            <a:ext cx="3143160" cy="2500200"/>
          </a:xfrm>
          <a:prstGeom prst="rect">
            <a:avLst/>
          </a:prstGeom>
          <a:ln w="0">
            <a:noFill/>
          </a:ln>
        </p:spPr>
      </p:pic>
      <p:pic>
        <p:nvPicPr>
          <p:cNvPr id="63" name="Object 12" descr=""/>
          <p:cNvPicPr/>
          <p:nvPr/>
        </p:nvPicPr>
        <p:blipFill>
          <a:blip r:embed="rId5"/>
          <a:stretch/>
        </p:blipFill>
        <p:spPr>
          <a:xfrm>
            <a:off x="5429160" y="1143000"/>
            <a:ext cx="3143520" cy="242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3"/>
          <p:cNvSpPr/>
          <p:nvPr/>
        </p:nvSpPr>
        <p:spPr>
          <a:xfrm>
            <a:off x="285840" y="57150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вень физического развития в классах с тремя уроками физической культуры повышается на 20-25 % больше, чем в классах с двумя уроками физической культуры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неурочная занят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543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ичество учащихся, занимающихся в спортивных секц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6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7480" y="1285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ичество спортивных секций, на баз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"/>
          <p:cNvPicPr/>
          <p:nvPr/>
        </p:nvPicPr>
        <p:blipFill>
          <a:blip r:embed="rId2"/>
          <a:stretch/>
        </p:blipFill>
        <p:spPr>
          <a:xfrm>
            <a:off x="4786200" y="2071800"/>
            <a:ext cx="404172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адиционные спортивные праздники МОУ СОШ № 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нь бегуна - сентябрь, м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ни здоровья – один раз в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«Мама, папа, я -  спортивная семья» - октяб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«Мамы и дочки - на старт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енно-спортивная спартаки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«А ну-ка, пар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«Сыновья и папы  - на старт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:\Documents and Settings\Директор\Рабочий стол\спорт фото\SL381318.JPG"/>
          <p:cNvPicPr/>
          <p:nvPr/>
        </p:nvPicPr>
        <p:blipFill>
          <a:blip r:embed="rId1"/>
          <a:stretch/>
        </p:blipFill>
        <p:spPr>
          <a:xfrm>
            <a:off x="0" y="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:\Documents and Settings\Директор\Рабочий стол\SL381419.JPG"/>
          <p:cNvPicPr/>
          <p:nvPr/>
        </p:nvPicPr>
        <p:blipFill>
          <a:blip r:embed="rId2"/>
          <a:stretch/>
        </p:blipFill>
        <p:spPr>
          <a:xfrm>
            <a:off x="4767120" y="3576600"/>
            <a:ext cx="4376880" cy="32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:\Documents and Settings\Директор\Рабочий стол\SL381398.JPG"/>
          <p:cNvPicPr/>
          <p:nvPr/>
        </p:nvPicPr>
        <p:blipFill>
          <a:blip r:embed="rId3"/>
          <a:stretch/>
        </p:blipFill>
        <p:spPr>
          <a:xfrm>
            <a:off x="0" y="3571920"/>
            <a:ext cx="43830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:\Documents and Settings\Директор\Рабочий стол\SL381385.JPG"/>
          <p:cNvPicPr/>
          <p:nvPr/>
        </p:nvPicPr>
        <p:blipFill>
          <a:blip r:embed="rId4"/>
          <a:stretch/>
        </p:blipFill>
        <p:spPr>
          <a:xfrm>
            <a:off x="492912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H:\Documents and Settings\Директор\Рабочий стол\SL381351.JPG"/>
          <p:cNvPicPr/>
          <p:nvPr/>
        </p:nvPicPr>
        <p:blipFill>
          <a:blip r:embed="rId5"/>
          <a:stretch/>
        </p:blipFill>
        <p:spPr>
          <a:xfrm>
            <a:off x="-3500280" y="16002000"/>
            <a:ext cx="9324720" cy="6991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:\Documents and Settings\сош№5\Мои документы\Мои рисунки\Безымянныйапгвкеш.JPG"/>
          <p:cNvPicPr/>
          <p:nvPr/>
        </p:nvPicPr>
        <p:blipFill>
          <a:blip r:embed="rId6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55:32Z</dcterms:created>
  <dc:creator>Наталья Юрьевна</dc:creator>
  <dc:description/>
  <dc:language>en-US</dc:language>
  <cp:lastModifiedBy>User</cp:lastModifiedBy>
  <dcterms:modified xsi:type="dcterms:W3CDTF">2012-02-06T13:13:36Z</dcterms:modified>
  <cp:revision>73</cp:revision>
  <dc:subject/>
  <dc:title>«Здоровье – не все, но всё без здоровья – ничто».                                           Сократ   </dc:title>
</cp:coreProperties>
</file>