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A53-2639-42AE-AF10-BE8659EF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254-72F4-434B-90B6-22DD6BF7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1C9-5FE9-4EBB-99FF-0479FFA6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A912-01CB-4558-8267-B22F93A2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B916-11B4-43C0-848F-2023BA43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5A9F-0822-42AB-89DD-425725FD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14F5-7D6F-4636-8154-41ACF217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4BF0-CA85-4F72-BA8F-DED39BFD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9501-646B-46E8-B01F-754CFA41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15E1-7590-448C-BE88-146A8F93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23C4-7079-456B-8086-43CC6B17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227-33B9-4948-8478-075847B4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C5D5-678D-4BE8-93C6-449F4DA0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FA17-DA25-4FE8-AFE2-21744FBA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97E9-F5C3-4949-890E-F8D0A580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92F4-A44B-4D20-9387-5F185181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65FE-7347-4ED3-8C60-941DDCA1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17F4-29DE-4A44-A6B0-6EB2C2AB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9A4-65B7-45A3-92F0-F3F1676B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8BEA-BD61-4416-8400-96362F87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59C7-1A45-4C54-BB0A-B881CE30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E26-D980-4CCA-AD50-91427D97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A1FE-6F70-4830-B4DF-8BF4FA61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82C0-B397-42EB-9B1E-18DE3958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8E43-4F9B-4181-A9C4-DB697A7FC3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AEA1-F31A-46D0-9B69-73EC1826A7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Организация работы с одаренными детьм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9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Из опыта работы учителя географии МБОУ СОШ №5 п. Ахтырского Абин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еревяженко Валентины Николае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Результаты олимпиад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28760" y="1214280"/>
          <a:ext cx="8572320" cy="5483520"/>
        </p:xfrm>
        <a:graphic>
          <a:graphicData uri="http://schemas.openxmlformats.org/drawingml/2006/table">
            <a:tbl>
              <a:tblPr/>
              <a:tblGrid>
                <a:gridCol w="1280880"/>
                <a:gridCol w="2468520"/>
                <a:gridCol w="978120"/>
                <a:gridCol w="2403360"/>
                <a:gridCol w="1441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Ф. И. уче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Олимпиада, 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стат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373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яднов Ар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линка Владисл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ткоев Георг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трунова Ма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-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яднов Ар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линка Владисл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иков Оле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ехов Ви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к Вале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шенко Вале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анчиев Бор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рюков Анатол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нтелеев Александ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, 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-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ехова Ама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Мои олимпиадн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Содержимое 3" descr="P1010613.JPG"/>
          <p:cNvPicPr/>
          <p:nvPr/>
        </p:nvPicPr>
        <p:blipFill>
          <a:blip r:embed="rId1"/>
          <a:stretch/>
        </p:blipFill>
        <p:spPr>
          <a:xfrm>
            <a:off x="17794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Мои победители и призеры олимпиа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Содержимое 3" descr="P1010609.JPG"/>
          <p:cNvPicPr/>
          <p:nvPr/>
        </p:nvPicPr>
        <p:blipFill>
          <a:blip r:embed="rId1"/>
          <a:stretch/>
        </p:blipFill>
        <p:spPr>
          <a:xfrm>
            <a:off x="2286000" y="2214720"/>
            <a:ext cx="528624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Наши дости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2" descr="D:\Documents and Settings\Семья\Рабочий стол\Рисунок (3).jpg"/>
          <p:cNvPicPr/>
          <p:nvPr/>
        </p:nvPicPr>
        <p:blipFill>
          <a:blip r:embed="rId1"/>
          <a:stretch/>
        </p:blipFill>
        <p:spPr>
          <a:xfrm>
            <a:off x="3000240" y="1500120"/>
            <a:ext cx="3532320" cy="4857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D:\Documents and Settings\Семья\Рабочий стол\Рисунок (7).jpg"/>
          <p:cNvPicPr/>
          <p:nvPr/>
        </p:nvPicPr>
        <p:blipFill>
          <a:blip r:embed="rId2"/>
          <a:stretch/>
        </p:blipFill>
        <p:spPr>
          <a:xfrm>
            <a:off x="6296040" y="2071800"/>
            <a:ext cx="2494080" cy="3429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D:\Documents and Settings\Семья\Рабочий стол\Рисунок (6).jpg"/>
          <p:cNvPicPr/>
          <p:nvPr/>
        </p:nvPicPr>
        <p:blipFill>
          <a:blip r:embed="rId3"/>
          <a:stretch/>
        </p:blipFill>
        <p:spPr>
          <a:xfrm>
            <a:off x="142920" y="2286000"/>
            <a:ext cx="2857320" cy="343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D:\Documents and Settings\Семья\Рабочий стол\P1010617.JPG"/>
          <p:cNvPicPr/>
          <p:nvPr/>
        </p:nvPicPr>
        <p:blipFill>
          <a:blip r:embed="rId4"/>
          <a:stretch/>
        </p:blipFill>
        <p:spPr>
          <a:xfrm>
            <a:off x="0" y="171468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Использование современных образовательных технологий, в том числе и ИКТ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Надо много учиться, чтобы осознать, что знаешь м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                                           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М. Мон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Использование современных образовательных технологий, в том числе ИКТ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7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азработка и использование на уроках презен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ектная деятельность на уроках с использованием И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Разработка кейсов по разным тем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Использование разноуровневых проблемных зад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именение опорных консп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Игровые модели в обуч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Работа в пар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Групповые формы обучения с использованием практической и поисков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Использование интернета для создания информационных 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 flipV="1" rot="10877400">
            <a:off x="1044720" y="4498200"/>
            <a:ext cx="7634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04384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Районный семинар «Проектно-исследовательская деятельность обучающихся в условиях профильного обучения с использованием ИКТ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3280" y="1600200"/>
            <a:ext cx="404352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 flipV="1" rot="10877400">
            <a:off x="1044720" y="4498200"/>
            <a:ext cx="7634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C:\фото-школа\P1010200.JPG"/>
          <p:cNvPicPr/>
          <p:nvPr/>
        </p:nvPicPr>
        <p:blipFill>
          <a:blip r:embed="rId1"/>
          <a:stretch/>
        </p:blipFill>
        <p:spPr>
          <a:xfrm>
            <a:off x="928800" y="3429000"/>
            <a:ext cx="3906720" cy="2928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фото-школа\P1010199.JPG"/>
          <p:cNvPicPr/>
          <p:nvPr/>
        </p:nvPicPr>
        <p:blipFill>
          <a:blip r:embed="rId2"/>
          <a:stretch/>
        </p:blipFill>
        <p:spPr>
          <a:xfrm>
            <a:off x="4857840" y="1982880"/>
            <a:ext cx="38512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Районный семинар «Использование современных образовательных технологий на уроках естественного цикла</a:t>
            </a: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3280" y="1600200"/>
            <a:ext cx="404352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 flipV="1" rot="10877400">
            <a:off x="1044720" y="4498200"/>
            <a:ext cx="7634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D:\Documents and Settings\Семья\Рабочий стол\фото-школа\P1010538.JPG"/>
          <p:cNvPicPr/>
          <p:nvPr/>
        </p:nvPicPr>
        <p:blipFill>
          <a:blip r:embed="rId1"/>
          <a:stretch/>
        </p:blipFill>
        <p:spPr>
          <a:xfrm>
            <a:off x="714240" y="1571760"/>
            <a:ext cx="3810240" cy="3143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D:\Documents and Settings\Семья\Рабочий стол\фото-школа\P1010525.JPG"/>
          <p:cNvPicPr/>
          <p:nvPr/>
        </p:nvPicPr>
        <p:blipFill>
          <a:blip r:embed="rId2"/>
          <a:stretch/>
        </p:blipFill>
        <p:spPr>
          <a:xfrm>
            <a:off x="4714920" y="2928960"/>
            <a:ext cx="4000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Участие в муниципальных, региональных и всероссийских конкурсах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Штурмуйте каждую проблему с энтузиазмом… как если бы от этого зависела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Л.Кью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Результаты участия во Всероссийских и международных предметных конкурсах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1280" y="1428840"/>
          <a:ext cx="8929800" cy="5424480"/>
        </p:xfrm>
        <a:graphic>
          <a:graphicData uri="http://schemas.openxmlformats.org/drawingml/2006/table">
            <a:tbl>
              <a:tblPr/>
              <a:tblGrid>
                <a:gridCol w="1000440"/>
                <a:gridCol w="1828800"/>
                <a:gridCol w="742680"/>
                <a:gridCol w="2286000"/>
                <a:gridCol w="1571760"/>
                <a:gridCol w="150012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г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Ф.И. уче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Статус конкурса , олимпиа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Статус в райо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Статус в регио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826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ачин Бор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еловек и Природ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менко 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53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омаренко 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яднов Ар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-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ухов Сераф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чек 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далева И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-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льева Ди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дежный географический чемпион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ачин Бор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менко 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баров Андр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ж работы-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87г, Кубанский государственный универс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 РМО, учителей географии Абинского района, тью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:\ФОТО\P1010638.JPG"/>
          <p:cNvPicPr/>
          <p:nvPr/>
        </p:nvPicPr>
        <p:blipFill>
          <a:blip r:embed="rId1"/>
          <a:stretch/>
        </p:blipFill>
        <p:spPr>
          <a:xfrm>
            <a:off x="928800" y="1500120"/>
            <a:ext cx="33969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79280" y="1197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Методические выступления и мастер-классы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Ценнейшее качество жизни – вечно юное любопытство, неутоленное с годами и возрождающееся каждое ут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Ромен Рол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4200" spc="-1" strike="noStrike">
                <a:solidFill>
                  <a:srgbClr val="ff0000"/>
                </a:solidFill>
                <a:latin typeface="Times New Roman"/>
              </a:rPr>
              <a:t>Повышение мастерств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2960" y="1599840"/>
            <a:ext cx="80438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ыт работы в качестве руководителя РМО, тьютора, эксперта ЕГ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квалификации на кур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 в профильной шко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методических семинарах базовой школы (профильная шко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конкурсе «Мой лучший ур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в экспертных группах, аттестационной комиссии, жюри НПК МАН Абин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Picture 2" descr="J:\DCIM\101_PANA\P1010637.JPG"/>
          <p:cNvPicPr/>
          <p:nvPr/>
        </p:nvPicPr>
        <p:blipFill>
          <a:blip r:embed="rId1"/>
          <a:stretch/>
        </p:blipFill>
        <p:spPr>
          <a:xfrm>
            <a:off x="1643040" y="214200"/>
            <a:ext cx="60008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Программа «Одаренные дети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Мало иметь хороший ум, главное – его хорошо примен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                                           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857160" y="285840"/>
            <a:ext cx="7858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предусматривает осуществление личностно-ориентированного подхода через индивидуализацию и дифференциацию учебного материала к наиболее способным де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ение способных и одаренны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развития способностей учащихся в избранных им областях знаний, культуры,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реализации способностей в научно-поисковой, научно-аналитической и твор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устойчивого интереса учащихся  к самообразованию, самосовершенств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мулирование творческой деятельности одаренны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условий детям для реализации их творческих способностей в процессе научно-исследовательской и поиско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Организация системы исследовательской деятельности на уроке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Посейте поступок – пожнете привычку, посейте привычку – пожнете характер, посейте характер- пожнете судь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У. Текке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Выявление одаренных дете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Диагностика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именение методик диагностики (взаимодействие с психологом школ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оставление индивидуальной программы и графика работы с одаренными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D:\Documents and Settings\Семья\Рабочий стол\фото-школа\P1010201.JPG"/>
          <p:cNvPicPr/>
          <p:nvPr/>
        </p:nvPicPr>
        <p:blipFill>
          <a:blip r:embed="rId1"/>
          <a:stretch/>
        </p:blipFill>
        <p:spPr>
          <a:xfrm>
            <a:off x="487440" y="1785960"/>
            <a:ext cx="4190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Виды деятельности на урок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9099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Работа в группах, мини-группа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Система опережающих зада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3. Разноуровневые задания с разной системой оценива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4.Защита мини-проект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5. Использование ИК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6. Работа с различными источниками информации( интернет, карты, справочная литература и т.д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7. Блочно-модульная технолог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8. Создание презентаций и их защи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9. Практикум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0. Элементы деловой иг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D:\Documents and Settings\Семья\Рабочий стол\P1010611.JPG"/>
          <p:cNvPicPr/>
          <p:nvPr/>
        </p:nvPicPr>
        <p:blipFill>
          <a:blip r:embed="rId1"/>
          <a:stretch/>
        </p:blipFill>
        <p:spPr>
          <a:xfrm>
            <a:off x="500040" y="1928880"/>
            <a:ext cx="4224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Позитивные результаты внеурочной деятельности по преподаваемым предметам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Гений - это один процент таланта и девяносто девять процентов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                                                  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Томас Эди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Внеурочная деятельност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320" y="150012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Подготовка и участие в школьном и районном этапе предметной олимпиады по гео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роведение ежегодной предметной декады «Краеведения и эк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Участие в работе научно-практической конференции М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Участие во Всероссийских и международных конкур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ЧИП, молодежные экономический чемпионат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оходы и экскурсии по родному краю и оформление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5:16:21Z</dcterms:created>
  <dc:creator>Мама</dc:creator>
  <dc:description/>
  <dc:language>en-US</dc:language>
  <cp:lastModifiedBy>User</cp:lastModifiedBy>
  <dcterms:modified xsi:type="dcterms:W3CDTF">2013-02-16T06:27:33Z</dcterms:modified>
  <cp:revision>55</cp:revision>
  <dc:subject/>
  <dc:title>ПОРТФОЛИО профессиональной компетенции</dc:title>
</cp:coreProperties>
</file>