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5A0-520C-4992-9265-5A8F2956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8ED-E542-478E-8E16-8915DBF7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7BC22-2BF2-4854-AE09-4F7645FA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31CAF-C60B-4451-A435-7113B8DD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09C2A-3DC6-4078-AACF-6F6C2E7C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6F382-AD2B-4486-A868-42517D70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97CB4-5076-45D8-84A0-F4B6210E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24436-861E-4AFB-AC36-CA6756C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156A6-F648-4986-A930-1B77AD6B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2AE9E-1842-41C7-A89C-0FB0BF98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1FBD1A-EE06-4D76-9DA0-247D86E4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CF1-B15A-4657-9997-BE2DDD7F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A0AC-5CA4-4753-B12B-64B9AA0C8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837A-A8A7-4CE5-9C84-CB6DD24AF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AD94-C7C7-4C72-AC75-3F279218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A76B-45B4-4793-A650-435EFB28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6A75-FD27-49B8-990B-5B4C321E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9394-CCE8-4195-9546-E9ED5A0D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78B5-6D0F-4B1E-A899-44CFC62E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848D-B99E-4215-8CFF-BC67E093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AD6-717E-44D9-B9A2-F4F59CE7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F89A-ECA7-4663-988A-463D212D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0F3D-EAEA-4B6B-A08F-57F380C9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FBF9-0E47-4BAC-AF79-E7BB7F20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6538-A796-4F23-8F80-9CAFF01C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69D7-134C-4C7F-962D-F9E62A8A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27D8-FA51-48AC-A34E-BB3F4667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51832-653F-4360-9595-BCF6B880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519A-3374-4F33-9B7D-1E6706CD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85AA-EA6B-400E-BE83-4395C5C3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EEDC-A6C3-459F-ADE5-5142C607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C7C-B654-4CA1-8095-D45E378D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1A718-1568-48BF-AB5C-46505BD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543C3-CB19-448B-8721-A459E54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606DA-0385-4168-A863-620284F4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F79A-C2BF-41DB-9D18-90863050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D53BC-7462-4685-9333-33357FB9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588B3-0910-4F9D-A2D6-FE1296CA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905E-06BA-48EF-B858-B3026043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9EB0-F15A-4CF1-97F8-AC40D526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570E5-4E04-443E-8FB4-DEDCCDE9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EB96A-8B59-4530-A551-2F36552D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D19-C714-416C-9E52-B8140C86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0938-5D8B-443F-8B4C-6E22A843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31AC-2F11-4C0C-9DEE-F774B8F8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348EF-D0B0-4CA7-8F44-8CB86DBD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2A24D-C366-4891-B96C-49F89FDB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4069-6AD0-4009-B5D6-68B341EC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C7057-D0FB-40B4-B27E-623D82E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EBF8-6E95-4EA8-8A88-65C94A99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AF0ED-E583-4285-9991-6A4DD9B3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E12D0-EB06-4DDE-ABFD-6ABB1E2D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5ABA-D09B-487D-B137-3EA795CE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D0C-5053-4573-B92B-C5E11967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7F2FE-3912-412C-8900-A465FD75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3DA0E-07F5-49B9-A23C-918368ED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E01C3-D82E-46CB-AEEF-D46890BD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C0FC9-A37F-4265-8AF1-5A2E8262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CFA37-AC63-48BF-A43C-68489F0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466D3-BE73-4761-A630-6F9AA9B2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278DD-D5A6-484A-A456-B8AE99A8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73DA-69B4-4F0D-9B78-68FCF3D6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BDE98-CEB4-46C9-8673-263E62C7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077E5-6D24-4AB8-BD05-FC9F95694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337-C01B-4DBE-BE55-12ABE4C5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41011-1054-4A1A-A85E-FCE48874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2BC25-95E6-4ED8-B087-5A865755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D0114-BA8D-46F1-A28F-4F4FDEE8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98049-8D64-49B1-A02C-1F5ADD8B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ABD49-04A8-4BF5-AE2D-4BE2F16B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B1717-EC7E-4D97-921E-EB6CB567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48FD6-943E-4D21-AEC9-F04C87BD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D9491-A4C9-4CC9-B8F7-6C4AC4B7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2A240-A876-4021-AD03-9F6C869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3378E-FA12-4452-AD9D-A31DC54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64CD-7743-4A6E-9325-824A64A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ECF81-58F1-4413-8F79-3B53E7F9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07677-5C46-4F1C-844E-C3AD71BA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9E03F-270A-40AD-B0F0-85E98095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92FC2-33B8-4535-9223-EB7DBF86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7E2A4-2033-465C-8463-9B3AAAC8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FB458-64B5-4457-B4E9-5EBA013C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F813B-C593-4A91-993D-B9D12EF76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98015-1C29-40DE-9DEA-EA65CDD0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5E3B0-F8D3-476A-B585-E1252FFA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2ACB-5230-4B8A-B4F6-6328736C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089-19FA-487D-AF44-C9EB08D5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E19D4-FB0B-4495-93DE-B85AFADE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683B1-7F96-4670-BB58-E063B882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D600E-2339-426B-8D37-98A6CBED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A6BB1-0681-4D98-8432-C338F0D7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F81E6-6B32-4582-9609-771513F6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5A0E-8F47-4BCE-B13A-42EE3D4C8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ABE7D-1F62-4B85-8047-EC349991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C80DA-6E76-460A-B011-E3A8EB93A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DAB94-CF5F-4059-94EE-C921588C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63871-F041-45ED-9CC5-9F413611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FEAE-7820-401A-9C1B-23A66E12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2CECA-F8B0-431C-9B5A-9E10A727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C7526-12BE-42FE-A786-67A6003F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3DCC8-598D-44B2-ACEE-DC7DAB83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D505F-F91F-4504-B7C2-5A53BD0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C2139-AE55-4679-B8F8-943AF181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84282-27B8-46DE-87BC-B63880EA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0C9B9-1CB0-4F7E-8C7E-CC8F7EDF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6031D-BE5D-44EB-AF9D-6F55AC05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EABC2-C795-48B2-B329-589E1719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FD5D2-AE68-4DFF-AAA3-436FBB12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4214-F076-4899-BCDE-A7510418F9E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58B-05D1-411A-9CDA-690E75BAAE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B9BD-CD67-4D27-955A-C71665527E9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A296-5F52-403E-941E-94A5BC409A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7E83-7B65-4FF1-80BA-AD1039F474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6D67-D33E-408A-A6CF-6E48490D143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5DA6-62AC-4490-BD42-1D8FD35E7C2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726E-BBBB-447D-A85E-6E7AEB2F415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99E1-B2DF-4564-86C2-67D11532626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487440" y="189000"/>
            <a:ext cx="7980120" cy="1139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713880" y="1714680"/>
            <a:ext cx="8001000" cy="464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443329"/>
                </a:solidFill>
                <a:latin typeface="Franklin Gothic Book"/>
              </a:rPr>
              <a:t>□</a:t>
            </a:r>
            <a:r>
              <a:rPr b="0" lang="ru-RU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называет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Та часть слова, что изменяетс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Остальную же часть слова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называем мы                   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            </a:t>
            </a: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слова – главная  значимая час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Родственные связи дарят                 влас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Выясни умело линию родства,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3329"/>
                </a:solidFill>
                <a:latin typeface="Franklin Gothic Book"/>
              </a:rPr>
              <a:t>Однокоренные выпиши слова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Прямая соединительная линия 4"/>
          <p:cNvSpPr/>
          <p:nvPr/>
        </p:nvSpPr>
        <p:spPr>
          <a:xfrm>
            <a:off x="3214800" y="3929040"/>
            <a:ext cx="1143000" cy="144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8"/>
          <p:cNvSpPr/>
          <p:nvPr/>
        </p:nvSpPr>
        <p:spPr>
          <a:xfrm flipH="1">
            <a:off x="3214800" y="3786120"/>
            <a:ext cx="1440" cy="1429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11"/>
          <p:cNvSpPr/>
          <p:nvPr/>
        </p:nvSpPr>
        <p:spPr>
          <a:xfrm flipH="1">
            <a:off x="4357800" y="3786120"/>
            <a:ext cx="1440" cy="1429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Дуга 13"/>
          <p:cNvSpPr/>
          <p:nvPr/>
        </p:nvSpPr>
        <p:spPr>
          <a:xfrm>
            <a:off x="928800" y="400068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457200 h 914400"/>
            </a:gdLst>
            <a:ahLst/>
            <a:rect l="textAreaLeft" t="textAreaTop" r="textAreaRight" b="textAreaBottom"/>
            <a:pathLst>
              <a:path stroke="0" w="914400" h="914400">
                <a:moveTo>
                  <a:pt x="329" y="439851"/>
                </a:moveTo>
                <a:lnTo>
                  <a:pt x="329" y="439851"/>
                </a:lnTo>
                <a:arcTo wR="457200" hR="457200" stAng="-10669519" swAng="10669527"/>
                <a:lnTo>
                  <a:pt x="457200" y="457200"/>
                </a:lnTo>
                <a:close/>
              </a:path>
              <a:path fill="none" w="914400" h="914400">
                <a:moveTo>
                  <a:pt x="329" y="439851"/>
                </a:moveTo>
                <a:lnTo>
                  <a:pt x="329" y="439851"/>
                </a:lnTo>
                <a:arcTo wR="457200" hR="457200" stAng="-10669519" swAng="10669527"/>
              </a:path>
            </a:pathLst>
          </a:custGeom>
          <a:noFill/>
          <a:ln w="28440">
            <a:solidFill>
              <a:srgbClr val="c87d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Дуга 14"/>
          <p:cNvSpPr/>
          <p:nvPr/>
        </p:nvSpPr>
        <p:spPr>
          <a:xfrm>
            <a:off x="5072040" y="4500720"/>
            <a:ext cx="914400" cy="852480"/>
          </a:xfrm>
          <a:custGeom>
            <a:avLst/>
            <a:gdLst>
              <a:gd name="textAreaLeft" fmla="*/ 360 w 914400"/>
              <a:gd name="textAreaRight" fmla="*/ 914760 w 914400"/>
              <a:gd name="textAreaTop" fmla="*/ 0 h 852480"/>
              <a:gd name="textAreaBottom" fmla="*/ 426240 h 852480"/>
            </a:gdLst>
            <a:ahLst/>
            <a:rect l="textAreaLeft" t="textAreaTop" r="textAreaRight" b="textAreaBottom"/>
            <a:pathLst>
              <a:path stroke="0" w="914400" h="852487">
                <a:moveTo>
                  <a:pt x="379" y="408896"/>
                </a:moveTo>
                <a:lnTo>
                  <a:pt x="379" y="408896"/>
                </a:lnTo>
                <a:arcTo wR="457200" hR="426244" stAng="-10669513" swAng="10669520"/>
                <a:lnTo>
                  <a:pt x="457200" y="426244"/>
                </a:lnTo>
                <a:close/>
              </a:path>
              <a:path fill="none" w="914400" h="852487">
                <a:moveTo>
                  <a:pt x="379" y="408896"/>
                </a:moveTo>
                <a:lnTo>
                  <a:pt x="379" y="408896"/>
                </a:lnTo>
                <a:arcTo wR="457200" hR="426244" stAng="-10669513" swAng="10669520"/>
              </a:path>
            </a:pathLst>
          </a:custGeom>
          <a:noFill/>
          <a:ln w="28440">
            <a:solidFill>
              <a:srgbClr val="c87d0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072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920" y="1052640"/>
          <a:ext cx="8588160" cy="570528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1680"/>
                <a:gridCol w="660600"/>
                <a:gridCol w="660240"/>
                <a:gridCol w="658800"/>
                <a:gridCol w="663840"/>
                <a:gridCol w="658800"/>
                <a:gridCol w="660240"/>
                <a:gridCol w="660600"/>
                <a:gridCol w="661680"/>
                <a:gridCol w="662040"/>
                <a:gridCol w="658800"/>
              </a:tblGrid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4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072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04920" y="1052640"/>
          <a:ext cx="8588160" cy="565128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1680"/>
                <a:gridCol w="660600"/>
                <a:gridCol w="660240"/>
                <a:gridCol w="658800"/>
                <a:gridCol w="663840"/>
                <a:gridCol w="658800"/>
                <a:gridCol w="660240"/>
                <a:gridCol w="660600"/>
                <a:gridCol w="661680"/>
                <a:gridCol w="662040"/>
                <a:gridCol w="658800"/>
              </a:tblGrid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4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7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072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04920" y="1052640"/>
          <a:ext cx="8588160" cy="554508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1680"/>
                <a:gridCol w="660600"/>
                <a:gridCol w="660240"/>
                <a:gridCol w="658800"/>
                <a:gridCol w="663840"/>
                <a:gridCol w="658800"/>
                <a:gridCol w="660240"/>
                <a:gridCol w="660600"/>
                <a:gridCol w="661680"/>
                <a:gridCol w="662040"/>
                <a:gridCol w="658800"/>
              </a:tblGrid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4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072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04920" y="1052640"/>
          <a:ext cx="8588160" cy="549108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1680"/>
                <a:gridCol w="660600"/>
                <a:gridCol w="660240"/>
                <a:gridCol w="658800"/>
                <a:gridCol w="663840"/>
                <a:gridCol w="658800"/>
                <a:gridCol w="660240"/>
                <a:gridCol w="660600"/>
                <a:gridCol w="661680"/>
                <a:gridCol w="662040"/>
                <a:gridCol w="658800"/>
              </a:tblGrid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4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5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 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6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560" y="1600200"/>
            <a:ext cx="855324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I</a:t>
            </a:r>
            <a:r>
              <a:rPr b="0" i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-вариант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Лист, лиса, листок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56760" y="4714560"/>
            <a:ext cx="8634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III</a:t>
            </a:r>
            <a:r>
              <a:rPr b="0" i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*</a:t>
            </a:r>
            <a:r>
              <a:rPr b="0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 </a:t>
            </a:r>
            <a:r>
              <a:rPr b="0" i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– вариант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Рисунок,  рисовый, рисованный, пририсова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Содержимое 3"/>
          <p:cNvSpPr/>
          <p:nvPr/>
        </p:nvSpPr>
        <p:spPr>
          <a:xfrm>
            <a:off x="4643280" y="1643040"/>
            <a:ext cx="4343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Содержимое 3"/>
          <p:cNvSpPr/>
          <p:nvPr/>
        </p:nvSpPr>
        <p:spPr>
          <a:xfrm>
            <a:off x="357120" y="3214800"/>
            <a:ext cx="82868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II –</a:t>
            </a:r>
            <a:r>
              <a:rPr b="0" i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 вариа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Водичка, водитель, водный.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4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2" name="Содержимое 5" descr="222.jpg"/>
          <p:cNvPicPr/>
          <p:nvPr/>
        </p:nvPicPr>
        <p:blipFill>
          <a:blip r:embed="rId2"/>
          <a:stretch/>
        </p:blipFill>
        <p:spPr>
          <a:xfrm>
            <a:off x="1571760" y="1285920"/>
            <a:ext cx="60753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– </a:t>
            </a: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У корня в недругах, представь-ка,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Есть дама гордая                        .  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А злит она его одним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Стоит лишь только                  ним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Прямоугольник 3" descr=""/>
          <p:cNvPicPr/>
          <p:nvPr/>
        </p:nvPicPr>
        <p:blipFill>
          <a:blip r:embed="rId2"/>
          <a:stretch/>
        </p:blipFill>
        <p:spPr>
          <a:xfrm>
            <a:off x="4687920" y="2048040"/>
            <a:ext cx="3419280" cy="976320"/>
          </a:xfrm>
          <a:prstGeom prst="rect">
            <a:avLst/>
          </a:prstGeom>
          <a:ln w="0">
            <a:noFill/>
          </a:ln>
        </p:spPr>
      </p:pic>
      <p:pic>
        <p:nvPicPr>
          <p:cNvPr id="416" name="Прямоугольник 4" descr=""/>
          <p:cNvPicPr/>
          <p:nvPr/>
        </p:nvPicPr>
        <p:blipFill>
          <a:blip r:embed="rId3"/>
          <a:stretch/>
        </p:blipFill>
        <p:spPr>
          <a:xfrm>
            <a:off x="4548240" y="3535200"/>
            <a:ext cx="25113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450720" y="353880"/>
            <a:ext cx="8474040" cy="13035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456840" y="4785840"/>
            <a:ext cx="82580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III</a:t>
            </a:r>
            <a:r>
              <a:rPr b="0" i="1" lang="ru-RU" sz="3200" spc="-1" strike="noStrike" u="sng">
                <a:solidFill>
                  <a:srgbClr val="4e3b30"/>
                </a:solidFill>
                <a:uFillTx/>
                <a:latin typeface="Franklin Gothic Book"/>
              </a:rPr>
              <a:t>*– вариант: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добрать подходящие по смыслу глаголы с приставками к слова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арежки,                      друг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28760" y="1642680"/>
            <a:ext cx="848664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I</a:t>
            </a:r>
            <a:r>
              <a:rPr b="0" i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-вариант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i="1" lang="ru-RU" sz="3000" spc="-1" strike="noStrike">
                <a:solidFill>
                  <a:srgbClr val="4e3b30"/>
                </a:solidFill>
                <a:latin typeface="Franklin Gothic Book"/>
              </a:rPr>
              <a:t>летел ураган,        </a:t>
            </a:r>
            <a:r>
              <a:rPr b="0" i="1" lang="ru-RU" sz="50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000" spc="-1" strike="noStrike">
                <a:solidFill>
                  <a:srgbClr val="4e3b30"/>
                </a:solidFill>
                <a:latin typeface="Franklin Gothic Book"/>
              </a:rPr>
              <a:t>ехал из города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II</a:t>
            </a:r>
            <a:r>
              <a:rPr b="0" i="1" lang="ru-RU" sz="3000" spc="-1" strike="noStrike" u="sng">
                <a:solidFill>
                  <a:srgbClr val="4e3b30"/>
                </a:solidFill>
                <a:uFillTx/>
                <a:latin typeface="Franklin Gothic Book"/>
              </a:rPr>
              <a:t> – вариант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i="1" lang="ru-RU" sz="33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i="1" lang="ru-RU" sz="3000" spc="-1" strike="noStrike">
                <a:solidFill>
                  <a:srgbClr val="4e3b30"/>
                </a:solidFill>
                <a:latin typeface="Franklin Gothic Book"/>
              </a:rPr>
              <a:t>бежал первый,             шёл в дом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Прямоугольник 4" descr=""/>
          <p:cNvPicPr/>
          <p:nvPr/>
        </p:nvPicPr>
        <p:blipFill>
          <a:blip r:embed="rId2"/>
          <a:stretch/>
        </p:blipFill>
        <p:spPr>
          <a:xfrm>
            <a:off x="-208080" y="1865160"/>
            <a:ext cx="1981440" cy="118908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5" descr=""/>
          <p:cNvPicPr/>
          <p:nvPr/>
        </p:nvPicPr>
        <p:blipFill>
          <a:blip r:embed="rId3"/>
          <a:stretch/>
        </p:blipFill>
        <p:spPr>
          <a:xfrm>
            <a:off x="3949560" y="1951200"/>
            <a:ext cx="1152720" cy="1066680"/>
          </a:xfrm>
          <a:prstGeom prst="rect">
            <a:avLst/>
          </a:prstGeom>
          <a:ln w="0">
            <a:noFill/>
          </a:ln>
        </p:spPr>
      </p:pic>
      <p:pic>
        <p:nvPicPr>
          <p:cNvPr id="422" name="Прямоугольник 6" descr=""/>
          <p:cNvPicPr/>
          <p:nvPr/>
        </p:nvPicPr>
        <p:blipFill>
          <a:blip r:embed="rId4"/>
          <a:stretch/>
        </p:blipFill>
        <p:spPr>
          <a:xfrm>
            <a:off x="212760" y="3133800"/>
            <a:ext cx="1798560" cy="974520"/>
          </a:xfrm>
          <a:prstGeom prst="rect">
            <a:avLst/>
          </a:prstGeom>
          <a:ln w="0">
            <a:noFill/>
          </a:ln>
        </p:spPr>
      </p:pic>
      <p:pic>
        <p:nvPicPr>
          <p:cNvPr id="423" name="Прямоугольник 7" descr=""/>
          <p:cNvPicPr/>
          <p:nvPr/>
        </p:nvPicPr>
        <p:blipFill>
          <a:blip r:embed="rId5"/>
          <a:stretch/>
        </p:blipFill>
        <p:spPr>
          <a:xfrm>
            <a:off x="4237200" y="3103560"/>
            <a:ext cx="1498320" cy="1066680"/>
          </a:xfrm>
          <a:prstGeom prst="rect">
            <a:avLst/>
          </a:prstGeom>
          <a:ln w="0">
            <a:noFill/>
          </a:ln>
        </p:spPr>
      </p:pic>
      <p:pic>
        <p:nvPicPr>
          <p:cNvPr id="424" name="Прямоугольник 8" descr=""/>
          <p:cNvPicPr/>
          <p:nvPr/>
        </p:nvPicPr>
        <p:blipFill>
          <a:blip r:embed="rId6"/>
          <a:stretch/>
        </p:blipFill>
        <p:spPr>
          <a:xfrm>
            <a:off x="450720" y="5535720"/>
            <a:ext cx="2792520" cy="1066680"/>
          </a:xfrm>
          <a:prstGeom prst="rect">
            <a:avLst/>
          </a:prstGeom>
          <a:ln w="0">
            <a:noFill/>
          </a:ln>
        </p:spPr>
      </p:pic>
      <p:pic>
        <p:nvPicPr>
          <p:cNvPr id="425" name="Прямоугольник 9" descr=""/>
          <p:cNvPicPr/>
          <p:nvPr/>
        </p:nvPicPr>
        <p:blipFill>
          <a:blip r:embed="rId7"/>
          <a:stretch/>
        </p:blipFill>
        <p:spPr>
          <a:xfrm>
            <a:off x="4511520" y="5578560"/>
            <a:ext cx="241956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4e3b30"/>
                </a:solidFill>
                <a:latin typeface="Franklin Gothic Medium"/>
              </a:rPr>
              <a:t>КЛЮЧ   К   ТЕСТУ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304920" y="1052640"/>
          <a:ext cx="8588160" cy="570528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1680"/>
                <a:gridCol w="660600"/>
                <a:gridCol w="660240"/>
                <a:gridCol w="658800"/>
                <a:gridCol w="663840"/>
                <a:gridCol w="658800"/>
                <a:gridCol w="660240"/>
                <a:gridCol w="660600"/>
                <a:gridCol w="661680"/>
                <a:gridCol w="662040"/>
                <a:gridCol w="658800"/>
              </a:tblGrid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072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304920" y="1052640"/>
          <a:ext cx="8588160" cy="570528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1680"/>
                <a:gridCol w="660600"/>
                <a:gridCol w="660240"/>
                <a:gridCol w="658800"/>
                <a:gridCol w="663840"/>
                <a:gridCol w="658800"/>
                <a:gridCol w="660240"/>
                <a:gridCol w="660600"/>
                <a:gridCol w="661680"/>
                <a:gridCol w="662040"/>
                <a:gridCol w="658800"/>
              </a:tblGrid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072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04920" y="1052640"/>
          <a:ext cx="8588160" cy="570528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1680"/>
                <a:gridCol w="660600"/>
                <a:gridCol w="660240"/>
                <a:gridCol w="658800"/>
                <a:gridCol w="663840"/>
                <a:gridCol w="658800"/>
                <a:gridCol w="660240"/>
                <a:gridCol w="660600"/>
                <a:gridCol w="661680"/>
                <a:gridCol w="662040"/>
                <a:gridCol w="658800"/>
              </a:tblGrid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4920" y="450720"/>
            <a:ext cx="8686800" cy="5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304920" y="1052640"/>
          <a:ext cx="8588160" cy="5705280"/>
        </p:xfrm>
        <a:graphic>
          <a:graphicData uri="http://schemas.openxmlformats.org/drawingml/2006/table">
            <a:tbl>
              <a:tblPr/>
              <a:tblGrid>
                <a:gridCol w="658800"/>
                <a:gridCol w="662040"/>
                <a:gridCol w="661680"/>
                <a:gridCol w="660600"/>
                <a:gridCol w="660240"/>
                <a:gridCol w="658800"/>
                <a:gridCol w="663840"/>
                <a:gridCol w="658800"/>
                <a:gridCol w="660240"/>
                <a:gridCol w="660600"/>
                <a:gridCol w="661680"/>
                <a:gridCol w="662040"/>
                <a:gridCol w="658800"/>
              </a:tblGrid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4 </a:t>
                      </a: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e3b3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6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e3b3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3:24:59Z</dcterms:created>
  <dc:creator>SERVER</dc:creator>
  <dc:description/>
  <dc:language>en-US</dc:language>
  <cp:lastModifiedBy>Формоза</cp:lastModifiedBy>
  <dcterms:modified xsi:type="dcterms:W3CDTF">2011-09-20T15:27:51Z</dcterms:modified>
  <cp:revision>17</cp:revision>
  <dc:subject/>
  <dc:title>Прочитайте</dc:title>
</cp:coreProperties>
</file>