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29C-AB5B-45DC-A061-5F3DD478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F8A-EAF3-4686-8450-2E83605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712-50A7-4E7B-86CA-4A3F597D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AC5-594C-46A3-80C4-F0E0CBC5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613-5A50-40B8-BE4C-DC22F62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4D0-606F-4547-9B71-BFF09C3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1FF-FB25-4DF9-8DAC-ECEB8799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E9C-159E-4756-816C-7B09A1A3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731-C776-433B-A966-F841F0C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F62-1668-4892-88A6-9C3E5D6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249-E739-4356-9C17-D758DEC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4FB-5BD9-4D73-87A1-47CCC08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7C9-35E1-4D72-BC31-84C1B62A3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11. &#1055;&#1086;&#1083;&#1085;&#1086;&#1077; &#1086;&#1090;&#1088;&#1072;&#1078;&#1077;&#1085;&#1080;&#1077;.avi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12. &#1055;&#1088;&#1080;&#1085;&#1094;&#1080;&#1087; &#1076;&#1077;&#1081;&#1089;&#1090;&#1074;&#1080;&#1103; &#1089;&#1074;&#1077;&#1090;&#1086;&#1074;&#1086;&#1076;&#1072;.avi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1. &#1055;&#1088;&#1103;&#1084;&#1086;&#1083;&#1080;&#1085;&#1077;&#1081;&#1085;&#1086;&#1089;&#1090;&#1100; &#1088;&#1072;&#1089;&#1087;&#1088;&#1086;&#1089;&#1090;&#1088;&#1072;&#1085;&#1077;&#1085;&#1080;&#1103; &#1089;&#1074;&#1077;&#1090;&#1072;.avi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4. &#1047;&#1072;&#1082;&#1086;&#1085; &#1086;&#1090;&#1088;&#1072;&#1078;&#1077;&#1085;&#1080;&#1103;.avi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6. &#1055;&#1088;&#1077;&#1083;&#1086;&#1084;&#1083;&#1077;&#1085;&#1080;&#1077; &#1089;&#1074;&#1077;&#1090;&#1072;.avi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3;&#1077;&#1086;&#1084;&#1077;&#1090;&#1088;&#1080;&#1095;&#1077;&#1089;&#1082;&#1072;&#1103; &#1086;&#1087;&#1090;&#1080;&#1082;&#1072;. &#1047;&#1077;&#1088;&#1082;&#1072;&#1083;&#1072; &#1080; &#1087;&#1088;&#1080;&#1079;&#1084;&#1099;\7. &#1047;&#1072;&#1082;&#1086;&#1085; &#1087;&#1088;&#1077;&#1083;&#1086;&#1084;&#1083;&#1077;&#1085;&#1080;&#1103;.av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129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еометрическая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пти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08000" y="260280"/>
            <a:ext cx="525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ное отраж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 rot="10467000">
            <a:off x="6129720" y="3104280"/>
            <a:ext cx="86472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729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729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8244000" y="5373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0280"/>
            <a:ext cx="4392720" cy="131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474960" y="3033720"/>
            <a:ext cx="2070720" cy="449280"/>
            <a:chOff x="6474960" y="3033720"/>
            <a:chExt cx="2070720" cy="449280"/>
          </a:xfrm>
        </p:grpSpPr>
        <p:sp>
          <p:nvSpPr>
            <p:cNvPr id="111" name=""/>
            <p:cNvSpPr/>
            <p:nvPr/>
          </p:nvSpPr>
          <p:spPr>
            <a:xfrm flipV="1">
              <a:off x="7511040" y="3033720"/>
              <a:ext cx="1034640" cy="225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74960" y="3258000"/>
              <a:ext cx="1035000" cy="225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58040" y="2511360"/>
            <a:ext cx="73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9860400">
            <a:off x="5826240" y="2749320"/>
            <a:ext cx="107064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22258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2225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6760" y="26542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ереходе из более плотной среды в менее плотную: 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&gt; 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977000" y="3470040"/>
            <a:ext cx="1527480" cy="1319760"/>
            <a:chOff x="4977000" y="3470040"/>
            <a:chExt cx="1527480" cy="1319760"/>
          </a:xfrm>
        </p:grpSpPr>
        <p:sp>
          <p:nvSpPr>
            <p:cNvPr id="118" name=""/>
            <p:cNvSpPr/>
            <p:nvPr/>
          </p:nvSpPr>
          <p:spPr>
            <a:xfrm flipV="1">
              <a:off x="5739480" y="3470040"/>
              <a:ext cx="765000" cy="659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77000" y="4129920"/>
              <a:ext cx="765000" cy="659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883120" y="402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4032000" cy="329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увеличении угла падения </a:t>
            </a: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реломленный луч может не выйти из плотной среды, это явление называют полным отраж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22160" y="5300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ное от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08000" y="260280"/>
            <a:ext cx="525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ное отраж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92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Явление полного отражения используется в призмах и в волоконной оптике (световодах)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824400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724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ветово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– стеклянное волокно цилиндрической формы, покрытое оболочкой из прозрачного материала с показателем преломления меньше чем у волокна.За счет многократного полного отражения свет может быть направлен по изогнутому пу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95280" y="1571760"/>
            <a:ext cx="813744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43280" y="26028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 Ремер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692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строномический метод измерения скорости света основан на наблюдениях за спутником Юпитера И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064360" cy="4641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24000" y="6165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паздывание появление Ио на 22 минуты во втором полож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43280" y="260280"/>
            <a:ext cx="40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 Физо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765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абораторный метод измерения скорости света. Физо – французский  физик в своем опыте использовал вращающееся зубчатое колес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3587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547640" y="26028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ы распространения свет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052640"/>
            <a:ext cx="8640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он прямолинейного распространения света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В однородной среде свет распространяется прямолиней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он независимости световых лучей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ри пересечении двух лучей они не оказывают влияние друг на др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7667640" y="479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8000" y="1989000"/>
            <a:ext cx="3959280" cy="3240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47640" y="26028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разование тени и полутен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30920" y="1989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ень возникает от точечного источника света, а полутень от протяженн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5333760" cy="568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08000" y="260280"/>
            <a:ext cx="525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отражен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8640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 Луч падающий, луч отраженный и перпендикуляр восстановленный в точке падения лежат в одной плоскости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Угол отражения равен углу падения: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l-G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γ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</a:t>
            </a:r>
            <a:r>
              <a:rPr b="0" lang="el-GR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37360"/>
            <a:ext cx="63356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200" y="5229360"/>
            <a:ext cx="3024360" cy="1008000"/>
            <a:chOff x="322200" y="5229360"/>
            <a:chExt cx="3024360" cy="1008000"/>
          </a:xfrm>
        </p:grpSpPr>
        <p:sp>
          <p:nvSpPr>
            <p:cNvPr id="53" name=""/>
            <p:cNvSpPr/>
            <p:nvPr/>
          </p:nvSpPr>
          <p:spPr>
            <a:xfrm>
              <a:off x="1835280" y="5732640"/>
              <a:ext cx="1511280" cy="504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2200" y="5229360"/>
              <a:ext cx="1511640" cy="504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346560" y="5229360"/>
            <a:ext cx="3023640" cy="1008000"/>
            <a:chOff x="3346560" y="5229360"/>
            <a:chExt cx="3023640" cy="1008000"/>
          </a:xfrm>
        </p:grpSpPr>
        <p:sp>
          <p:nvSpPr>
            <p:cNvPr id="56" name=""/>
            <p:cNvSpPr/>
            <p:nvPr/>
          </p:nvSpPr>
          <p:spPr>
            <a:xfrm flipV="1">
              <a:off x="4859280" y="5229360"/>
              <a:ext cx="1510920" cy="504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46560" y="5732640"/>
              <a:ext cx="1511280" cy="504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3346560" y="4795920"/>
            <a:ext cx="14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 rot="6748800">
            <a:off x="3024000" y="5648400"/>
            <a:ext cx="86544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729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729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4851200">
            <a:off x="2793240" y="5648040"/>
            <a:ext cx="86544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729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729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373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5373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"/>
          </p:cNvPr>
          <p:cNvSpPr/>
          <p:nvPr/>
        </p:nvSpPr>
        <p:spPr>
          <a:xfrm>
            <a:off x="8317080" y="6165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64000" y="1989000"/>
            <a:ext cx="3569040" cy="2919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16000" y="260280"/>
            <a:ext cx="741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ффузное и зеркальное отражени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765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Рассеянное или диффузное отражение возникает из-за неровностей поверхности отра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0781" t="1029" r="1442" b="10309"/>
          <a:stretch/>
        </p:blipFill>
        <p:spPr>
          <a:xfrm>
            <a:off x="0" y="2060640"/>
            <a:ext cx="457200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rcRect l="3145" t="0" r="6105" b="906"/>
          <a:stretch/>
        </p:blipFill>
        <p:spPr>
          <a:xfrm>
            <a:off x="4716360" y="2060640"/>
            <a:ext cx="4427640" cy="3313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116000" y="260280"/>
            <a:ext cx="698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бражение в плоском зеркал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76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зображение в плоском зеркале (мнимое и прямое) равно по размерам самому предмету и расположено относительно зеркала симметрично предм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1641" r="0" b="0"/>
          <a:stretch/>
        </p:blipFill>
        <p:spPr>
          <a:xfrm>
            <a:off x="1763640" y="2066760"/>
            <a:ext cx="4969080" cy="4577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965" t="10917" r="50754" b="7117"/>
          <a:stretch/>
        </p:blipFill>
        <p:spPr>
          <a:xfrm>
            <a:off x="395280" y="1341360"/>
            <a:ext cx="7201080" cy="388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1619280" y="260280"/>
            <a:ext cx="604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бражение в выпуклом зеркал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08000" y="260280"/>
            <a:ext cx="525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ломление свет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>
            <a:hlinkClick r:id="rId2"/>
          </p:cNvPr>
          <p:cNvSpPr/>
          <p:nvPr/>
        </p:nvSpPr>
        <p:spPr>
          <a:xfrm>
            <a:off x="824400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836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еломлением света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называют изменение направления распространения света при переходе из одной среды в друг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4000" y="1779480"/>
            <a:ext cx="5760720" cy="4713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908000" y="260280"/>
            <a:ext cx="525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преломлен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817236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9079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4. Луч падающий, луч преломленный и перпендикуляр восстановленный в точке падения лежат в одной плоскости. Отношение синуса угла падения к синусу угла отражения величина постоянная.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 rot="7296600">
            <a:off x="2352240" y="4270320"/>
            <a:ext cx="94248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5729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5729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869000"/>
            <a:ext cx="4103640" cy="131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21320" y="4858200"/>
            <a:ext cx="1029240" cy="1270440"/>
            <a:chOff x="2821320" y="4858200"/>
            <a:chExt cx="1029240" cy="1270440"/>
          </a:xfrm>
        </p:grpSpPr>
        <p:sp>
          <p:nvSpPr>
            <p:cNvPr id="84" name=""/>
            <p:cNvSpPr/>
            <p:nvPr/>
          </p:nvSpPr>
          <p:spPr>
            <a:xfrm>
              <a:off x="3336480" y="5493600"/>
              <a:ext cx="51408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21320" y="4858200"/>
              <a:ext cx="51444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778120" y="3879720"/>
            <a:ext cx="810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7838400">
            <a:off x="2278800" y="4296240"/>
            <a:ext cx="1149840" cy="12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72" y="146"/>
                </a:moveTo>
                <a:arcTo wR="10800" hR="10800" stAng="-4833304" swAng="2655884"/>
                <a:lnTo>
                  <a:pt x="10800" y="10800"/>
                </a:lnTo>
                <a:close/>
              </a:path>
              <a:path fill="none" w="21600" h="21600">
                <a:moveTo>
                  <a:pt x="12572" y="146"/>
                </a:moveTo>
                <a:arcTo wR="10800" hR="10800" stAng="-4833304" swAng="26558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9440" y="55897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35400" y="3612240"/>
            <a:ext cx="2211480" cy="1271160"/>
            <a:chOff x="635400" y="3612240"/>
            <a:chExt cx="2211480" cy="1271160"/>
          </a:xfrm>
        </p:grpSpPr>
        <p:sp>
          <p:nvSpPr>
            <p:cNvPr id="90" name=""/>
            <p:cNvSpPr/>
            <p:nvPr/>
          </p:nvSpPr>
          <p:spPr>
            <a:xfrm>
              <a:off x="1740600" y="4246200"/>
              <a:ext cx="1106280" cy="63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400" y="3612240"/>
              <a:ext cx="1106640" cy="63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052720" y="39337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59280" y="2349360"/>
            <a:ext cx="2376360" cy="1368360"/>
            <a:chOff x="4859280" y="2349360"/>
            <a:chExt cx="2376360" cy="1368360"/>
          </a:xfrm>
        </p:grpSpPr>
        <p:sp>
          <p:nvSpPr>
            <p:cNvPr id="94" name=""/>
            <p:cNvSpPr/>
            <p:nvPr/>
          </p:nvSpPr>
          <p:spPr>
            <a:xfrm>
              <a:off x="4930560" y="2349360"/>
              <a:ext cx="11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sin</a:t>
              </a:r>
              <a:r>
                <a:rPr b="0" lang="el-GR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2200" y="292572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sin</a:t>
              </a:r>
              <a:r>
                <a:rPr b="0" lang="el-GR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83280" y="263844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= 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02200" y="2997000"/>
              <a:ext cx="1009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9280" y="2349360"/>
              <a:ext cx="2303280" cy="13683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32360" y="4797360"/>
            <a:ext cx="2158920" cy="1433160"/>
            <a:chOff x="4932360" y="4797360"/>
            <a:chExt cx="2158920" cy="1433160"/>
          </a:xfrm>
        </p:grpSpPr>
        <p:sp>
          <p:nvSpPr>
            <p:cNvPr id="100" name=""/>
            <p:cNvSpPr/>
            <p:nvPr/>
          </p:nvSpPr>
          <p:spPr>
            <a:xfrm>
              <a:off x="5148000" y="515772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n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1640" y="4797360"/>
              <a:ext cx="8632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Monotype Corsiva"/>
                </a:rPr>
                <a:t>v</a:t>
              </a:r>
              <a:r>
                <a:rPr b="0" lang="en-US" sz="4400" spc="-1" strike="noStrike" baseline="-25000">
                  <a:solidFill>
                    <a:srgbClr val="000099"/>
                  </a:solidFill>
                  <a:latin typeface="Monotype Corsiva"/>
                </a:rPr>
                <a:t>1</a:t>
              </a:r>
              <a:r>
                <a:rPr b="0" lang="en-US" sz="4400" spc="-1" strike="noStrike">
                  <a:solidFill>
                    <a:srgbClr val="000099"/>
                  </a:solidFill>
                  <a:latin typeface="Monotype Corsiva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56000" y="5373720"/>
              <a:ext cx="8632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Monotype Corsiva"/>
                </a:rPr>
                <a:t>v</a:t>
              </a:r>
              <a:r>
                <a:rPr b="0" lang="en-US" sz="4400" spc="-1" strike="noStrike" baseline="-25000">
                  <a:solidFill>
                    <a:srgbClr val="000099"/>
                  </a:solidFill>
                  <a:latin typeface="Monotype Corsiva"/>
                </a:rPr>
                <a:t>2</a:t>
              </a:r>
              <a:r>
                <a:rPr b="0" lang="en-US" sz="4400" spc="-1" strike="noStrike">
                  <a:solidFill>
                    <a:srgbClr val="000099"/>
                  </a:solidFill>
                  <a:latin typeface="Monotype Corsiva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0000" y="5516640"/>
              <a:ext cx="1009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2360" y="4797360"/>
              <a:ext cx="2158920" cy="13683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60720" y="40053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 –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казатель прелом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5:23Z</dcterms:modified>
  <cp:revision>75</cp:revision>
  <dc:subject/>
  <dc:title>PowerPoint Presentation</dc:title>
</cp:coreProperties>
</file>