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323-923C-4A7E-AA4C-09BA2615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0F8-B6B2-47CC-9EF7-C7FA9B1F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BB2-4CB4-4827-B3F4-D7AB3895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C22-3C97-416C-8E5B-9639FB1F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E4C-96D2-43E5-BA63-43B73B98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451-BBA5-4202-BA32-C8218605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363-41D9-4862-9CB3-E545F2E5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77C-6D82-416F-A0C9-43BBB1A0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A77-6E9B-4FF5-8C72-4871EA6B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92C-800A-4503-9DA1-5E8D119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BCF-4024-4C9C-B751-462EE2D5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859-AC0C-4BB8-94A1-21B67F79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8986-01D5-432E-BCA3-B8C43D7792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Lesson\&#1060;&#1080;&#1079;&#1080;&#1082;&#1072; 11\Video\&#1069;&#1052; &#1074;&#1086;&#1083;&#1085;&#1099;\3. &#1048;&#1079;&#1084;&#1077;&#1088;&#1077;&#1085;&#1080;&#1077; &#1076;&#1083;&#1080;&#1085;&#1099; &#1069;&#1052; &#1074;&#1086;&#1083;&#1085;&#1099;.avi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Lesson\&#1060;&#1080;&#1079;&#1080;&#1082;&#1072; 11\Video\&#1069;&#1052; &#1074;&#1086;&#1083;&#1085;&#1099;\4. &#1055;&#1086;&#1075;&#1083;&#1086;&#1097;&#1077;&#1085;&#1080;&#1077; &#1069;&#1052; &#1074;&#1086;&#1083;&#1085;.avi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C:\Lesson\&#1060;&#1080;&#1079;&#1080;&#1082;&#1072; 11\Video\&#1069;&#1052; &#1074;&#1086;&#1083;&#1085;&#1099;\5. &#1054;&#1090;&#1088;&#1072;&#1078;&#1077;&#1085;&#1080;&#1077; &#1069;&#1052; &#1074;&#1086;&#1083;&#1085;.avi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C:\Lesson\&#1060;&#1080;&#1079;&#1080;&#1082;&#1072; 11\Video\&#1069;&#1052; &#1074;&#1086;&#1083;&#1085;&#1099;\7. &#1055;&#1088;&#1077;&#1083;&#1086;&#1084;&#1083;&#1077;&#1085;&#1080;&#1077; &#1069;&#1052; &#1074;&#1086;&#1083;&#1085;&#1099; &#1074; &#1087;&#1088;&#1080;&#1079;&#1084;&#1077;.avi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Lesson\&#1060;&#1080;&#1079;&#1080;&#1082;&#1072; 11\Video\&#1069;&#1052; &#1074;&#1086;&#1083;&#1085;&#1099;\11. &#1087;&#1086;&#1087;&#1077;&#1088;&#1077;&#1095;&#1085;&#1086;&#1089;&#1090;&#1100; &#1069;&#1052; &#1074;&#1086;&#1083;&#1085;.avi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125360"/>
            <a:ext cx="71294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войства 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ЭМВ волн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547640" y="260280"/>
            <a:ext cx="583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рение длины ЭМВ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817236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45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ередатч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5257800" cy="4302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6" name=""/>
          <p:cNvSpPr/>
          <p:nvPr/>
        </p:nvSpPr>
        <p:spPr>
          <a:xfrm flipV="1">
            <a:off x="1042920" y="1844280"/>
            <a:ext cx="1225440" cy="360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45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т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3280" y="2491920"/>
            <a:ext cx="505080" cy="302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6443640" y="1915920"/>
            <a:ext cx="1441440" cy="338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2920" y="537372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еталлическая плас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692360" y="260280"/>
            <a:ext cx="460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глощение ЭМВ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530064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ЭМ волны не проходят через мета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ЭМ волны частично поглощаются диэлектри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/>
          </p:cNvPr>
          <p:cNvSpPr/>
          <p:nvPr/>
        </p:nvSpPr>
        <p:spPr>
          <a:xfrm>
            <a:off x="831708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835280" y="1052640"/>
            <a:ext cx="4968720" cy="4065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619280" y="1916280"/>
            <a:ext cx="938160" cy="217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2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ередатч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940360" y="2060640"/>
            <a:ext cx="1152720" cy="14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93080" y="1773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ём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5327640" cy="4243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0" name=""/>
          <p:cNvSpPr txBox="1"/>
          <p:nvPr/>
        </p:nvSpPr>
        <p:spPr>
          <a:xfrm>
            <a:off x="1908000" y="260280"/>
            <a:ext cx="439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ражение ЭМВ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589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ЭМ волны отражаются от мет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/>
          </p:cNvPr>
          <p:cNvSpPr/>
          <p:nvPr/>
        </p:nvSpPr>
        <p:spPr>
          <a:xfrm>
            <a:off x="831708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492000" y="1268280"/>
            <a:ext cx="2808360" cy="648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162864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еталлическая плас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0" t="0" r="0" b="3294"/>
          <a:stretch/>
        </p:blipFill>
        <p:spPr>
          <a:xfrm>
            <a:off x="395280" y="1052640"/>
            <a:ext cx="5761080" cy="4557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6" name=""/>
          <p:cNvSpPr txBox="1"/>
          <p:nvPr/>
        </p:nvSpPr>
        <p:spPr>
          <a:xfrm>
            <a:off x="900000" y="260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ломление ЭМВ в призм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87700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ЭМ волны преломляются в диэлектрик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/>
          </p:cNvPr>
          <p:cNvSpPr/>
          <p:nvPr/>
        </p:nvSpPr>
        <p:spPr>
          <a:xfrm>
            <a:off x="831708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635280" y="1557360"/>
            <a:ext cx="2952720" cy="503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2920" y="119700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зма из диэлект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92360" y="260280"/>
            <a:ext cx="460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еречность ЭМВ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>
            <a:hlinkClick r:id="rId2"/>
          </p:cNvPr>
          <p:cNvSpPr/>
          <p:nvPr/>
        </p:nvSpPr>
        <p:spPr>
          <a:xfrm>
            <a:off x="831708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465300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Если решётки расположены параллельно, то ЭМВ проходят через реш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4249800" cy="3476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643280" y="907920"/>
            <a:ext cx="4248360" cy="3475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680000" y="4653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Если решётки расположены перпендикулярно, то ЭМВ не проходят через реш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02-28T02:32:49Z</dcterms:modified>
  <cp:revision>57</cp:revision>
  <dc:subject/>
  <dc:title>PowerPoint Presentation</dc:title>
</cp:coreProperties>
</file>