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push.wav" ContentType="audio/x-wav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chimes.wav" ContentType="audio/x-wav"/>
  <Override PartName="/ppt/media/image16.jpeg" ContentType="image/jpeg"/>
  <Override PartName="/ppt/media/drumroll.wav" ContentType="audio/x-wav"/>
  <Override PartName="/ppt/media/image15.jpeg" ContentType="image/jpeg"/>
  <Override PartName="/ppt/media/type.wav" ContentType="audio/x-wav"/>
  <Override PartName="/ppt/media/image14.jpeg" ContentType="image/jpeg"/>
  <Override PartName="/ppt/media/image1.wmf" ContentType="image/x-wmf"/>
  <Override PartName="/ppt/media/image2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10D-9734-4D13-8C8C-32EE22499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8D77-C4CD-4294-A94F-3F5F4D97F8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742-9F9E-4D5A-ACCA-783AF554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8C6-5A99-40BD-BE29-A45E8F76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E9BC0-47C3-4327-A44E-DB8D3A13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B4AD-BFB0-4DAB-A4DB-E255B0E2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08841-FE64-435C-9138-A1DD3A4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00045-A535-4D2B-9D1A-1DB4C5A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5A4C-4360-4506-88BB-5F2DAEA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513F-A129-434A-B7BF-D34B3C9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6CB09-F058-4BFE-A24E-68A0ADB2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2F580-9943-4BCA-99CE-BC7068E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B190C-D1AC-44B9-91AD-607B7D77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4F9D0-E1A2-47A7-8496-54484C66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6F5-E0CF-40C3-AEC9-C7FB5440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55273-B98E-4E0C-9437-4538D36A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A1753-F815-4820-8A28-940DBC91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F6E08-901A-4453-8709-9A3F54BD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FFC93-9307-4805-BD54-B4E0C16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D7D06-22E6-4749-8797-7884540C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EC517-7FC2-4726-BE45-AF9DA28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6DF71-8DCA-4B68-9AFB-D28C338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3D348-2969-4355-8710-4C84F9CB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842B0-E18A-42AE-8119-78DB0FD0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EA258-3754-4097-A8D6-5DE42621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2E8-B39A-4B9C-B5E7-716D0124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6FF94-A6D4-4511-AE60-E22B77EA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940AE-7E53-4A30-B894-658126B1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2C988-F38F-4955-9802-02BA377B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9E953-3EAD-41A6-A07B-7CDE0E75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EE979-0BB1-4054-8E1E-89CF753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76646-EB80-4BE5-BD8F-6564B229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82247-057D-4373-AC79-306E3ADB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BBF7B-A302-4F0E-8CAE-284FDE1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45A62-BA14-45B1-9ECA-79BED24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9B364-4085-4352-93B1-03F6A64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1EF-60FF-43E5-8C9C-38DB050D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B7246-F35F-4426-B6EF-3242CFE2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08D3E-657C-49AE-A772-C1C7A3EE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82A4-1574-4EF1-91BC-265EEE01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44AD6-BC4A-4BFF-9E58-ACA66FA6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EB0A7-D47B-4DB6-841D-5DB48F2C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8777-D347-4E29-B03A-CB26456F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28A85-96CF-4DC8-B16A-2F200CE2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ECA0D-3F6F-4F0A-A39A-5DD3DDD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19D7F-DB26-4124-A4BB-DB341498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75BBE-FA7B-4037-9FB4-3D32CF7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B228-4F09-48AD-AAFF-E085A85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B8644-5675-456B-A77F-72CBC9C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24ACC-55F7-4E9D-8817-E23B2FD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7A48F-5B5E-47C8-9B38-07FFB8BB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847DD-5CDE-4EF1-AFDA-4BAB3213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2AD5A-0F01-4949-AE07-97451C06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1B813-A817-4913-BD8B-C6504A59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4E4FB-7706-4E1F-BD1C-B672CAD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D86AC-D54D-45ED-BC53-76061270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D5AD3-4C91-4C8E-8DA5-CEB50FA7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6B983-3FC3-4D6C-8A8C-8607F7E6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0C1A-C58B-4FFC-9655-BBB19BD4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B2ADA-BA61-43E6-8F46-1DA7F01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B2888-E5B4-49B3-8D68-7AF0A97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0375E-9A39-4995-BBE1-CFE6022C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BB8F3-EA7C-411A-B024-B451B4B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2DA9D-883B-43CA-B627-4C9E5BD4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DF02E-254E-4D14-8FC3-161727B6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A27D6-1A3E-4F36-BA94-091E0A26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D94DF-CC72-418E-A90A-7CF50A97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F245E-169D-4D94-A6BA-B984AF6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3B106-B71C-435A-9F5B-9262B856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BFE7-909E-4E85-90CC-5C2C6AD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E98D9-9205-4329-9438-8B92383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6B35E-A0CA-4797-9FFE-9308DD5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5C5CD-354C-4A92-AE67-1B6514A9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82257-B129-4609-A402-24F2D2B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6CAE9-208D-4747-AD5B-8C22115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AB37B-A37B-4D3C-A5F1-911209B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B63A1-4A92-491E-9C35-B1CE477A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93ACE-9287-4E4D-8908-EAF69AA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9F781-6785-4F01-9047-768D0DC4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B1B9-2673-444D-A2FD-4738E95B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5373-DFC4-43AF-B040-7AC60739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8C9-2C12-4BA7-9A95-DE4BF89F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83B-CB48-4269-8F4B-A1553D44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9722-56CB-449F-A89A-F148A8B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238F-F5D1-4A34-B676-761E069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FA62-F259-470A-84C3-5737C7F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F59-1C3B-40EA-8740-FD22006C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E9BB-9908-4970-87FF-2435EA8B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256A-5E6E-44BE-8F67-56BC6227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BB48-E8AA-4B59-8939-981ECB78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1BF6-28D7-47B9-A31B-85CF090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652B-8541-4FB4-AC14-5F9B43E4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428A-15DB-4CE8-9B34-E4669D2C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256-46CF-4C80-85C5-DE5DC39F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7A70-FDB9-414A-B8EA-4B652737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AE29-5025-4F69-9568-C1CB9BA8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4C2D-A840-4CB7-86C1-41D20A14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7C22-BFF0-432E-905D-1431692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0CA9-8B86-4DB6-83AC-C6B42AE9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3C41-4CAE-4FEF-8CD7-E365AA82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545E-F8AB-4C4C-A8E4-20F567A4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CFB20-BA94-47F0-8BA8-2CCB17DF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09C1-91D2-4912-AFF1-53EB7B60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30EC6-9CE0-4F1A-A401-B65352B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612-C153-45FB-A981-C7C56390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E75F-B672-44DD-B5F5-668A8FC9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25B4-060C-4B98-A554-C8CD3B49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96109-DFEB-47A2-8D33-4DA2571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1EC8-5B21-43F5-92C2-F49542A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DD1E-0AFF-43E9-B4D8-DCD9901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791D3-A655-45BA-939D-B919FEA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75DB-ABB3-4A75-B606-106339BD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9D93-CA78-4B0C-B039-726E9F99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DC838-92AA-4B59-AFD0-4EE5BC90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CB6D-FE17-409E-B7C4-2AAD0F32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88D-5984-44A0-BB41-9C297B0A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572AD-034A-4D14-99E9-9D17BAAB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85F6-E9F7-4BBD-A984-E613ED25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E4731-B868-4A95-A6CD-5832FC4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23922-F056-4CDB-8081-F9AE215D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5B78-DA97-4A82-9014-01482212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17471-1017-4D94-94D4-7EBEDC6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5AF7-30DA-4FBB-AF43-56650B8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8CAB-FA80-4E2B-84F4-4644E22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B66B-69D7-4BB7-A572-40B2B84B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99A0-4445-4D4E-8B91-10D4BA1F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052-E86D-4753-A06F-DF87B2BF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19B9-DED6-47C4-B7D0-45874E13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87E4-DEC0-4900-BACC-2C8CA8C9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E227-D571-4017-972A-D8174C0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F9FB-2A68-440C-BFD7-20F2CF1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2AB3A-48A1-40A1-A001-64B9AB20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1D482-F8F6-4CED-AD7D-0C2CE046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E140C-899D-4DCB-90D0-251C3F6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E425-8C28-431B-8125-8B124390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F468-6949-4DED-8EB8-9131CAB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5EEF3-890F-48B6-BC67-FED54E14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E27-CE3E-436B-AB10-41E3643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0768-7FF7-445F-A3A3-BE2F2ABE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04C6-CA95-4424-BB57-BCA423DC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737C8-27EB-47F7-8FF2-C76F57FE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36271-0CEC-454B-86BE-A6BBFC5E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A9E28-B089-418C-9708-75607F8C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646D2-9348-4C44-9693-C9CB97CB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B8A60-C169-4D8D-866C-336A4904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8DC2E-DBE4-4639-8060-3EEA52D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5B8AD-4CF1-41EF-8AFB-837D04F3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2E30F-8B1F-4675-AEDC-BFF77EF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B7F-5524-4636-9533-F0044E82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5C6A5-9FB2-4930-A1DD-BF59B86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0EEDC-0FCC-4D36-B842-A65B6388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1AE46-151B-4127-8B3A-39191BFE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EF86C-BB79-481B-8D60-A1D58D2B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70995-3E39-4724-8952-AE0E10BE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AF0D9-6F66-47D8-978F-49B2FAA3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950E0-D336-449C-896A-DEFBF629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B053A-99F7-48D2-A794-1238DC25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6756A-5DAB-4EE5-985E-92DC2378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8CB47-42ED-4B00-A7B5-F4489286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CD7-7CDF-412F-9FEC-E219706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C2821-1023-4888-933E-064B170A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4F165-2EBE-4286-A392-6A5F001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B8C03-C682-4FC5-94D1-E9721EB6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83B44-3E95-4FA7-BA7E-EDF28F82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1CCA-AA81-4912-A0B0-581E307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CC51-4499-431D-ACFA-1A9F4229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7933-8CDC-4865-A5FE-FA334C8C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D17B6-09EE-4DA8-89B3-4F80BFF3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E486-FEC1-486F-A752-64A6898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A6374-63B6-488B-8084-9215923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F155-F555-4BE0-9AC6-2C789289474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9EC1-BFBB-4CAB-A4E1-C950967FB0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28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E40-1A6F-4A2C-B966-D9A2CF6DD8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A060-F0B5-47CC-AC29-A79914244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7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F8E4-2272-4991-861B-484F81CD0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62E-EAA9-4224-A115-8BBFD78F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5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5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5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63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6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6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7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AE5E-FB4E-4A54-A638-942196B8BC80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848-359A-41E3-823E-EDBC9B4674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1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1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2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2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2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2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82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83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4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9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4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5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BD3D-86FA-4319-A64D-FA2CFEA172F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C63-2676-4BE0-AB48-759DC350B7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1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47BC-4AF3-40C4-B2F0-B2EF8D948C0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A44D-DBEA-437D-B49C-059419F09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B6D5-4CD0-4125-B81A-5C729CF314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0305-EFF1-4563-8F00-AE918690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7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0222-F7E2-4CC3-B7AC-40A7FF2B77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ABD8-8563-4B2D-8595-AB98804EB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7AA-80E7-4781-AC14-9336C4E4B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A535-6756-48E4-9A52-B89A3D156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CC6-786F-4AA3-9796-B2586DF463E7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66A6-77F1-4163-9B56-D9762BE440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7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7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28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9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4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4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35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CE86-43AF-498D-8B89-FE9D1BB2622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AD4-CC63-4C48-A0FD-253F4D175F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B62-4436-4613-9522-2B2F0410B6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7642-1F28-4BA7-8FEF-A38F766BA52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9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0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0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2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2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9D18-DE8F-4251-ABDB-693BD9FDD522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975-E412-434F-B49A-5DA210A8D3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7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8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5E5-4BD9-4345-84B3-BFC23FCE9470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5BF9-F102-4482-A46F-BE5B6588116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37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8975-BE69-4130-9859-21990844093A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37440" cy="410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«Кроме того, потому обратить тебе надо внимань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На суматоху в телах, мелькающих в Солнечном свете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Что из нее познаешь ты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материи также движенья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Происходящие в ней потаенно и скрыто от взора.            Ибо увидишь ты там, как много пылинок меняю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Путь свой от скрытых толчков и опять отлетают обратно, Всюду туда и сюда разбегаясь во всех направленьях».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866920" y="4868640"/>
            <a:ext cx="29847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укреций К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70 </a:t>
            </a:r>
            <a:r>
              <a:rPr b="0" lang="uk-UA" sz="2800" spc="-1" strike="noStrike">
                <a:solidFill>
                  <a:srgbClr val="ffff00"/>
                </a:solidFill>
                <a:latin typeface="Tahoma"/>
              </a:rPr>
              <a:t>рік до н. 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blinds dir="vert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1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1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Дата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B99A-2DD5-41C7-B5F8-6E0E0FDB9708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Вивчаємо броунівський рух разом з нам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Якщо подивитися у мікроскоп на маленькі частинки які плавають на поверхні маленької краплі води, можна побачити що частинки рухаються швидко, безладно і не прагнуть до спокою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7" name="Picture 7" descr="микроскоп"/>
          <p:cNvPicPr/>
          <p:nvPr/>
        </p:nvPicPr>
        <p:blipFill>
          <a:blip r:embed="rId1"/>
          <a:stretch/>
        </p:blipFill>
        <p:spPr>
          <a:xfrm>
            <a:off x="755640" y="1700280"/>
            <a:ext cx="3300480" cy="38876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blinds dir="vert"/>
    <p:sndAc>
      <p:stSnd>
        <p:snd r:embed="rId2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5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3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Дата 3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F48E-BBDA-44DA-9DB6-482BBEC8AAF8}" type="datetime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112000" cy="26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Такий рух зважених в рідині, або газі частинок називають броунівським рухом на честь англійського вченого, який вперше спостерігав таку картину у 1827 році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0" name="Picture 4" descr="brown_robert_160"/>
          <p:cNvPicPr/>
          <p:nvPr/>
        </p:nvPicPr>
        <p:blipFill>
          <a:blip r:embed="rId1"/>
          <a:stretch/>
        </p:blipFill>
        <p:spPr>
          <a:xfrm>
            <a:off x="5829480" y="549360"/>
            <a:ext cx="2911320" cy="3456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молекулы"/>
          <p:cNvPicPr/>
          <p:nvPr/>
        </p:nvPicPr>
        <p:blipFill>
          <a:blip r:embed="rId2"/>
          <a:stretch/>
        </p:blipFill>
        <p:spPr>
          <a:xfrm rot="20790600">
            <a:off x="2339640" y="3212640"/>
            <a:ext cx="2895480" cy="31845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6" descr="IMAGE0005"/>
          <p:cNvPicPr/>
          <p:nvPr/>
        </p:nvPicPr>
        <p:blipFill>
          <a:blip r:embed="rId3"/>
          <a:stretch/>
        </p:blipFill>
        <p:spPr>
          <a:xfrm rot="6335400">
            <a:off x="6630840" y="4178160"/>
            <a:ext cx="2592360" cy="32529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checker dir="horz"/>
    <p:sndAc>
      <p:stSnd>
        <p:snd r:embed="rId4" name="camera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576 -0.7422 C -0.72899 -0.79307 -0.53663 -0.85549 -0.40156 -0.73572 C -0.39948 -0.73087 -0.39687 -0.72601 -0.39514 -0.72093 C -0.39375 -0.71677 -0.39201 -0.70821 -0.39201 -0.70798 C -0.39601 -0.6837 -0.39514 -0.69064 -0.40625 -0.67445 C -0.41024 -0.66867 -0.41267 -0.66058 -0.41736 -0.65549 C -0.42674 -0.64532 -0.43611 -0.63885 -0.44601 -0.63006 C -0.45417 -0.62289 -0.46076 -0.61179 -0.46979 -0.60671 C -0.50347 -0.58775 -0.53924 -0.57642 -0.57292 -0.55815 C -0.58646 -0.55075 -0.60156 -0.54729 -0.61424 -0.53711 C -0.62205 -0.53087 -0.62865 -0.52208 -0.63646 -0.51584 C -0.64479 -0.50937 -0.65174 -0.50359 -0.65712 -0.49272 C -0.65712 -0.49179 -0.6566 -0.47283 -0.65399 -0.46752 C -0.64965 -0.45827 -0.64149 -0.45827 -0.6349 -0.45457 C -0.62187 -0.44717 -0.60851 -0.44208 -0.59514 -0.43584 C -0.55712 -0.437 -0.51892 -0.43792 -0.4809 -0.43977 C -0.46927 -0.4407 -0.44601 -0.44416 -0.44601 -0.4437 C -0.4217 -0.44324 -0.39722 -0.44509 -0.37292 -0.44185 C -0.3691 -0.44139 -0.36667 -0.4363 -0.36371 -0.43353 C -0.36042 -0.43098 -0.35608 -0.43052 -0.3526 -0.42914 C -0.35156 -0.42659 -0.34913 -0.42428 -0.34913 -0.42081 C -0.34913 -0.41757 -0.35156 -0.41549 -0.3526 -0.41249 C -0.35712 -0.397 -0.35365 -0.4 -0.36181 -0.38474 C -0.36476 -0.37942 -0.36858 -0.37526 -0.37153 -0.36994 C -0.37396 -0.36463 -0.37517 -0.35838 -0.37795 -0.35307 C -0.38264 -0.34289 -0.38941 -0.33434 -0.39358 -0.32347 C -0.39566 -0.31792 -0.39722 -0.31168 -0.4 -0.30659 C -0.4033 -0.30127 -0.40781 -0.29734 -0.41111 -0.29179 C -0.41371 -0.2874 -0.4151 -0.28185 -0.41736 -0.277 C -0.43316 -0.24393 -0.44774 -0.21757 -0.45243 -0.17757 C -0.45191 -0.16486 -0.45278 -0.15191 -0.45069 -0.13966 C -0.45 -0.13572 -0.44635 -0.13411 -0.44444 -0.13133 C -0.42778 -0.1059 -0.45677 -0.14613 -0.43021 -0.11006 C -0.42708 -0.10567 -0.42153 -0.10613 -0.41736 -0.10382 C -0.40799 -0.09804 -0.39844 -0.09434 -0.38889 -0.08902 C -0.38663 -0.08902 -0.36632 -0.08925 -0.35885 -0.09341 C -0.33507 -0.10567 -0.31476 -0.12763 -0.29358 -0.14613 C -0.2809 -0.157 -0.26823 -0.16902 -0.25556 -0.17989 C -0.24201 -0.19191 -0.23802 -0.19191 -0.22535 -0.20532 C -0.21858 -0.21249 -0.21562 -0.21966 -0.20972 -0.22844 C -0.19236 -0.25387 -0.20972 -0.22752 -0.19514 -0.24532 C -0.18142 -0.26243 -0.17187 -0.27792 -0.15712 -0.29411 C -0.14132 -0.31098 -0.12101 -0.32231 -0.10469 -0.33827 C -0.10052 -0.34266 -0.0974 -0.34844 -0.09358 -0.35307 C -0.09045 -0.35677 -0.08733 -0.36023 -0.08403 -0.3637 C -0.08038 -0.3674 -0.07621 -0.37018 -0.07292 -0.37434 C -0.06649 -0.38243 -0.06059 -0.39168 -0.05399 -0.39954 C -0.03871 -0.41781 -0.02483 -0.43931 -0.00469 -0.44856 C 0.00087 -0.45087 0.00694 -0.45087 0.01267 -0.45249 C 0.09549 -0.43098 0.02205 -0.45387 0.0191 -0.14613 C 0.01892 -0.13572 0.01615 -0.12763 0.01267 -0.11838 C 0.01111 -0.09341 0.0066 -0.07145 0.00313 -0.04671 C 0.00243 -0.04231 -2.77778E-007 -0.03838 -2.77778E-007 -0.03422 C -2.77778E-007 -0.02289 0.07448 -0.26197 0.08715 -0.0252 E">
                                      <p:cBhvr>
                                        <p:cTn id="48" dur="2000" fill="hold"/>
                                        <p:tgtEl>
                                          <p:spTgt spid="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9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440"/>
                            </p:stCondLst>
                            <p:childTnLst>
                              <p:par>
                                <p:cTn id="6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Дата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E717-68AE-426A-B5CF-9C245D077113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1692360" y="3573360"/>
            <a:ext cx="69134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 на справді існує визначений встановившийся режим швидких і безладних  рухі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оказом такого руху молекул є дифузі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34544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 природі і побуті ми зустрічаємось з властивістю природи, яку називають рівновагою: кажущійся спокій є тільки ілюзія, яка залежить від недосконалості наших почуттів,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21000">
    <p:checker dir="horz"/>
    <p:sndAc>
      <p:stSnd>
        <p:snd r:embed="rId1" name="camera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Дата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1EFF-514A-4054-8F0F-4AC1E4E90F8D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7" name="Picture 4" descr="пипетка"/>
          <p:cNvPicPr/>
          <p:nvPr/>
        </p:nvPicPr>
        <p:blipFill>
          <a:blip r:embed="rId1"/>
          <a:stretch/>
        </p:blipFill>
        <p:spPr>
          <a:xfrm rot="20471400">
            <a:off x="4355640" y="2133720"/>
            <a:ext cx="3924360" cy="386064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494964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ифузія це взаємне проникнення однієї речовини в іншу при з'єднанні речовин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12000">
    <p:blinds dir="vert"/>
    <p:sndAc>
      <p:stSnd>
        <p:snd r:embed="rId2" name="push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AA21-2A7F-4626-933C-58315AE4B46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6778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Bodoni MT"/>
              </a:rPr>
              <a:t>Броунівський рух і є справжній молекулярний рух і основа всієї Природи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1" name="Picture 4" descr="moon_sea_300"/>
          <p:cNvPicPr/>
          <p:nvPr/>
        </p:nvPicPr>
        <p:blipFill>
          <a:blip r:embed="rId1"/>
          <a:stretch/>
        </p:blipFill>
        <p:spPr>
          <a:xfrm>
            <a:off x="3780000" y="270828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  <p:sndAc>
      <p:stSnd>
        <p:snd r:embed="rId2" name="drumroll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10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Дата 3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42A8-C64E-4331-9243-D7008645986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Ось до якого заключення приводе нас молекулярна гіпотеза і броунівський рух дає  те  кінцеве підтвердження, яке ми дожидали: </a:t>
            </a: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будь яка частинка матерії , знаходячись в рідині , отримує поштовхи від її молекул, неприривно штовхаючих частин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18000">
    <p:checker dir="horz"/>
    <p:sndAc>
      <p:stSnd>
        <p:snd r:embed="rId2" name="type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Дата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0E2E-375E-4096-99D2-4BFBC5631C4D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Цю презентацію для вас готували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098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в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94920" y="2636640"/>
            <a:ext cx="2233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вг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р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9" name="Picture 4" descr="иван"/>
          <p:cNvPicPr/>
          <p:nvPr/>
        </p:nvPicPr>
        <p:blipFill>
          <a:blip r:embed="rId1"/>
          <a:stretch/>
        </p:blipFill>
        <p:spPr>
          <a:xfrm>
            <a:off x="2700360" y="1628640"/>
            <a:ext cx="1662120" cy="2016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" descr="ира"/>
          <p:cNvPicPr/>
          <p:nvPr/>
        </p:nvPicPr>
        <p:blipFill>
          <a:blip r:embed="rId2"/>
          <a:stretch/>
        </p:blipFill>
        <p:spPr>
          <a:xfrm>
            <a:off x="7093080" y="1628640"/>
            <a:ext cx="1793880" cy="20163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6" descr="женя"/>
          <p:cNvPicPr/>
          <p:nvPr/>
        </p:nvPicPr>
        <p:blipFill>
          <a:blip r:embed="rId3"/>
          <a:stretch/>
        </p:blipFill>
        <p:spPr>
          <a:xfrm>
            <a:off x="4788000" y="1628640"/>
            <a:ext cx="1805040" cy="2017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  <p:sndAc>
      <p:stSnd>
        <p:snd r:embed="rId4" name="applause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Дата 3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684A-C3BB-4F2F-962F-49BB1BA54A3B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3" name="Picture 5" descr="05"/>
          <p:cNvPicPr/>
          <p:nvPr/>
        </p:nvPicPr>
        <p:blipFill>
          <a:blip r:embed="rId1"/>
          <a:stretch/>
        </p:blipFill>
        <p:spPr>
          <a:xfrm>
            <a:off x="684360" y="4149720"/>
            <a:ext cx="8208720" cy="216072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інець фільму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763640" y="2133360"/>
            <a:ext cx="29577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. Харкі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10-а кла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6" name="Picture 4" descr="Пузыри"/>
          <p:cNvPicPr/>
          <p:nvPr/>
        </p:nvPicPr>
        <p:blipFill>
          <a:blip r:embed="rId2"/>
          <a:stretch/>
        </p:blipFill>
        <p:spPr>
          <a:xfrm>
            <a:off x="5292720" y="404640"/>
            <a:ext cx="3251160" cy="32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01:33Z</dcterms:created>
  <dc:creator>иван</dc:creator>
  <dc:description/>
  <dc:language>en-US</dc:language>
  <cp:lastModifiedBy>Admin</cp:lastModifiedBy>
  <dcterms:modified xsi:type="dcterms:W3CDTF">2010-01-24T23:02:03Z</dcterms:modified>
  <cp:revision>12</cp:revision>
  <dc:subject/>
  <dc:title>Кроме того, потому обратить тебе надо вниманье  На суматоху в телах, мелькающих в Солнечном свете,  Что из нее познаешь ты материи также движенья,  Происходящие в ней потаенно и скрыто от взора.            Ибо увидишь ты там, как много пылинок меняют   Путь свой от скрытых толчков и опять отлетают обратно, Всюду туда и сюда разбегаясь во всех направленьях. </dc:title>
</cp:coreProperties>
</file>