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F9D-AED6-4CAA-A674-4AA8D141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E87-C3D0-4A2E-957C-5D0F1FD0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6EC-9948-412A-A5FB-A7CD1883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954-1C35-4648-A98E-EAF57354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ED12-06DC-4680-8729-215578B7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89B3-8D26-4D79-B663-951BA9F8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3AF6-FB4E-4BE9-B549-43455F87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B523-46B6-402D-B38D-5619BCD0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BD58-BE78-4805-A2BC-8CBCC0D6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7BEF-58EA-48D9-8BFA-A43B17A3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CC36-558F-4BC2-97B3-6A54885C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17D-413D-4450-B78F-0B792DCF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E827-AA87-46E6-ABBA-26625B86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617D-992D-410C-A638-111E884C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5215-B08E-431A-8E18-CC47D364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27E5-DB6F-487F-BA1F-D71B60C1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1F2B-AA36-4C39-963F-5DECC0EB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53C-32B0-44D5-AAB5-D8BBA53E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F2E-6CE2-4E36-AE24-922E024B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6A8-58EA-4D6C-9FE0-58E2AB9B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054-588B-4655-BB28-132B4BC1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609-A6C1-4D98-B44D-9267F19E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331-E158-4A8B-996D-0547B969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E4C-C318-4D55-9AD9-5FBCACC3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7279-67EA-4314-8F1D-5500A462A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B93C-C26E-44A9-9B10-7D6BF8ADD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Плавание судов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здухоплав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771640" y="0"/>
            <a:ext cx="2592360" cy="620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0" y="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2771640" y="0"/>
            <a:ext cx="273708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8ae"/>
                  </a:solidFill>
                  <a:miter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ирижабль</a:t>
            </a:r>
            <a:endParaRPr b="1" lang="en-US" sz="2800" spc="1" strike="noStrike">
              <a:ln w="9360">
                <a:solidFill>
                  <a:srgbClr val="0068ae"/>
                </a:solidFill>
                <a:miter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551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ирижабль - управляемый летательный аппарат легче возду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мещение его по горизонтали осуществляется с помощью двиг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вное достоинство - большая грузоподъёмность. В будущем дирижаб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спективны как «летающие кран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75640" y="0"/>
            <a:ext cx="468360" cy="549360"/>
          </a:xfrm>
          <a:prstGeom prst="rect">
            <a:avLst/>
          </a:prstGeom>
          <a:solidFill>
            <a:srgbClr val="3879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244000" y="6524640"/>
            <a:ext cx="900000" cy="333360"/>
          </a:xfrm>
          <a:custGeom>
            <a:avLst/>
            <a:gdLst>
              <a:gd name="textAreaLeft" fmla="*/ 21600 w 900000"/>
              <a:gd name="textAreaRight" fmla="*/ 878400 w 90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8276" h="21600">
                <a:moveTo>
                  <a:pt x="0" y="0"/>
                </a:moveTo>
                <a:lnTo>
                  <a:pt x="58276" y="0"/>
                </a:lnTo>
                <a:lnTo>
                  <a:pt x="58276" y="21600"/>
                </a:lnTo>
                <a:lnTo>
                  <a:pt x="0" y="21600"/>
                </a:lnTo>
                <a:close/>
              </a:path>
              <a:path fill="lightenLess" w="58276" h="21600">
                <a:moveTo>
                  <a:pt x="0" y="0"/>
                </a:moveTo>
                <a:lnTo>
                  <a:pt x="58276" y="0"/>
                </a:lnTo>
                <a:lnTo>
                  <a:pt x="56876" y="1400"/>
                </a:lnTo>
                <a:lnTo>
                  <a:pt x="1400" y="1400"/>
                </a:lnTo>
                <a:close/>
              </a:path>
              <a:path fill="darken" w="58276" h="21600">
                <a:moveTo>
                  <a:pt x="58276" y="0"/>
                </a:moveTo>
                <a:lnTo>
                  <a:pt x="58276" y="21600"/>
                </a:lnTo>
                <a:lnTo>
                  <a:pt x="56876" y="20200"/>
                </a:lnTo>
                <a:lnTo>
                  <a:pt x="56876" y="1400"/>
                </a:lnTo>
                <a:close/>
              </a:path>
              <a:path fill="darkenLess" w="58276" h="21600">
                <a:moveTo>
                  <a:pt x="5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76" y="20200"/>
                </a:lnTo>
                <a:close/>
              </a:path>
              <a:path fill="lighten" w="5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276" h="21600">
                <a:moveTo>
                  <a:pt x="22131" y="3794"/>
                </a:moveTo>
                <a:lnTo>
                  <a:pt x="36144" y="10800"/>
                </a:lnTo>
                <a:lnTo>
                  <a:pt x="22131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042920" y="189000"/>
            <a:ext cx="66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99ff99">
                      <a:alpha val="80000"/>
                    </a:srgbClr>
                  </a:outerShdw>
                </a:effectLst>
                <a:latin typeface="Times New Roman"/>
              </a:rPr>
              <a:t>П р о в е р ь  с е б я 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99ff99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981000"/>
            <a:ext cx="8207280" cy="4969080"/>
          </a:xfrm>
          <a:prstGeom prst="rect">
            <a:avLst/>
          </a:prstGeom>
          <a:solidFill>
            <a:srgbClr val="ccecff"/>
          </a:solidFill>
          <a:ln w="9360">
            <a:solidFill>
              <a:srgbClr val="387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 знаете, чт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. газы действуют на погружённые в них тела с некоторой сил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и жид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. жидкости действуют на погруженное в них тело с больш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талкивающей силой, чем га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 выталкивающая сила тем больше, чем больше плот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д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. сила, выталкивающая тело, плавающее на поверхности жидк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а весу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же приведены примеры, поясняющие эти утвер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водой мы можем легко поднять камень, который с труд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нимаем в воздух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В морской воде легче плавать, чем в реч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При загрузке корабля увеличивается глубина его осад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Детский воздушный шар, наполненный гелием, поднимается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6308640"/>
            <a:ext cx="5472000" cy="2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Ы:   А4;   Б1;   В2;   Г3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1042920" cy="287280"/>
          </a:xfrm>
          <a:custGeom>
            <a:avLst/>
            <a:gdLst>
              <a:gd name="textAreaLeft" fmla="*/ 18360 w 1042920"/>
              <a:gd name="textAreaRight" fmla="*/ 1024560 w 104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8344" h="21600">
                <a:moveTo>
                  <a:pt x="0" y="0"/>
                </a:moveTo>
                <a:lnTo>
                  <a:pt x="78344" y="0"/>
                </a:lnTo>
                <a:lnTo>
                  <a:pt x="78344" y="21600"/>
                </a:lnTo>
                <a:lnTo>
                  <a:pt x="0" y="21600"/>
                </a:lnTo>
                <a:close/>
              </a:path>
              <a:path fill="lightenLess" w="78344" h="21600">
                <a:moveTo>
                  <a:pt x="0" y="0"/>
                </a:moveTo>
                <a:lnTo>
                  <a:pt x="78344" y="0"/>
                </a:lnTo>
                <a:lnTo>
                  <a:pt x="76944" y="1400"/>
                </a:lnTo>
                <a:lnTo>
                  <a:pt x="1400" y="1400"/>
                </a:lnTo>
                <a:close/>
              </a:path>
              <a:path fill="darken" w="78344" h="21600">
                <a:moveTo>
                  <a:pt x="78344" y="0"/>
                </a:moveTo>
                <a:lnTo>
                  <a:pt x="78344" y="21600"/>
                </a:lnTo>
                <a:lnTo>
                  <a:pt x="76944" y="20200"/>
                </a:lnTo>
                <a:lnTo>
                  <a:pt x="76944" y="1400"/>
                </a:lnTo>
                <a:close/>
              </a:path>
              <a:path fill="darkenLess" w="78344" h="21600">
                <a:moveTo>
                  <a:pt x="78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944" y="20200"/>
                </a:lnTo>
                <a:close/>
              </a:path>
              <a:path fill="lighten" w="78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344" h="21600">
                <a:moveTo>
                  <a:pt x="32165" y="3794"/>
                </a:moveTo>
                <a:lnTo>
                  <a:pt x="46178" y="10800"/>
                </a:lnTo>
                <a:lnTo>
                  <a:pt x="32165" y="1780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2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2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00000" y="26028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03280" y="404640"/>
            <a:ext cx="6048360" cy="71640"/>
          </a:xfrm>
          <a:prstGeom prst="rect">
            <a:avLst/>
          </a:prstGeom>
        </p:spPr>
        <p:txBody>
          <a:bodyPr wrap="none" fromWordArt="1" lIns="90000" rIns="90000" tIns="25200" bIns="252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ec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оверь себя!</a:t>
            </a:r>
            <a:endParaRPr b="1" lang="en-US" sz="1800" spc="1" strike="noStrike">
              <a:ln w="9360">
                <a:solidFill>
                  <a:srgbClr val="ccec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765000"/>
            <a:ext cx="7418520" cy="5400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Поведение тел в воде зависит от их плотности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если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А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плотность тела больше плотности воды, т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Б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плотность тела меньше плотности воды, т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В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плотность тела равна плотности воды, т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тело всплывает.       2. тело тон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тело плавает внутри (как бы «висит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68ae"/>
                </a:solidFill>
                <a:latin typeface="Arial"/>
              </a:rPr>
              <a:t>Предлагается ряд факт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Г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жимая своими мышцами плавательный пузырь, ры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ходит в глубин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Д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Когда на подводной лодке заполняют цистерны водой, 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гружа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Е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Ослабляя давление мышц на плавательный пузырь, рыб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плыв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Найдите объяснение названным явления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При постоянной массе уменьшается объём и плотность растёт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При постоянном объёме увеличиваются масса и плотность растё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При постоянной массе увеличивается объём и плотность убыва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6381720"/>
            <a:ext cx="583236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А2;  Б1;  В3; Г1;  Д2;  Е3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236000" y="6381720"/>
            <a:ext cx="1042920" cy="287280"/>
          </a:xfrm>
          <a:custGeom>
            <a:avLst/>
            <a:gdLst>
              <a:gd name="textAreaLeft" fmla="*/ 18360 w 1042920"/>
              <a:gd name="textAreaRight" fmla="*/ 1024560 w 104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8344" h="21600">
                <a:moveTo>
                  <a:pt x="0" y="0"/>
                </a:moveTo>
                <a:lnTo>
                  <a:pt x="78344" y="0"/>
                </a:lnTo>
                <a:lnTo>
                  <a:pt x="78344" y="21600"/>
                </a:lnTo>
                <a:lnTo>
                  <a:pt x="0" y="21600"/>
                </a:lnTo>
                <a:close/>
              </a:path>
              <a:path fill="lightenLess" w="78344" h="21600">
                <a:moveTo>
                  <a:pt x="0" y="0"/>
                </a:moveTo>
                <a:lnTo>
                  <a:pt x="78344" y="0"/>
                </a:lnTo>
                <a:lnTo>
                  <a:pt x="76944" y="1400"/>
                </a:lnTo>
                <a:lnTo>
                  <a:pt x="1400" y="1400"/>
                </a:lnTo>
                <a:close/>
              </a:path>
              <a:path fill="darken" w="78344" h="21600">
                <a:moveTo>
                  <a:pt x="78344" y="0"/>
                </a:moveTo>
                <a:lnTo>
                  <a:pt x="78344" y="21600"/>
                </a:lnTo>
                <a:lnTo>
                  <a:pt x="76944" y="20200"/>
                </a:lnTo>
                <a:lnTo>
                  <a:pt x="76944" y="1400"/>
                </a:lnTo>
                <a:close/>
              </a:path>
              <a:path fill="darkenLess" w="78344" h="21600">
                <a:moveTo>
                  <a:pt x="78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944" y="20200"/>
                </a:lnTo>
                <a:close/>
              </a:path>
              <a:path fill="lighten" w="78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344" h="21600">
                <a:moveTo>
                  <a:pt x="32165" y="3794"/>
                </a:moveTo>
                <a:lnTo>
                  <a:pt x="46178" y="10800"/>
                </a:lnTo>
                <a:lnTo>
                  <a:pt x="32165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549360"/>
            <a:ext cx="2089080" cy="24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2637000"/>
            <a:ext cx="1655640" cy="720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16360" y="3357720"/>
            <a:ext cx="1655640" cy="1871640"/>
          </a:xfrm>
          <a:prstGeom prst="rect">
            <a:avLst/>
          </a:prstGeom>
          <a:solidFill>
            <a:srgbClr val="1994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3213000"/>
            <a:ext cx="50472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4365720"/>
            <a:ext cx="5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2852640"/>
            <a:ext cx="647640" cy="792360"/>
          </a:xfrm>
          <a:prstGeom prst="rect">
            <a:avLst/>
          </a:prstGeom>
          <a:solidFill>
            <a:srgbClr val="a7a7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916000" y="335772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19640" y="2997360"/>
            <a:ext cx="64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1052640"/>
            <a:ext cx="360360" cy="576000"/>
          </a:xfrm>
          <a:prstGeom prst="rect">
            <a:avLst/>
          </a:prstGeom>
          <a:solidFill>
            <a:srgbClr val="73645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522936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628640"/>
            <a:ext cx="1511280" cy="1447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1773360"/>
            <a:ext cx="142560" cy="79200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1773360"/>
            <a:ext cx="142920" cy="79200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19640" y="3357720"/>
            <a:ext cx="647640" cy="647640"/>
          </a:xfrm>
          <a:prstGeom prst="rect">
            <a:avLst/>
          </a:prstGeom>
          <a:solidFill>
            <a:srgbClr val="008a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03640" y="4653000"/>
            <a:ext cx="505080" cy="576360"/>
          </a:xfrm>
          <a:prstGeom prst="rect">
            <a:avLst/>
          </a:prstGeom>
          <a:solidFill>
            <a:srgbClr val="008a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19640" y="3357720"/>
            <a:ext cx="647640" cy="287280"/>
          </a:xfrm>
          <a:prstGeom prst="rect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4.50867E-006 L 0.14739 -4.50867E-006 C 0.21024 -4.50867E-006 0.2875 0.04879 0.2875 0.08879 L 0.2875 0.1785 E">
                                      <p:cBhvr>
                                        <p:cTn id="103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1.50289E-006 L -6.94444E-006 -0.08393 E">
                                      <p:cBhvr>
                                        <p:cTn id="10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1.79191E-006 L 9.44444E-006 0.05249 E">
                                      <p:cBhvr>
                                        <p:cTn id="108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79191E-006 L 6.94444E-006 0.05249 E">
                                      <p:cBhvr>
                                        <p:cTn id="11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5 0.1785 L 0.2875 0.23076 E">
                                      <p:cBhvr>
                                        <p:cTn id="11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11280" y="189000"/>
            <a:ext cx="792000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 судов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39640" y="851040"/>
            <a:ext cx="4095720" cy="576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5219640" y="907920"/>
            <a:ext cx="3456000" cy="576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ния, до которой погруж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тся суда, назыв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 т е р л и н и е 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 вытесняемой суд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ды при погружении д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терлинии называют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 д о и з м е щ е н и  е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всех морских суд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носится знак, показыв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щий уровень  преде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терли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W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есной вод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дийском оке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том,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солёной воде лет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солёной воде зим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NA 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верной Атлан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ике зимой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21240" y="4869000"/>
            <a:ext cx="14400" cy="129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4941720"/>
            <a:ext cx="144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97360"/>
            <a:ext cx="144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35640" y="5516640"/>
            <a:ext cx="144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5640" y="5877000"/>
            <a:ext cx="144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92720" y="6165720"/>
            <a:ext cx="14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3564000" y="6308640"/>
            <a:ext cx="1042920" cy="324000"/>
          </a:xfrm>
          <a:custGeom>
            <a:avLst/>
            <a:gdLst>
              <a:gd name="textAreaLeft" fmla="*/ 20880 w 1042920"/>
              <a:gd name="textAreaRight" fmla="*/ 1022040 w 104292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69475" h="21600">
                <a:moveTo>
                  <a:pt x="0" y="0"/>
                </a:moveTo>
                <a:lnTo>
                  <a:pt x="69475" y="0"/>
                </a:lnTo>
                <a:lnTo>
                  <a:pt x="69475" y="21600"/>
                </a:lnTo>
                <a:lnTo>
                  <a:pt x="0" y="21600"/>
                </a:lnTo>
                <a:close/>
              </a:path>
              <a:path fill="lightenLess" w="69475" h="21600">
                <a:moveTo>
                  <a:pt x="0" y="0"/>
                </a:moveTo>
                <a:lnTo>
                  <a:pt x="69475" y="0"/>
                </a:lnTo>
                <a:lnTo>
                  <a:pt x="68075" y="1400"/>
                </a:lnTo>
                <a:lnTo>
                  <a:pt x="1400" y="1400"/>
                </a:lnTo>
                <a:close/>
              </a:path>
              <a:path fill="darken" w="69475" h="21600">
                <a:moveTo>
                  <a:pt x="69475" y="0"/>
                </a:moveTo>
                <a:lnTo>
                  <a:pt x="69475" y="21600"/>
                </a:lnTo>
                <a:lnTo>
                  <a:pt x="68075" y="20200"/>
                </a:lnTo>
                <a:lnTo>
                  <a:pt x="68075" y="1400"/>
                </a:lnTo>
                <a:close/>
              </a:path>
              <a:path fill="darkenLess" w="69475" h="21600">
                <a:moveTo>
                  <a:pt x="69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075" y="20200"/>
                </a:lnTo>
                <a:close/>
              </a:path>
              <a:path fill="lighten" w="69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475" h="21600">
                <a:moveTo>
                  <a:pt x="27731" y="3794"/>
                </a:moveTo>
                <a:lnTo>
                  <a:pt x="41744" y="10800"/>
                </a:lnTo>
                <a:lnTo>
                  <a:pt x="27731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435640" y="4797000"/>
            <a:ext cx="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221000"/>
            <a:ext cx="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16000" y="260280"/>
            <a:ext cx="7056360" cy="5834160"/>
          </a:xfrm>
          <a:prstGeom prst="rect">
            <a:avLst/>
          </a:prstGeom>
          <a:solidFill>
            <a:srgbClr val="c0c0c0"/>
          </a:soli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огда тело, целиком погружённое в жидкость,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тонет?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плавает внутри?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всплыва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. Если сила тяжести тела меньше архимедовой си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2. Если сила тяжести тела больше архимедовой си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3. Если архимедова сила равна силе тяже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Какова грузоподъёмность одного и того же судна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орской и речной вод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. Одинакова.         2. В речной воде больш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              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3. В морской воде больш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Железный брусок в воде тонет, а такой же деревянный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лавает. На какой их них действует большая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lang="ru-RU" sz="1800" spc="-1" strike="noStrike" baseline="-25000">
                <a:solidFill>
                  <a:srgbClr val="a50021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. На деревянный брусок.  2. На железный брус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Сравните выталкивающие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илы, которые действуют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жидкости на стальной шарик и стальную пластин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динаковой ма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. На шарик больше.                 2. На пластинку больш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3. Одинак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.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С увеличением глубины погружения архимед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ила для одного и того же тел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. увеличивается.               2. не измен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 rot="5400000">
            <a:off x="-2378160" y="2889360"/>
            <a:ext cx="583272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 р о в е р ь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 rot="5400000">
            <a:off x="6602760" y="2478960"/>
            <a:ext cx="396108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 е б я 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77080" y="5200560"/>
            <a:ext cx="2266920" cy="1828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619280" y="6308640"/>
            <a:ext cx="4967280" cy="3603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ОТВЕТЫ:  А2;  Б3;  В1;  Г3;  Д2;  Е3;  Ж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0" y="6308640"/>
            <a:ext cx="1042920" cy="333360"/>
          </a:xfrm>
          <a:custGeom>
            <a:avLst/>
            <a:gdLst>
              <a:gd name="textAreaLeft" fmla="*/ 21600 w 1042920"/>
              <a:gd name="textAreaRight" fmla="*/ 1021320 w 1042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7526" h="21600">
                <a:moveTo>
                  <a:pt x="0" y="0"/>
                </a:moveTo>
                <a:lnTo>
                  <a:pt x="67526" y="0"/>
                </a:lnTo>
                <a:lnTo>
                  <a:pt x="67526" y="21600"/>
                </a:lnTo>
                <a:lnTo>
                  <a:pt x="0" y="21600"/>
                </a:lnTo>
                <a:close/>
              </a:path>
              <a:path fill="lightenLess" w="67526" h="21600">
                <a:moveTo>
                  <a:pt x="0" y="0"/>
                </a:moveTo>
                <a:lnTo>
                  <a:pt x="67526" y="0"/>
                </a:lnTo>
                <a:lnTo>
                  <a:pt x="66126" y="1400"/>
                </a:lnTo>
                <a:lnTo>
                  <a:pt x="1400" y="1400"/>
                </a:lnTo>
                <a:close/>
              </a:path>
              <a:path fill="darken" w="67526" h="21600">
                <a:moveTo>
                  <a:pt x="67526" y="0"/>
                </a:moveTo>
                <a:lnTo>
                  <a:pt x="67526" y="21600"/>
                </a:lnTo>
                <a:lnTo>
                  <a:pt x="66126" y="20200"/>
                </a:lnTo>
                <a:lnTo>
                  <a:pt x="66126" y="1400"/>
                </a:lnTo>
                <a:close/>
              </a:path>
              <a:path fill="darkenLess" w="67526" h="21600">
                <a:moveTo>
                  <a:pt x="67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126" y="20200"/>
                </a:lnTo>
                <a:close/>
              </a:path>
              <a:path fill="lighten" w="67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526" h="21600">
                <a:moveTo>
                  <a:pt x="26757" y="3794"/>
                </a:moveTo>
                <a:lnTo>
                  <a:pt x="40770" y="10800"/>
                </a:lnTo>
                <a:lnTo>
                  <a:pt x="26757" y="17806"/>
                </a:lnTo>
                <a:close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87280" y="5445000"/>
            <a:ext cx="63360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33360"/>
            <a:ext cx="8569080" cy="61182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А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На каком известном вам законе основано плавание судов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На законе Паскаля.           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На законе Архиме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Б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С увеличением количества груза на судне архимедова сила на судно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увеличивается.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уменьшается.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не изменя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В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Почему стальной лист тонет в воде, а судно, корпус которого сделан из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стальных листов, плавает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Средняя плотность судна меньше плотности в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На судне имеется установка, удерживающая его на вод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Г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Изменится ли водоизмещение судна при переходе из реки в мор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 Уменьшится.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Не изменится.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Увелич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Д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Какая из названных ниже лодок погрузится до дна, если наполнится водо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деревянная. 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металлическа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Е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Как изменится осадка корабля, если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его загружают?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его разгружают?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Понижается температура до 4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которой плавает корабль?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увеличивается уровень воды из-за прилив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 Осадка увеличится. 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З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Уменьшится.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К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Останется неизменн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ТВЕТЫ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А2;  Б1;  В1;  Г3;  Д2;  Е1Ж;  Е2З;  ЕЗЗ;  Е4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76360" y="404640"/>
            <a:ext cx="6192720" cy="5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a50021">
                      <a:alpha val="80000"/>
                    </a:srgbClr>
                  </a:outerShdw>
                </a:effectLst>
                <a:latin typeface="Times New Roman"/>
              </a:rPr>
              <a:t>Проверь себя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a50021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7812000" y="6483240"/>
            <a:ext cx="1042920" cy="374760"/>
          </a:xfrm>
          <a:custGeom>
            <a:avLst/>
            <a:gdLst>
              <a:gd name="textAreaLeft" fmla="*/ 24120 w 1042920"/>
              <a:gd name="textAreaRight" fmla="*/ 1018800 w 1042920"/>
              <a:gd name="textAreaTop" fmla="*/ 24120 h 374760"/>
              <a:gd name="textAreaBottom" fmla="*/ 350640 h 374760"/>
            </a:gdLst>
            <a:ahLst/>
            <a:rect l="textAreaLeft" t="textAreaTop" r="textAreaRight" b="textAreaBottom"/>
            <a:pathLst>
              <a:path w="60074" h="21600">
                <a:moveTo>
                  <a:pt x="0" y="0"/>
                </a:moveTo>
                <a:lnTo>
                  <a:pt x="60074" y="0"/>
                </a:lnTo>
                <a:lnTo>
                  <a:pt x="60074" y="21600"/>
                </a:lnTo>
                <a:lnTo>
                  <a:pt x="0" y="21600"/>
                </a:lnTo>
                <a:close/>
              </a:path>
              <a:path fill="lightenLess" w="60074" h="21600">
                <a:moveTo>
                  <a:pt x="0" y="0"/>
                </a:moveTo>
                <a:lnTo>
                  <a:pt x="60074" y="0"/>
                </a:lnTo>
                <a:lnTo>
                  <a:pt x="58674" y="1400"/>
                </a:lnTo>
                <a:lnTo>
                  <a:pt x="1400" y="1400"/>
                </a:lnTo>
                <a:close/>
              </a:path>
              <a:path fill="darken" w="60074" h="21600">
                <a:moveTo>
                  <a:pt x="60074" y="0"/>
                </a:moveTo>
                <a:lnTo>
                  <a:pt x="60074" y="21600"/>
                </a:lnTo>
                <a:lnTo>
                  <a:pt x="58674" y="20200"/>
                </a:lnTo>
                <a:lnTo>
                  <a:pt x="58674" y="1400"/>
                </a:lnTo>
                <a:close/>
              </a:path>
              <a:path fill="darkenLess" w="60074" h="21600">
                <a:moveTo>
                  <a:pt x="60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74" y="20200"/>
                </a:lnTo>
                <a:close/>
              </a:path>
              <a:path fill="lighten" w="60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074" h="21600">
                <a:moveTo>
                  <a:pt x="23030" y="3794"/>
                </a:moveTo>
                <a:lnTo>
                  <a:pt x="37043" y="10800"/>
                </a:lnTo>
                <a:lnTo>
                  <a:pt x="23030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2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580000" y="6524640"/>
            <a:ext cx="3564000" cy="333360"/>
          </a:xfrm>
          <a:prstGeom prst="rect">
            <a:avLst/>
          </a:prstGeom>
          <a:solidFill>
            <a:srgbClr val="0068ae"/>
          </a:solidFill>
          <a:ln w="2844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333360"/>
            <a:ext cx="5364000" cy="1150920"/>
          </a:xfrm>
          <a:prstGeom prst="rect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contrast="54000"/>
          </a:blip>
          <a:srcRect l="0" t="0" r="26228" b="10039"/>
          <a:stretch/>
        </p:blipFill>
        <p:spPr>
          <a:xfrm>
            <a:off x="3780000" y="0"/>
            <a:ext cx="511308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843280" y="685800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0" y="2492280"/>
            <a:ext cx="0" cy="489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-1246320"/>
            <a:ext cx="8893080" cy="24926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168560"/>
            <a:ext cx="5506920" cy="5689440"/>
          </a:xfrm>
          <a:prstGeom prst="rect">
            <a:avLst/>
          </a:prstGeom>
          <a:solidFill>
            <a:srgbClr val="0068ae"/>
          </a:solidFill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71640" y="189000"/>
            <a:ext cx="705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о з д у х о п л а в а н и 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/>
          <p:nvPr/>
        </p:nvSpPr>
        <p:spPr>
          <a:xfrm>
            <a:off x="5543640" y="1197000"/>
            <a:ext cx="3600360" cy="5661000"/>
          </a:xfrm>
          <a:prstGeom prst="rect">
            <a:avLst/>
          </a:prstGeom>
          <a:noFill/>
          <a:ln w="2844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80000" y="6462720"/>
            <a:ext cx="3564000" cy="368280"/>
          </a:xfrm>
          <a:prstGeom prst="rect">
            <a:avLst/>
          </a:prstGeom>
          <a:solidFill>
            <a:srgbClr val="0068ae"/>
          </a:solidFill>
          <a:ln w="2844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тарт «монгольфьер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907920"/>
            <a:ext cx="26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55640" y="1195920"/>
            <a:ext cx="4319640" cy="5256360"/>
          </a:xfrm>
          <a:prstGeom prst="rect">
            <a:avLst/>
          </a:prstGeom>
          <a:solidFill>
            <a:srgbClr val="0068ae"/>
          </a:solidFill>
          <a:ln w="2844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83 году братья </a:t>
            </a:r>
            <a:r>
              <a:rPr b="1" lang="ru-RU" sz="1800" spc="-1" strike="noStrike">
                <a:solidFill>
                  <a:srgbClr val="0088e4"/>
                </a:solidFill>
                <a:latin typeface="Arial"/>
              </a:rPr>
              <a:t>МОНГОЛЬФ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готовили огромный бумаж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ар, под которым поместили чаш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 с горящим спиртом. Шар напол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лся горячим воздухом и нач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ниматься, достигнув выс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м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16000" y="3789360"/>
            <a:ext cx="34956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ЪЯСНИТЕ,</a:t>
            </a:r>
            <a:endParaRPr b="1" lang="en-US" sz="24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 такой шар</a:t>
            </a:r>
            <a:endParaRPr b="1" lang="en-US" sz="24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ен подниматься</a:t>
            </a:r>
            <a:endParaRPr b="1" lang="en-US" sz="24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верх</a:t>
            </a:r>
            <a:endParaRPr b="1" lang="en-US" sz="24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3794"/>
                </a:moveTo>
                <a:lnTo>
                  <a:pt x="27166" y="10800"/>
                </a:lnTo>
                <a:lnTo>
                  <a:pt x="13154" y="17806"/>
                </a:lnTo>
                <a:close/>
              </a:path>
            </a:pathLst>
          </a:custGeom>
          <a:solidFill>
            <a:srgbClr val="0068ae"/>
          </a:soli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03280" y="1268280"/>
            <a:ext cx="648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А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мере поднятия воздушного шара вверх архиме-дова сила,  действующая на него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увеличится.     2. уменьшится     3. не измени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Это связано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с уменьшением силы тяжести, действующей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ушный ша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С уменьшением плотности воздуха с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В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здушные шары могут подняться на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пределённую высоту от поверхности Зем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любую выс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остижения большей высоты подъёма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с шара сбрасывают балла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дополнительно накачивают  газ в оболоч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екордная высота подъёма стратостата с экипаж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ставляет  22 км. Современные реактивные пасс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ские самолёты летают на высоте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большей 22 км.         2. меньшей  22 км.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 rot="5400000">
            <a:off x="-1611720" y="3274920"/>
            <a:ext cx="453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верь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 rot="5400000">
            <a:off x="6490080" y="309492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8ae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ебя !</a:t>
            </a:r>
            <a:endParaRPr b="1" i="1" lang="en-US" sz="1800" spc="1" strike="noStrike">
              <a:ln w="9360">
                <a:solidFill>
                  <a:srgbClr val="0068ae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101080" y="6524640"/>
            <a:ext cx="1042920" cy="333360"/>
          </a:xfrm>
          <a:custGeom>
            <a:avLst/>
            <a:gdLst>
              <a:gd name="textAreaLeft" fmla="*/ 21600 w 1042920"/>
              <a:gd name="textAreaRight" fmla="*/ 1021320 w 1042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7526" h="21600">
                <a:moveTo>
                  <a:pt x="0" y="0"/>
                </a:moveTo>
                <a:lnTo>
                  <a:pt x="67526" y="0"/>
                </a:lnTo>
                <a:lnTo>
                  <a:pt x="67526" y="21600"/>
                </a:lnTo>
                <a:lnTo>
                  <a:pt x="0" y="21600"/>
                </a:lnTo>
                <a:close/>
              </a:path>
              <a:path fill="lightenLess" w="67526" h="21600">
                <a:moveTo>
                  <a:pt x="0" y="0"/>
                </a:moveTo>
                <a:lnTo>
                  <a:pt x="67526" y="0"/>
                </a:lnTo>
                <a:lnTo>
                  <a:pt x="66126" y="1400"/>
                </a:lnTo>
                <a:lnTo>
                  <a:pt x="1400" y="1400"/>
                </a:lnTo>
                <a:close/>
              </a:path>
              <a:path fill="darken" w="67526" h="21600">
                <a:moveTo>
                  <a:pt x="67526" y="0"/>
                </a:moveTo>
                <a:lnTo>
                  <a:pt x="67526" y="21600"/>
                </a:lnTo>
                <a:lnTo>
                  <a:pt x="66126" y="20200"/>
                </a:lnTo>
                <a:lnTo>
                  <a:pt x="66126" y="1400"/>
                </a:lnTo>
                <a:close/>
              </a:path>
              <a:path fill="darkenLess" w="67526" h="21600">
                <a:moveTo>
                  <a:pt x="67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126" y="20200"/>
                </a:lnTo>
                <a:close/>
              </a:path>
              <a:path fill="lighten" w="67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526" h="21600">
                <a:moveTo>
                  <a:pt x="26757" y="3794"/>
                </a:moveTo>
                <a:lnTo>
                  <a:pt x="40770" y="10800"/>
                </a:lnTo>
                <a:lnTo>
                  <a:pt x="26757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56000" y="6453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ТВЕТЫ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А2;  Б2;  В1;  Г1;  Д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692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68ae">
                        <a:alpha val="50196"/>
                      </a:srgbClr>
                    </a:gs>
                    <a:gs pos="50000">
                      <a:srgbClr val="ccecff"/>
                    </a:gs>
                    <a:gs pos="100000">
                      <a:srgbClr val="0068ae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АТОСТАТ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68ae">
                      <a:alpha val="50196"/>
                    </a:srgbClr>
                  </a:gs>
                  <a:gs pos="50000">
                    <a:srgbClr val="ccecff"/>
                  </a:gs>
                  <a:gs pos="100000">
                    <a:srgbClr val="0068ae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-1692360" y="907920"/>
            <a:ext cx="6269040" cy="6985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flipV="1">
            <a:off x="0" y="-243360"/>
            <a:ext cx="0" cy="7101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-360" y="6858000"/>
            <a:ext cx="47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07920"/>
            <a:ext cx="48592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16360" y="2205000"/>
            <a:ext cx="194292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05000"/>
            <a:ext cx="2916360" cy="0"/>
          </a:xfrm>
          <a:prstGeom prst="line">
            <a:avLst/>
          </a:prstGeom>
          <a:ln w="2844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2205000"/>
            <a:ext cx="0" cy="4653000"/>
          </a:xfrm>
          <a:prstGeom prst="line">
            <a:avLst/>
          </a:prstGeom>
          <a:ln w="2844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907920"/>
            <a:ext cx="4572000" cy="129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205000"/>
            <a:ext cx="1655640" cy="4653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ec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268280"/>
            <a:ext cx="37800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му размер оболо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делали таким больши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 rot="5400000">
            <a:off x="1294560" y="3753000"/>
            <a:ext cx="504036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ысота подъёма до 20 км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1197000"/>
            <a:ext cx="3673440" cy="511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б о л о ч к 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ндолы и ком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тостата «СССР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ршившего в 193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ъём в стратосферу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оту 19 км, равняла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480 кг. Оболочка объ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ёмом 24500 м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одер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ала перед стар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оло 3200 м</a:t>
            </a:r>
            <a:r>
              <a:rPr b="1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д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а. Определ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ъём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8101080" y="6524640"/>
            <a:ext cx="1042920" cy="333360"/>
          </a:xfrm>
          <a:custGeom>
            <a:avLst/>
            <a:gdLst>
              <a:gd name="textAreaLeft" fmla="*/ 21600 w 1042920"/>
              <a:gd name="textAreaRight" fmla="*/ 1021320 w 1042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7526" h="21600">
                <a:moveTo>
                  <a:pt x="0" y="0"/>
                </a:moveTo>
                <a:lnTo>
                  <a:pt x="67526" y="0"/>
                </a:lnTo>
                <a:lnTo>
                  <a:pt x="67526" y="21600"/>
                </a:lnTo>
                <a:lnTo>
                  <a:pt x="0" y="21600"/>
                </a:lnTo>
                <a:close/>
              </a:path>
              <a:path fill="lightenLess" w="67526" h="21600">
                <a:moveTo>
                  <a:pt x="0" y="0"/>
                </a:moveTo>
                <a:lnTo>
                  <a:pt x="67526" y="0"/>
                </a:lnTo>
                <a:lnTo>
                  <a:pt x="66126" y="1400"/>
                </a:lnTo>
                <a:lnTo>
                  <a:pt x="1400" y="1400"/>
                </a:lnTo>
                <a:close/>
              </a:path>
              <a:path fill="darken" w="67526" h="21600">
                <a:moveTo>
                  <a:pt x="67526" y="0"/>
                </a:moveTo>
                <a:lnTo>
                  <a:pt x="67526" y="21600"/>
                </a:lnTo>
                <a:lnTo>
                  <a:pt x="66126" y="20200"/>
                </a:lnTo>
                <a:lnTo>
                  <a:pt x="66126" y="1400"/>
                </a:lnTo>
                <a:close/>
              </a:path>
              <a:path fill="darkenLess" w="67526" h="21600">
                <a:moveTo>
                  <a:pt x="67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126" y="20200"/>
                </a:lnTo>
                <a:close/>
              </a:path>
              <a:path fill="lighten" w="67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526" h="21600">
                <a:moveTo>
                  <a:pt x="26757" y="3794"/>
                </a:moveTo>
                <a:lnTo>
                  <a:pt x="40770" y="10800"/>
                </a:lnTo>
                <a:lnTo>
                  <a:pt x="26757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9:07:24Z</dcterms:created>
  <dc:creator>User</dc:creator>
  <dc:description/>
  <dc:language>en-US</dc:language>
  <cp:lastModifiedBy>User</cp:lastModifiedBy>
  <dcterms:modified xsi:type="dcterms:W3CDTF">2007-03-27T10:13:41Z</dcterms:modified>
  <cp:revision>3</cp:revision>
  <dc:subject/>
  <dc:title>Слайд 1</dc:title>
</cp:coreProperties>
</file>