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5EE-B34A-4788-9286-A1874E62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F3C-2FDC-4296-8B56-3215809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897-1EE9-44DD-8351-8174DA13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984-BD62-4487-B6FB-0C67AD63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0FA-A6F4-4F90-9AD6-FA236185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738-A7F0-46A3-8CF9-37DBC686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3DB-10F2-4934-977C-F3E784C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D1F-73EA-4956-A621-55E712CF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913-1DBE-4E99-A5BB-69746BE0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1A3-1D21-4F2D-94B4-F8298ACA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315-FB9F-46B8-A894-76DEADB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86A-1ABA-48FB-B9BF-9CC501A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75DD-E7CD-4538-A61E-B31411AA3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14. &#1044;&#1080;&#1092;&#1088;&#1072;&#1082;&#1094;&#1080;&#1103; &#1087;&#1072;&#1088;&#1072;&#1083;&#1083;&#1077;&#1083;&#1100;&#1085;&#1086;&#1075;&#1086; &#1087;&#1091;&#1095;&#1082;&#1072; &#1089;&#1074;&#1077;&#1090;&#1072; &#1086;&#1090; &#1097;&#1077;&#1083;&#1080;.avi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15. &#1044;&#1080;&#1092;&#1088;&#1072;&#1082;&#1094;&#1080;&#1103; &#1077;&#1089;&#1090;&#1077;&#1089;&#1090;&#1074;&#1077;&#1085;&#1085;&#1086;&#1075;&#1086; &#1089;&#1074;&#1077;&#1090;&#1072; &#1086;&#1090; &#1076;&#1080;&#1092; &#1088;&#1077;&#1096;&#1077;&#1090;&#1082;&#1080;.avi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hyperlink" Target="Video\&#1042;&#1086;&#1083;&#1085;&#1086;&#1074;&#1072;&#1103; &#1086;&#1087;&#1090;&#1080;&#1082;&#1072;\16. &#1044;&#1080;&#1092;&#1088;&#1072;&#1082;&#1094;&#1080;&#1103; &#1084;&#1086;&#1085;&#1086;&#1093;&#1088; &#1089;&#1074;&#1077;&#1090;&#1072; &#1086;&#1090; &#1076;&#1080;&#1092; &#1088;&#1077;&#1096;&#1077;&#1090;&#1082;&#1080;.avi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18. &#1071;&#1074;&#1083;&#1077;&#1085;&#1080;&#1077; &#1076;&#1080;&#1089;&#1087;&#1077;&#1088;&#1089;&#1080;&#1080; &#1089;&#1074;&#1077;&#1090;&#1072;.avi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19. &#1057;&#1083;&#1086;&#1078;&#1077;&#1085;&#1080;&#1077; &#1089;&#1087;&#1077;&#1082;&#1090;&#1088;&#1072;&#1083;&#1100;&#1085;&#1099;&#1093; &#1094;&#1074;&#1077;&#1090;&#1086;&#1074;.av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5. &#1048;&#1085;&#1090;&#1077;&#1088;&#1092;&#1077;&#1088;&#1077;&#1085;&#1094;&#1080;&#1103; &#1089;&#1074;&#1077;&#1090;&#1072; &#1086;&#1090; &#1076;&#1074;&#1086;&#1081;&#1085;&#1086;&#1081; &#1097;&#1077;&#1083;&#1080;.avi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Video\&#1042;&#1086;&#1083;&#1085;&#1086;&#1074;&#1072;&#1103; &#1086;&#1087;&#1090;&#1080;&#1082;&#1072;\6. &#1048;&#1085;&#1090;&#1077;&#1088;&#1092;&#1077;&#1088;&#1077;&#1085;&#1094;&#1080;&#1103; &#1077;&#1089;&#1090;&#1077;&#1089;&#1090;&#1074;&#1077;&#1085;&#1085;&#1086; &#1089;&#1074;&#1077;&#1090;&#1072; &#1086;&#1090; &#1073;&#1080;&#1087;&#1088;&#1080;&#1079;&#1084;&#1099;.avi" TargetMode="External"/><Relationship Id="rId5" Type="http://schemas.openxmlformats.org/officeDocument/2006/relationships/image" Target="../media/image9.jpeg"/><Relationship Id="rId6" Type="http://schemas.openxmlformats.org/officeDocument/2006/relationships/hyperlink" Target="Video\&#1042;&#1086;&#1083;&#1085;&#1086;&#1074;&#1072;&#1103; &#1086;&#1087;&#1090;&#1080;&#1082;&#1072;\7. &#1080;&#1085;&#1090;&#1077;&#1088;&#1092;&#1077;&#1088;&#1077;&#1085;&#1094;&#1080;&#1103; &#1084;&#1086;&#1085;&#1086;&#1093;&#1088; &#1089;&#1074;&#1077;&#1090;&#1072; &#1086;&#1090; &#1073;&#1080;&#1087;&#1088;&#1080;&#1079;&#1084;&#1099;.avi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8. &#1048;&#1085;&#1090;&#1077;&#1088;&#1092;&#1077;&#1088;&#1077;&#1085;&#1094;&#1080;&#1103; &#1089;&#1074;&#1077;&#1090;&#1072; &#1074; &#1090;&#1086;&#1085;&#1082;&#1080;&#1093; &#1087;&#1083;&#1077;&#1085;&#1082;&#1072;&#1093;.avi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9. &#1048;&#1085;&#1090;&#1077;&#1088;&#1092;&#1077;&#1088;&#1077;&#1085;&#1094;&#1080;&#1103; &#1089;&#1074;&#1077;&#1090;&#1072; &#1086;&#1090; &#1079;&#1077;&#1088;&#1082;&#1072;&#1083;&#1072;.avi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10. &#1050;&#1086;&#1083;&#1100;&#1094;&#1072; &#1053;&#1100;&#1102;&#1090;&#1086;&#1085;&#1072;.avi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42;&#1086;&#1083;&#1085;&#1086;&#1074;&#1072;&#1103; &#1086;&#1087;&#1090;&#1080;&#1082;&#1072;\12. &#1044;&#1080;&#1092;&#1088;&#1072;&#1082;&#1094;&#1080;&#1103; &#1087;&#1072;&#1088;&#1072;&#1083;&#1083;&#1077;&#1083;&#1100;&#1085;&#1086;&#1075;&#1086; &#1087;&#1091;&#1095;&#1082;&#1072; &#1089;&#1074;&#1077;&#1090;&#1072;.avi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129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олновая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пти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19280" y="260280"/>
            <a:ext cx="568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фракция света от щел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>
            <a:hlinkClick r:id="rId2"/>
          </p:cNvPr>
          <p:cNvSpPr/>
          <p:nvPr/>
        </p:nvSpPr>
        <p:spPr>
          <a:xfrm>
            <a:off x="824400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6769080" cy="5535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4360" y="260280"/>
            <a:ext cx="74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фракция света от дифракционной решетк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7308720" y="6021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4306" t="0" r="9804" b="0"/>
          <a:stretch/>
        </p:blipFill>
        <p:spPr>
          <a:xfrm>
            <a:off x="324000" y="1484280"/>
            <a:ext cx="3887640" cy="370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1858" t="0" r="4692" b="0"/>
          <a:stretch/>
        </p:blipFill>
        <p:spPr>
          <a:xfrm>
            <a:off x="4572000" y="1484280"/>
            <a:ext cx="4249800" cy="37195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5"/>
          </p:cNvPr>
          <p:cNvSpPr/>
          <p:nvPr/>
        </p:nvSpPr>
        <p:spPr>
          <a:xfrm>
            <a:off x="824400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84360" y="260280"/>
            <a:ext cx="403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сперси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8317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92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исперсией называют зависимость показателя преломления света от 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частоты (цве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6121080" cy="3090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rcRect l="32245" t="21063" r="7624" b="34318"/>
          <a:stretch/>
        </p:blipFill>
        <p:spPr>
          <a:xfrm>
            <a:off x="395280" y="4797360"/>
            <a:ext cx="3097080" cy="1879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08360" y="494172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Явление дисперсии было открыто Ньютоном в 166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76720" y="26028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ект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>
            <a:hlinkClick r:id="rId2"/>
          </p:cNvPr>
          <p:cNvSpPr/>
          <p:nvPr/>
        </p:nvSpPr>
        <p:spPr>
          <a:xfrm>
            <a:off x="8172360" y="6021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92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Радужную полоску полученную после прохождения белого света через призму называют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пектро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10319" t="20381" r="1299" b="0"/>
          <a:stretch/>
        </p:blipFill>
        <p:spPr>
          <a:xfrm>
            <a:off x="395280" y="2205000"/>
            <a:ext cx="5689440" cy="4192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557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онохроматически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называют свет одной частоты (цве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47640" y="260280"/>
            <a:ext cx="619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ференция свет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>
            <a:hlinkClick r:id="rId2"/>
          </p:cNvPr>
          <p:cNvSpPr/>
          <p:nvPr/>
        </p:nvSpPr>
        <p:spPr>
          <a:xfrm>
            <a:off x="111600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7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нтерференцией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называют наложение двух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огерентных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(согласованных) волн при котором в одних точках пространства образуется усиление, а в других ослабление вол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602136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нтерференция света от двойной щ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14410" t="0" r="11747" b="0"/>
          <a:stretch/>
        </p:blipFill>
        <p:spPr>
          <a:xfrm>
            <a:off x="5292720" y="2133720"/>
            <a:ext cx="337968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2133720"/>
            <a:ext cx="4537080" cy="371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47640" y="260280"/>
            <a:ext cx="619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ипризма Френел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7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прохождении света через бипризму Френеля создается интерференционная картина представляющая собой чередование темных и светлых пол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5661000"/>
            <a:ext cx="59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нтерференция естественно све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нтерференция монохроматическ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2874" t="0" r="8762" b="0"/>
          <a:stretch/>
        </p:blipFill>
        <p:spPr>
          <a:xfrm>
            <a:off x="611280" y="1989000"/>
            <a:ext cx="3308400" cy="345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1966" t="0" r="34822" b="29882"/>
          <a:stretch/>
        </p:blipFill>
        <p:spPr>
          <a:xfrm>
            <a:off x="4356000" y="1989000"/>
            <a:ext cx="2001960" cy="345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">
            <a:hlinkClick r:id="rId4"/>
          </p:cNvPr>
          <p:cNvSpPr/>
          <p:nvPr/>
        </p:nvSpPr>
        <p:spPr>
          <a:xfrm>
            <a:off x="539640" y="573408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rcRect l="23634" t="2152" r="27628" b="0"/>
          <a:stretch/>
        </p:blipFill>
        <p:spPr>
          <a:xfrm>
            <a:off x="6732720" y="1989000"/>
            <a:ext cx="2103480" cy="345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6" name="">
            <a:hlinkClick r:id="rId6"/>
          </p:cNvPr>
          <p:cNvSpPr/>
          <p:nvPr/>
        </p:nvSpPr>
        <p:spPr>
          <a:xfrm>
            <a:off x="539640" y="616572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260280"/>
            <a:ext cx="828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ференция света в тонких пленка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>
            <a:hlinkClick r:id="rId2"/>
          </p:cNvPr>
          <p:cNvSpPr/>
          <p:nvPr/>
        </p:nvSpPr>
        <p:spPr>
          <a:xfrm>
            <a:off x="824400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37131" t="0" r="11360" b="0"/>
          <a:stretch/>
        </p:blipFill>
        <p:spPr>
          <a:xfrm>
            <a:off x="378000" y="1052640"/>
            <a:ext cx="3038400" cy="4824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rcRect l="12928" t="0" r="5498" b="0"/>
          <a:stretch/>
        </p:blipFill>
        <p:spPr>
          <a:xfrm>
            <a:off x="3995640" y="1052640"/>
            <a:ext cx="4810320" cy="4824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260280"/>
            <a:ext cx="784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ференция света от зеркала Ллойд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>
            <a:hlinkClick r:id="rId2"/>
          </p:cNvPr>
          <p:cNvSpPr/>
          <p:nvPr/>
        </p:nvSpPr>
        <p:spPr>
          <a:xfrm>
            <a:off x="8172360" y="6093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7817" t="0" r="4682" b="0"/>
          <a:stretch/>
        </p:blipFill>
        <p:spPr>
          <a:xfrm>
            <a:off x="324000" y="1484280"/>
            <a:ext cx="4103640" cy="383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4"/>
          <a:srcRect l="12928" t="0" r="0" b="0"/>
          <a:stretch/>
        </p:blipFill>
        <p:spPr>
          <a:xfrm>
            <a:off x="4716360" y="1484280"/>
            <a:ext cx="4103640" cy="3855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56000" y="26028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ьца Ньютон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>
            <a:hlinkClick r:id="rId2"/>
          </p:cNvPr>
          <p:cNvSpPr/>
          <p:nvPr/>
        </p:nvSpPr>
        <p:spPr>
          <a:xfrm>
            <a:off x="8317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4542" t="0" r="3039" b="0"/>
          <a:stretch/>
        </p:blipFill>
        <p:spPr>
          <a:xfrm>
            <a:off x="179280" y="1197000"/>
            <a:ext cx="4824360" cy="4271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19317" t="0" r="14066" b="4908"/>
          <a:stretch/>
        </p:blipFill>
        <p:spPr>
          <a:xfrm>
            <a:off x="5219640" y="1197000"/>
            <a:ext cx="3637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979640" y="33336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фракция света от нит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>
            <a:off x="680400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10748" t="0" r="9804" b="0"/>
          <a:stretch/>
        </p:blipFill>
        <p:spPr>
          <a:xfrm>
            <a:off x="258840" y="1052640"/>
            <a:ext cx="3846600" cy="39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rcRect l="4263" t="0" r="3361" b="0"/>
          <a:stretch/>
        </p:blipFill>
        <p:spPr>
          <a:xfrm>
            <a:off x="4356000" y="1052640"/>
            <a:ext cx="4464000" cy="395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2-28T02:36:32Z</dcterms:modified>
  <cp:revision>76</cp:revision>
  <dc:subject/>
  <dc:title>PowerPoint Presentation</dc:title>
</cp:coreProperties>
</file>