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BAFD-A196-4E3D-8BE7-7CA9180D9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3F48-1DB4-4CFA-A5EF-149B165F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7D0B-7A5F-480F-9135-271A63DE6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553C-B561-4978-8E60-87EACF7EC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FF04-09CC-4602-A110-E40A3EC8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5FAC-1AAE-498F-B4EA-9829B8BB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E38D-F845-4F23-BB0D-E4EE5F2B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AC75-179A-4E10-9B80-8ECC5821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0B49-204B-483C-8C78-1307C9F2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F38D-8E2C-4786-922E-156211F5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8336-8B5E-44C2-B87D-04261712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38CF-C726-4EE7-A6EC-85DEC2EE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249B-6B3E-4811-8011-D533025CD8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C:\Lesson\&#1060;&#1080;&#1079;&#1080;&#1082;&#1072; 11\Video\&#1069;&#1052; &#1074;&#1086;&#1083;&#1085;&#1099;\3. &#1048;&#1079;&#1084;&#1077;&#1088;&#1077;&#1085;&#1080;&#1077; &#1076;&#1083;&#1080;&#1085;&#1099; &#1069;&#1052; &#1074;&#1086;&#1083;&#1085;&#1099;.avi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C:\Lesson\&#1060;&#1080;&#1079;&#1080;&#1082;&#1072; 11\Video\&#1069;&#1052; &#1074;&#1086;&#1083;&#1085;&#1099;\4. &#1055;&#1086;&#1075;&#1083;&#1086;&#1097;&#1077;&#1085;&#1080;&#1077; &#1069;&#1052; &#1074;&#1086;&#1083;&#1085;.avi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C:\Lesson\&#1060;&#1080;&#1079;&#1080;&#1082;&#1072; 11\Video\&#1069;&#1052; &#1074;&#1086;&#1083;&#1085;&#1099;\5. &#1054;&#1090;&#1088;&#1072;&#1078;&#1077;&#1085;&#1080;&#1077; &#1069;&#1052; &#1074;&#1086;&#1083;&#1085;.avi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C:\Lesson\&#1060;&#1080;&#1079;&#1080;&#1082;&#1072; 11\Video\&#1069;&#1052; &#1074;&#1086;&#1083;&#1085;&#1099;\7. &#1055;&#1088;&#1077;&#1083;&#1086;&#1084;&#1083;&#1077;&#1085;&#1080;&#1077; &#1069;&#1052; &#1074;&#1086;&#1083;&#1085;&#1099; &#1074; &#1087;&#1088;&#1080;&#1079;&#1084;&#1077;.avi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C:\Lesson\&#1060;&#1080;&#1079;&#1080;&#1082;&#1072; 11\Video\&#1069;&#1052; &#1074;&#1086;&#1083;&#1085;&#1099;\11. &#1087;&#1086;&#1087;&#1077;&#1088;&#1077;&#1095;&#1085;&#1086;&#1089;&#1090;&#1100; &#1069;&#1052; &#1074;&#1086;&#1083;&#1085;.avi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71640" y="1125360"/>
            <a:ext cx="7129440" cy="32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войства 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ЭМВ волн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547640" y="260280"/>
            <a:ext cx="5832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змерение длины ЭМВ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>
            <a:hlinkClick r:id="rId2"/>
          </p:cNvPr>
          <p:cNvSpPr/>
          <p:nvPr/>
        </p:nvSpPr>
        <p:spPr>
          <a:xfrm>
            <a:off x="8172360" y="623736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7301"/>
                </a:moveTo>
                <a:lnTo>
                  <a:pt x="9040" y="7301"/>
                </a:lnTo>
                <a:lnTo>
                  <a:pt x="9423" y="7667"/>
                </a:lnTo>
                <a:lnTo>
                  <a:pt x="18632" y="7667"/>
                </a:lnTo>
                <a:lnTo>
                  <a:pt x="19189" y="8224"/>
                </a:lnTo>
                <a:lnTo>
                  <a:pt x="19189" y="8772"/>
                </a:lnTo>
                <a:lnTo>
                  <a:pt x="21034" y="8772"/>
                </a:lnTo>
                <a:lnTo>
                  <a:pt x="21400" y="8224"/>
                </a:lnTo>
                <a:lnTo>
                  <a:pt x="22139" y="8224"/>
                </a:lnTo>
                <a:lnTo>
                  <a:pt x="22139" y="13376"/>
                </a:lnTo>
                <a:lnTo>
                  <a:pt x="21400" y="13376"/>
                </a:lnTo>
                <a:lnTo>
                  <a:pt x="21034" y="12828"/>
                </a:lnTo>
                <a:lnTo>
                  <a:pt x="19189" y="12828"/>
                </a:lnTo>
                <a:lnTo>
                  <a:pt x="19189" y="14107"/>
                </a:lnTo>
                <a:lnTo>
                  <a:pt x="9606" y="14107"/>
                </a:lnTo>
                <a:lnTo>
                  <a:pt x="9606" y="9877"/>
                </a:lnTo>
                <a:lnTo>
                  <a:pt x="9423" y="9877"/>
                </a:lnTo>
                <a:lnTo>
                  <a:pt x="9040" y="10243"/>
                </a:lnTo>
                <a:lnTo>
                  <a:pt x="8126" y="10243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445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передатч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763640" y="907920"/>
            <a:ext cx="5257800" cy="43023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46" name=""/>
          <p:cNvSpPr/>
          <p:nvPr/>
        </p:nvSpPr>
        <p:spPr>
          <a:xfrm flipV="1">
            <a:off x="1042920" y="1844280"/>
            <a:ext cx="1225440" cy="3600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45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детект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4643280" y="2491920"/>
            <a:ext cx="505080" cy="3024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6443640" y="1915920"/>
            <a:ext cx="1441440" cy="3384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22920" y="5373720"/>
            <a:ext cx="25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металлическая пласт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692360" y="260280"/>
            <a:ext cx="4608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глощение ЭМВ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5300640"/>
            <a:ext cx="828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ЭМ волны не проходят через метал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ЭМ волны частично поглощаются диэлектрик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2"/>
          </p:cNvPr>
          <p:cNvSpPr/>
          <p:nvPr/>
        </p:nvSpPr>
        <p:spPr>
          <a:xfrm>
            <a:off x="8317080" y="6021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7301"/>
                </a:moveTo>
                <a:lnTo>
                  <a:pt x="9030" y="7301"/>
                </a:lnTo>
                <a:lnTo>
                  <a:pt x="9413" y="7667"/>
                </a:lnTo>
                <a:lnTo>
                  <a:pt x="18621" y="7667"/>
                </a:lnTo>
                <a:lnTo>
                  <a:pt x="19178" y="8224"/>
                </a:lnTo>
                <a:lnTo>
                  <a:pt x="19178" y="8772"/>
                </a:lnTo>
                <a:lnTo>
                  <a:pt x="21023" y="8772"/>
                </a:lnTo>
                <a:lnTo>
                  <a:pt x="21389" y="8224"/>
                </a:lnTo>
                <a:lnTo>
                  <a:pt x="22129" y="8224"/>
                </a:lnTo>
                <a:lnTo>
                  <a:pt x="22129" y="13376"/>
                </a:lnTo>
                <a:lnTo>
                  <a:pt x="21389" y="13376"/>
                </a:lnTo>
                <a:lnTo>
                  <a:pt x="21023" y="12828"/>
                </a:lnTo>
                <a:lnTo>
                  <a:pt x="19178" y="12828"/>
                </a:lnTo>
                <a:lnTo>
                  <a:pt x="19178" y="14107"/>
                </a:lnTo>
                <a:lnTo>
                  <a:pt x="9595" y="14107"/>
                </a:lnTo>
                <a:lnTo>
                  <a:pt x="9595" y="9877"/>
                </a:lnTo>
                <a:lnTo>
                  <a:pt x="9413" y="9877"/>
                </a:lnTo>
                <a:lnTo>
                  <a:pt x="9030" y="10243"/>
                </a:lnTo>
                <a:lnTo>
                  <a:pt x="8116" y="10243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835280" y="1052640"/>
            <a:ext cx="4968720" cy="40654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619280" y="1916280"/>
            <a:ext cx="938160" cy="2174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628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передатч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5940360" y="2060640"/>
            <a:ext cx="1152720" cy="144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93080" y="1773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приём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39640" y="1052640"/>
            <a:ext cx="5327640" cy="42433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60" name=""/>
          <p:cNvSpPr txBox="1"/>
          <p:nvPr/>
        </p:nvSpPr>
        <p:spPr>
          <a:xfrm>
            <a:off x="1908000" y="260280"/>
            <a:ext cx="4392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ражение ЭМВ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558972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ЭМ волны отражаются от метал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"/>
          </p:cNvPr>
          <p:cNvSpPr/>
          <p:nvPr/>
        </p:nvSpPr>
        <p:spPr>
          <a:xfrm>
            <a:off x="8317080" y="6021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7301"/>
                </a:moveTo>
                <a:lnTo>
                  <a:pt x="9030" y="7301"/>
                </a:lnTo>
                <a:lnTo>
                  <a:pt x="9413" y="7667"/>
                </a:lnTo>
                <a:lnTo>
                  <a:pt x="18621" y="7667"/>
                </a:lnTo>
                <a:lnTo>
                  <a:pt x="19178" y="8224"/>
                </a:lnTo>
                <a:lnTo>
                  <a:pt x="19178" y="8772"/>
                </a:lnTo>
                <a:lnTo>
                  <a:pt x="21023" y="8772"/>
                </a:lnTo>
                <a:lnTo>
                  <a:pt x="21389" y="8224"/>
                </a:lnTo>
                <a:lnTo>
                  <a:pt x="22129" y="8224"/>
                </a:lnTo>
                <a:lnTo>
                  <a:pt x="22129" y="13376"/>
                </a:lnTo>
                <a:lnTo>
                  <a:pt x="21389" y="13376"/>
                </a:lnTo>
                <a:lnTo>
                  <a:pt x="21023" y="12828"/>
                </a:lnTo>
                <a:lnTo>
                  <a:pt x="19178" y="12828"/>
                </a:lnTo>
                <a:lnTo>
                  <a:pt x="19178" y="14107"/>
                </a:lnTo>
                <a:lnTo>
                  <a:pt x="9595" y="14107"/>
                </a:lnTo>
                <a:lnTo>
                  <a:pt x="9595" y="9877"/>
                </a:lnTo>
                <a:lnTo>
                  <a:pt x="9413" y="9877"/>
                </a:lnTo>
                <a:lnTo>
                  <a:pt x="9030" y="10243"/>
                </a:lnTo>
                <a:lnTo>
                  <a:pt x="8116" y="10243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492000" y="1268280"/>
            <a:ext cx="2808360" cy="6480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00720" y="1628640"/>
            <a:ext cx="25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металлическая пласт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rcRect l="0" t="0" r="0" b="3294"/>
          <a:stretch/>
        </p:blipFill>
        <p:spPr>
          <a:xfrm>
            <a:off x="395280" y="1052640"/>
            <a:ext cx="5761080" cy="45576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66" name=""/>
          <p:cNvSpPr txBox="1"/>
          <p:nvPr/>
        </p:nvSpPr>
        <p:spPr>
          <a:xfrm>
            <a:off x="900000" y="260280"/>
            <a:ext cx="6912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ломление ЭМВ в призме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587700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ЭМ волны преломляются в диэлектрика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3"/>
          </p:cNvPr>
          <p:cNvSpPr/>
          <p:nvPr/>
        </p:nvSpPr>
        <p:spPr>
          <a:xfrm>
            <a:off x="8317080" y="6021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7301"/>
                </a:moveTo>
                <a:lnTo>
                  <a:pt x="9030" y="7301"/>
                </a:lnTo>
                <a:lnTo>
                  <a:pt x="9413" y="7667"/>
                </a:lnTo>
                <a:lnTo>
                  <a:pt x="18621" y="7667"/>
                </a:lnTo>
                <a:lnTo>
                  <a:pt x="19178" y="8224"/>
                </a:lnTo>
                <a:lnTo>
                  <a:pt x="19178" y="8772"/>
                </a:lnTo>
                <a:lnTo>
                  <a:pt x="21023" y="8772"/>
                </a:lnTo>
                <a:lnTo>
                  <a:pt x="21389" y="8224"/>
                </a:lnTo>
                <a:lnTo>
                  <a:pt x="22129" y="8224"/>
                </a:lnTo>
                <a:lnTo>
                  <a:pt x="22129" y="13376"/>
                </a:lnTo>
                <a:lnTo>
                  <a:pt x="21389" y="13376"/>
                </a:lnTo>
                <a:lnTo>
                  <a:pt x="21023" y="12828"/>
                </a:lnTo>
                <a:lnTo>
                  <a:pt x="19178" y="12828"/>
                </a:lnTo>
                <a:lnTo>
                  <a:pt x="19178" y="14107"/>
                </a:lnTo>
                <a:lnTo>
                  <a:pt x="9595" y="14107"/>
                </a:lnTo>
                <a:lnTo>
                  <a:pt x="9595" y="9877"/>
                </a:lnTo>
                <a:lnTo>
                  <a:pt x="9413" y="9877"/>
                </a:lnTo>
                <a:lnTo>
                  <a:pt x="9030" y="10243"/>
                </a:lnTo>
                <a:lnTo>
                  <a:pt x="8116" y="10243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635280" y="1557360"/>
            <a:ext cx="2952720" cy="50328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22920" y="1197000"/>
            <a:ext cx="20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призма из диэлектр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692360" y="260280"/>
            <a:ext cx="4608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перечность ЭМВ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" name="">
            <a:hlinkClick r:id="rId2"/>
          </p:cNvPr>
          <p:cNvSpPr/>
          <p:nvPr/>
        </p:nvSpPr>
        <p:spPr>
          <a:xfrm>
            <a:off x="8317080" y="6021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7301"/>
                </a:moveTo>
                <a:lnTo>
                  <a:pt x="9030" y="7301"/>
                </a:lnTo>
                <a:lnTo>
                  <a:pt x="9413" y="7667"/>
                </a:lnTo>
                <a:lnTo>
                  <a:pt x="18621" y="7667"/>
                </a:lnTo>
                <a:lnTo>
                  <a:pt x="19178" y="8224"/>
                </a:lnTo>
                <a:lnTo>
                  <a:pt x="19178" y="8772"/>
                </a:lnTo>
                <a:lnTo>
                  <a:pt x="21023" y="8772"/>
                </a:lnTo>
                <a:lnTo>
                  <a:pt x="21389" y="8224"/>
                </a:lnTo>
                <a:lnTo>
                  <a:pt x="22129" y="8224"/>
                </a:lnTo>
                <a:lnTo>
                  <a:pt x="22129" y="13376"/>
                </a:lnTo>
                <a:lnTo>
                  <a:pt x="21389" y="13376"/>
                </a:lnTo>
                <a:lnTo>
                  <a:pt x="21023" y="12828"/>
                </a:lnTo>
                <a:lnTo>
                  <a:pt x="19178" y="12828"/>
                </a:lnTo>
                <a:lnTo>
                  <a:pt x="19178" y="14107"/>
                </a:lnTo>
                <a:lnTo>
                  <a:pt x="9595" y="14107"/>
                </a:lnTo>
                <a:lnTo>
                  <a:pt x="9595" y="9877"/>
                </a:lnTo>
                <a:lnTo>
                  <a:pt x="9413" y="9877"/>
                </a:lnTo>
                <a:lnTo>
                  <a:pt x="9030" y="10243"/>
                </a:lnTo>
                <a:lnTo>
                  <a:pt x="8116" y="10243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4653000"/>
            <a:ext cx="42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Если решётки расположены параллельно, то ЭМВ проходят через решет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79280" y="907920"/>
            <a:ext cx="4249800" cy="34768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643280" y="907920"/>
            <a:ext cx="4248360" cy="34750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4680000" y="465300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Если решётки расположены перпендикулярно, то ЭМВ не проходят через решет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8-02-28T02:32:49Z</dcterms:modified>
  <cp:revision>57</cp:revision>
  <dc:subject/>
  <dc:title>PowerPoint Presentation</dc:title>
</cp:coreProperties>
</file>