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3767-C707-4318-9D98-9EEDF0CAA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06CC-8E84-4FE4-A66A-01D8A445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B21F-3224-4C94-B09D-E42E44DBA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6985-229E-4B9F-A188-7516AF754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4D80-E5FF-450A-9254-D6B0BAC5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6CEA-A845-4F37-ADF9-97D876FC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09D1-BB4F-40B3-8172-0D9B4EFA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B81E-30E1-403D-BF58-8664473D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7ECE-B279-44DF-953B-F3F977C0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4401-E840-4BDD-80EE-372F6B61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DA09-8A1F-4086-A3D2-95B93CC4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437E-3FA9-4321-AD6D-512E6C1F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0052-04AA-4C04-8CE8-AC7FD260BF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Video\&#1069;&#1052; &#1082;&#1086;&#1083;&#1077;&#1073;&#1072;&#1085;&#1080;&#1103;\2. &#1054;&#1089;&#1094;&#1080;&#1083;&#1083;&#1086;&#1075;&#1088;&#1072;&#1084;&#1084;&#1099; &#1087;&#1086;&#1089;&#1090;&#1086;&#1103;&#1085;&#1085;&#1086;&#1075;&#1086; &#1090;&#1086;&#1082;&#1072;.avi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Video\&#1069;&#1052; &#1082;&#1086;&#1083;&#1077;&#1073;&#1072;&#1085;&#1080;&#1103;\6. &#1060;&#1072;&#1079;&#1086;&#1074;&#1099;&#1077; &#1089;&#1086;&#1086;&#1090;&#1085;&#1086;&#1096;&#1077;&#1085;&#1080;&#1103;.avi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Video\&#1069;&#1052; &#1082;&#1086;&#1083;&#1077;&#1073;&#1072;&#1085;&#1080;&#1103;\3. &#1044;&#1077;&#1081;&#1089;&#1090;&#1074;&#1091;&#1102;&#1097;&#1077;&#1077; &#1085;&#1072;&#1087;&#1088;&#1103;&#1078;&#1077;&#1085;&#1080;&#1077;.avi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Video\&#1069;&#1052; &#1082;&#1086;&#1083;&#1077;&#1073;&#1072;&#1085;&#1080;&#1103;\4. &#1045;&#1084;&#1082;&#1086;&#1089;&#1090;&#1085;&#1086;&#1077; &#1089;&#1086;&#1087;&#1088;&#1086;&#1090;&#1080;&#1074;&#1083;&#1077;&#1085;&#1080;&#1077;.avi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Video\&#1069;&#1052; &#1082;&#1086;&#1083;&#1077;&#1073;&#1072;&#1085;&#1080;&#1103;\5. &#1048;&#1085;&#1076;&#1091;&#1082;&#1090;&#1080;&#1074;&#1085;&#1086;&#1077; &#1089;&#1086;&#1087;&#1088;&#1086;&#1090;&#1080;&#1074;&#1083;&#1077;&#1085;&#1080;&#1077;.avi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47640" y="1052640"/>
            <a:ext cx="619128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Переменный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ток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261000" y="4508640"/>
            <a:ext cx="3653280" cy="1296720"/>
            <a:chOff x="-261000" y="4508640"/>
            <a:chExt cx="3653280" cy="1296720"/>
          </a:xfrm>
        </p:grpSpPr>
        <p:grpSp>
          <p:nvGrpSpPr>
            <p:cNvPr id="43" name=""/>
            <p:cNvGrpSpPr/>
            <p:nvPr/>
          </p:nvGrpSpPr>
          <p:grpSpPr>
            <a:xfrm>
              <a:off x="1302840" y="4508640"/>
              <a:ext cx="2089440" cy="1296360"/>
              <a:chOff x="1302840" y="4508640"/>
              <a:chExt cx="2089440" cy="1296360"/>
            </a:xfrm>
          </p:grpSpPr>
          <p:sp>
            <p:nvSpPr>
              <p:cNvPr id="44" name=""/>
              <p:cNvSpPr/>
              <p:nvPr/>
            </p:nvSpPr>
            <p:spPr>
              <a:xfrm>
                <a:off x="1302840" y="4508640"/>
                <a:ext cx="522000" cy="1296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flipH="1" flipV="1">
                <a:off x="1825200" y="4509000"/>
                <a:ext cx="520560" cy="1296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V="1">
                <a:off x="1825200" y="4509000"/>
                <a:ext cx="522000" cy="1296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>
                <a:off x="2347920" y="4508640"/>
                <a:ext cx="522000" cy="1296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349360" y="4508640"/>
                <a:ext cx="520560" cy="1296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H="1" flipV="1">
                <a:off x="2870280" y="4509000"/>
                <a:ext cx="522000" cy="1296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-261000" y="4509000"/>
              <a:ext cx="2089440" cy="1296360"/>
              <a:chOff x="-261000" y="4509000"/>
              <a:chExt cx="2089440" cy="1296360"/>
            </a:xfrm>
          </p:grpSpPr>
          <p:sp>
            <p:nvSpPr>
              <p:cNvPr id="51" name=""/>
              <p:cNvSpPr/>
              <p:nvPr/>
            </p:nvSpPr>
            <p:spPr>
              <a:xfrm flipV="1">
                <a:off x="-260640" y="4509360"/>
                <a:ext cx="522000" cy="1296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>
                <a:off x="261360" y="4509000"/>
                <a:ext cx="520560" cy="1296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61360" y="4509000"/>
                <a:ext cx="522000" cy="1296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H="1" flipV="1">
                <a:off x="784080" y="4509360"/>
                <a:ext cx="522000" cy="1296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785520" y="4509360"/>
                <a:ext cx="520560" cy="1296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1306440" y="4509000"/>
                <a:ext cx="522000" cy="1296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-261000" y="4508640"/>
            <a:ext cx="3653280" cy="1296720"/>
            <a:chOff x="-261000" y="4508640"/>
            <a:chExt cx="3653280" cy="1296720"/>
          </a:xfrm>
        </p:grpSpPr>
        <p:grpSp>
          <p:nvGrpSpPr>
            <p:cNvPr id="58" name=""/>
            <p:cNvGrpSpPr/>
            <p:nvPr/>
          </p:nvGrpSpPr>
          <p:grpSpPr>
            <a:xfrm>
              <a:off x="1302840" y="4508640"/>
              <a:ext cx="2089440" cy="1296360"/>
              <a:chOff x="1302840" y="4508640"/>
              <a:chExt cx="2089440" cy="1296360"/>
            </a:xfrm>
          </p:grpSpPr>
          <p:sp>
            <p:nvSpPr>
              <p:cNvPr id="59" name=""/>
              <p:cNvSpPr/>
              <p:nvPr/>
            </p:nvSpPr>
            <p:spPr>
              <a:xfrm>
                <a:off x="1302840" y="4508640"/>
                <a:ext cx="522000" cy="1296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 flipV="1">
                <a:off x="1825200" y="4509000"/>
                <a:ext cx="520560" cy="1296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V="1">
                <a:off x="1825200" y="4509000"/>
                <a:ext cx="522000" cy="1296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>
                <a:off x="2347920" y="4508640"/>
                <a:ext cx="522000" cy="1296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349360" y="4508640"/>
                <a:ext cx="520560" cy="1296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flipV="1">
                <a:off x="2870280" y="4509000"/>
                <a:ext cx="522000" cy="1296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-261000" y="4509000"/>
              <a:ext cx="2089440" cy="1296360"/>
              <a:chOff x="-261000" y="4509000"/>
              <a:chExt cx="2089440" cy="1296360"/>
            </a:xfrm>
          </p:grpSpPr>
          <p:sp>
            <p:nvSpPr>
              <p:cNvPr id="66" name=""/>
              <p:cNvSpPr/>
              <p:nvPr/>
            </p:nvSpPr>
            <p:spPr>
              <a:xfrm flipV="1">
                <a:off x="-260640" y="4509360"/>
                <a:ext cx="522000" cy="1296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>
                <a:off x="261360" y="4509000"/>
                <a:ext cx="520560" cy="1296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61360" y="4509000"/>
                <a:ext cx="522000" cy="1296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flipV="1">
                <a:off x="784080" y="4509360"/>
                <a:ext cx="522000" cy="1296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V="1">
                <a:off x="785520" y="4509360"/>
                <a:ext cx="520560" cy="1296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1306440" y="4509000"/>
                <a:ext cx="522000" cy="1296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-261000" y="4508640"/>
            <a:ext cx="3653280" cy="1296720"/>
            <a:chOff x="-261000" y="4508640"/>
            <a:chExt cx="3653280" cy="1296720"/>
          </a:xfrm>
        </p:grpSpPr>
        <p:grpSp>
          <p:nvGrpSpPr>
            <p:cNvPr id="73" name=""/>
            <p:cNvGrpSpPr/>
            <p:nvPr/>
          </p:nvGrpSpPr>
          <p:grpSpPr>
            <a:xfrm>
              <a:off x="1302840" y="4508640"/>
              <a:ext cx="2089440" cy="1296360"/>
              <a:chOff x="1302840" y="4508640"/>
              <a:chExt cx="2089440" cy="1296360"/>
            </a:xfrm>
          </p:grpSpPr>
          <p:sp>
            <p:nvSpPr>
              <p:cNvPr id="74" name=""/>
              <p:cNvSpPr/>
              <p:nvPr/>
            </p:nvSpPr>
            <p:spPr>
              <a:xfrm>
                <a:off x="1302840" y="4508640"/>
                <a:ext cx="522000" cy="1296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flipV="1">
                <a:off x="1825200" y="4509000"/>
                <a:ext cx="520560" cy="1296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1825200" y="4509000"/>
                <a:ext cx="522000" cy="1296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2347920" y="4508640"/>
                <a:ext cx="522000" cy="1296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349360" y="4508640"/>
                <a:ext cx="520560" cy="1296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flipV="1">
                <a:off x="2870280" y="4509000"/>
                <a:ext cx="522000" cy="1296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-261000" y="4509000"/>
              <a:ext cx="2089440" cy="1296360"/>
              <a:chOff x="-261000" y="4509000"/>
              <a:chExt cx="2089440" cy="1296360"/>
            </a:xfrm>
          </p:grpSpPr>
          <p:sp>
            <p:nvSpPr>
              <p:cNvPr id="81" name=""/>
              <p:cNvSpPr/>
              <p:nvPr/>
            </p:nvSpPr>
            <p:spPr>
              <a:xfrm flipV="1">
                <a:off x="-260640" y="4509360"/>
                <a:ext cx="522000" cy="1296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261360" y="4509000"/>
                <a:ext cx="520560" cy="1296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61360" y="4509000"/>
                <a:ext cx="522000" cy="1296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flipV="1">
                <a:off x="784080" y="4509360"/>
                <a:ext cx="522000" cy="1296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785520" y="4509360"/>
                <a:ext cx="520560" cy="1296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1306440" y="4509000"/>
                <a:ext cx="522000" cy="1296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74 0.00023 L 0.66736 0.00023 E">
                                      <p:cBhvr>
                                        <p:cTn id="11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74 0.00023 L 0.32882 0.00023 E">
                                      <p:cBhvr>
                                        <p:cTn id="13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63 -1.85185E-006 L -0.00972 0.00023 E">
                                      <p:cBhvr>
                                        <p:cTn id="15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484360" y="189000"/>
            <a:ext cx="475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ременный ток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49360"/>
            <a:ext cx="8424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Вынужденные электрические колебания называют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переменным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электрическим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током.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В нашей стране используется переменный ток частотой 50 Гц (в США – 60 Гц). Такой ток вырабатывается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генераторами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24000" y="2492280"/>
            <a:ext cx="3344760" cy="3384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3851280" y="2421000"/>
            <a:ext cx="49687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Рамка вращается внутри магнита с частотой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v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, и за время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совершает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N =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оборотов. За оборот рамка поворачивается на угол 2</a:t>
            </a:r>
            <a:r>
              <a:rPr b="0" lang="el-G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π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рад. Угол на который поворачивается рамка за время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:  </a:t>
            </a:r>
            <a:r>
              <a:rPr b="0" lang="el-G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Δφ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=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l-GR" sz="2400" spc="-1" strike="noStrike">
                <a:solidFill>
                  <a:srgbClr val="000099"/>
                </a:solidFill>
                <a:latin typeface="Times New Roman"/>
              </a:rPr>
              <a:t>π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 = </a:t>
            </a:r>
            <a:r>
              <a:rPr b="0" lang="el-G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ω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,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о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99"/>
                </a:solidFill>
                <a:latin typeface="Times New Roman"/>
              </a:rPr>
              <a:t>Δ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Ф =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S cos </a:t>
            </a:r>
            <a:r>
              <a:rPr b="0" lang="el-GR" sz="2400" spc="-1" strike="noStrike">
                <a:solidFill>
                  <a:srgbClr val="000099"/>
                </a:solidFill>
                <a:latin typeface="Times New Roman"/>
              </a:rPr>
              <a:t>Δφ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= BS c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99"/>
                </a:solidFill>
                <a:latin typeface="Times New Roman"/>
              </a:rPr>
              <a:t>ω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 = -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Ф</a:t>
            </a:r>
            <a:r>
              <a:rPr b="0" lang="en-US" sz="2400" spc="-1" strike="noStrike">
                <a:solidFill>
                  <a:srgbClr val="000099"/>
                </a:solidFill>
                <a:latin typeface="Book Antiqua"/>
              </a:rPr>
              <a:t>’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= - (BS c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99"/>
                </a:solidFill>
                <a:latin typeface="Times New Roman"/>
              </a:rPr>
              <a:t>ω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)</a:t>
            </a:r>
            <a:r>
              <a:rPr b="0" lang="en-US" sz="2400" spc="-1" strike="noStrike">
                <a:solidFill>
                  <a:srgbClr val="000099"/>
                </a:solidFill>
                <a:latin typeface="Book Antiqua"/>
              </a:rPr>
              <a:t>’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= BS</a:t>
            </a:r>
            <a:r>
              <a:rPr b="0" lang="el-GR" sz="2400" spc="-1" strike="noStrike">
                <a:solidFill>
                  <a:srgbClr val="000099"/>
                </a:solidFill>
                <a:latin typeface="Times New Roman"/>
              </a:rPr>
              <a:t>ω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sin </a:t>
            </a:r>
            <a:r>
              <a:rPr b="0" lang="el-GR" sz="2400" spc="-1" strike="noStrike">
                <a:solidFill>
                  <a:srgbClr val="000099"/>
                </a:solidFill>
                <a:latin typeface="Times New Roman"/>
              </a:rPr>
              <a:t>ω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51280" y="5877000"/>
            <a:ext cx="2376360" cy="8010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e = </a:t>
            </a:r>
            <a:r>
              <a:rPr b="0" lang="el-GR" sz="4400" spc="-1" strike="noStrike">
                <a:solidFill>
                  <a:srgbClr val="000099"/>
                </a:solidFill>
                <a:latin typeface="Times New Roman"/>
              </a:rPr>
              <a:t>ε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n </a:t>
            </a:r>
            <a:r>
              <a:rPr b="0" lang="el-GR" sz="3200" spc="-1" strike="noStrike">
                <a:solidFill>
                  <a:srgbClr val="000099"/>
                </a:solidFill>
                <a:latin typeface="Times New Roman"/>
              </a:rPr>
              <a:t>ω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59640" y="5877000"/>
            <a:ext cx="1871640" cy="8010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=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BS</a:t>
            </a:r>
            <a:r>
              <a:rPr b="0" lang="el-GR" sz="3200" spc="-1" strike="noStrike">
                <a:solidFill>
                  <a:srgbClr val="000099"/>
                </a:solidFill>
                <a:latin typeface="Times New Roman"/>
              </a:rPr>
              <a:t>ω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216080" y="4464000"/>
            <a:ext cx="1465200" cy="22320"/>
          </a:xfrm>
          <a:prstGeom prst="line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90200" y="4221000"/>
            <a:ext cx="578520" cy="57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2507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25077"/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5300640"/>
            <a:ext cx="576360" cy="459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99"/>
                </a:solidFill>
                <a:latin typeface="Times New Roman"/>
              </a:rPr>
              <a:t>Δ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2124000" y="4365360"/>
            <a:ext cx="719280" cy="9349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84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124000" y="260280"/>
            <a:ext cx="4751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циллограммы тока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7650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Для наблюдения за колебаниями происходящими с большой частотой используют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осциллографы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2"/>
          </p:cNvPr>
          <p:cNvSpPr/>
          <p:nvPr/>
        </p:nvSpPr>
        <p:spPr>
          <a:xfrm>
            <a:off x="4500720" y="6237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7301"/>
                </a:moveTo>
                <a:lnTo>
                  <a:pt x="9030" y="7301"/>
                </a:lnTo>
                <a:lnTo>
                  <a:pt x="9413" y="7667"/>
                </a:lnTo>
                <a:lnTo>
                  <a:pt x="18621" y="7667"/>
                </a:lnTo>
                <a:lnTo>
                  <a:pt x="19178" y="8224"/>
                </a:lnTo>
                <a:lnTo>
                  <a:pt x="19178" y="8772"/>
                </a:lnTo>
                <a:lnTo>
                  <a:pt x="21023" y="8772"/>
                </a:lnTo>
                <a:lnTo>
                  <a:pt x="21389" y="8224"/>
                </a:lnTo>
                <a:lnTo>
                  <a:pt x="22129" y="8224"/>
                </a:lnTo>
                <a:lnTo>
                  <a:pt x="22129" y="13376"/>
                </a:lnTo>
                <a:lnTo>
                  <a:pt x="21389" y="13376"/>
                </a:lnTo>
                <a:lnTo>
                  <a:pt x="21023" y="12828"/>
                </a:lnTo>
                <a:lnTo>
                  <a:pt x="19178" y="12828"/>
                </a:lnTo>
                <a:lnTo>
                  <a:pt x="19178" y="14107"/>
                </a:lnTo>
                <a:lnTo>
                  <a:pt x="9595" y="14107"/>
                </a:lnTo>
                <a:lnTo>
                  <a:pt x="9595" y="9877"/>
                </a:lnTo>
                <a:lnTo>
                  <a:pt x="9413" y="9877"/>
                </a:lnTo>
                <a:lnTo>
                  <a:pt x="9030" y="10243"/>
                </a:lnTo>
                <a:lnTo>
                  <a:pt x="8116" y="10243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rcRect l="49200" t="14423" r="1632" b="27388"/>
          <a:stretch/>
        </p:blipFill>
        <p:spPr>
          <a:xfrm>
            <a:off x="468360" y="1700280"/>
            <a:ext cx="4535280" cy="4392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5724360" y="1700280"/>
            <a:ext cx="2305080" cy="18860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5724360" y="4292640"/>
            <a:ext cx="2374920" cy="1942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651640" y="350028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Переменный т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51640" y="6165720"/>
            <a:ext cx="29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Выпрямленный т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124000" y="260280"/>
            <a:ext cx="511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ктивное сопротивление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557360"/>
            <a:ext cx="302400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826920" y="1846440"/>
            <a:ext cx="1943280" cy="1368360"/>
            <a:chOff x="826920" y="1846440"/>
            <a:chExt cx="1943280" cy="1368360"/>
          </a:xfrm>
        </p:grpSpPr>
        <p:sp>
          <p:nvSpPr>
            <p:cNvPr id="108" name=""/>
            <p:cNvSpPr/>
            <p:nvPr/>
          </p:nvSpPr>
          <p:spPr>
            <a:xfrm>
              <a:off x="898200" y="1846440"/>
              <a:ext cx="1729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482560" y="2135160"/>
              <a:ext cx="287640" cy="792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27280" y="1846440"/>
              <a:ext cx="0" cy="288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627280" y="2927520"/>
              <a:ext cx="0" cy="2872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897840" y="3214800"/>
              <a:ext cx="1729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98200" y="1846440"/>
              <a:ext cx="0" cy="431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898200" y="2927520"/>
              <a:ext cx="0" cy="2872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6920" y="27831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6920" y="22068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468360" y="22780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~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92360" y="1484280"/>
            <a:ext cx="5364360" cy="24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Пусть напряжение в цепи меняется по закону: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 = U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os </a:t>
            </a:r>
            <a:r>
              <a:rPr b="0" lang="el-GR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ω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,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огда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 = u/R = I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s </a:t>
            </a:r>
            <a:r>
              <a:rPr b="0" lang="el-GR" sz="3200" spc="-1" strike="noStrike">
                <a:solidFill>
                  <a:srgbClr val="000099"/>
                </a:solidFill>
                <a:latin typeface="Times New Roman"/>
              </a:rPr>
              <a:t>ω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u –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гновенное значение напряжения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–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гновенное значение силы то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43280" y="22780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6922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Сопротивление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называют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активным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, потому что при цепь с таким сопротивлением поглощает энерг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422100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ила тока </a:t>
            </a:r>
            <a:r>
              <a:rPr b="0" lang="ru-RU" sz="2400" spc="-1" strike="noStrike" u="sng">
                <a:solidFill>
                  <a:srgbClr val="000099"/>
                </a:solidFill>
                <a:uFillTx/>
                <a:latin typeface="Times New Roman"/>
              </a:rPr>
              <a:t>совпадает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по фазе с напряжени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05560" y="3860640"/>
            <a:ext cx="5734800" cy="2808360"/>
            <a:chOff x="205560" y="3860640"/>
            <a:chExt cx="5734800" cy="2808360"/>
          </a:xfrm>
        </p:grpSpPr>
        <p:sp>
          <p:nvSpPr>
            <p:cNvPr id="123" name=""/>
            <p:cNvSpPr/>
            <p:nvPr/>
          </p:nvSpPr>
          <p:spPr>
            <a:xfrm>
              <a:off x="324000" y="3860640"/>
              <a:ext cx="5616360" cy="28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205560" y="3998880"/>
              <a:ext cx="5626080" cy="2541600"/>
              <a:chOff x="205560" y="3998880"/>
              <a:chExt cx="5626080" cy="2541600"/>
            </a:xfrm>
          </p:grpSpPr>
          <p:sp>
            <p:nvSpPr>
              <p:cNvPr id="125" name=""/>
              <p:cNvSpPr/>
              <p:nvPr/>
            </p:nvSpPr>
            <p:spPr>
              <a:xfrm flipV="1">
                <a:off x="826920" y="4060800"/>
                <a:ext cx="0" cy="247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03200" y="3998880"/>
                <a:ext cx="371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99"/>
                    </a:solidFill>
                    <a:latin typeface="Times New Roman"/>
                  </a:rPr>
                  <a:t>u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60480" y="5368680"/>
                <a:ext cx="371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077920" y="5300640"/>
                <a:ext cx="0" cy="13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330000" y="5300640"/>
                <a:ext cx="0" cy="13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05560" y="4405320"/>
                <a:ext cx="1242720" cy="1929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 flipV="1">
                <a:off x="1448640" y="4406400"/>
                <a:ext cx="1243440" cy="1926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1450080" y="4406400"/>
                <a:ext cx="1242720" cy="1926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2693520" y="4405320"/>
                <a:ext cx="1243440" cy="1929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693880" y="4405320"/>
                <a:ext cx="1243440" cy="1929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 flipV="1">
                <a:off x="3938040" y="4406400"/>
                <a:ext cx="1242720" cy="1926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3938400" y="4406400"/>
                <a:ext cx="1243440" cy="1926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26920" y="5370480"/>
                <a:ext cx="4864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581000" y="5300640"/>
                <a:ext cx="0" cy="13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05560" y="4784760"/>
                <a:ext cx="1242720" cy="1275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 flipV="1">
                <a:off x="1449000" y="4785120"/>
                <a:ext cx="1243440" cy="12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1450080" y="4785120"/>
                <a:ext cx="1242720" cy="12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2693520" y="4784760"/>
                <a:ext cx="1243440" cy="1275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693880" y="4784760"/>
                <a:ext cx="1243440" cy="1275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 flipV="1">
                <a:off x="3938040" y="4785120"/>
                <a:ext cx="1242720" cy="12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3938400" y="4785120"/>
                <a:ext cx="1243440" cy="12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74480" y="4646520"/>
                <a:ext cx="37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99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7" name="">
            <a:hlinkClick r:id="rId2"/>
          </p:cNvPr>
          <p:cNvSpPr/>
          <p:nvPr/>
        </p:nvSpPr>
        <p:spPr>
          <a:xfrm>
            <a:off x="8388360" y="630864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7301"/>
                </a:moveTo>
                <a:lnTo>
                  <a:pt x="8986" y="7301"/>
                </a:lnTo>
                <a:lnTo>
                  <a:pt x="9369" y="7667"/>
                </a:lnTo>
                <a:lnTo>
                  <a:pt x="18578" y="7667"/>
                </a:lnTo>
                <a:lnTo>
                  <a:pt x="19135" y="8224"/>
                </a:lnTo>
                <a:lnTo>
                  <a:pt x="19135" y="8772"/>
                </a:lnTo>
                <a:lnTo>
                  <a:pt x="20980" y="8772"/>
                </a:lnTo>
                <a:lnTo>
                  <a:pt x="21346" y="8224"/>
                </a:lnTo>
                <a:lnTo>
                  <a:pt x="22086" y="8224"/>
                </a:lnTo>
                <a:lnTo>
                  <a:pt x="22086" y="13376"/>
                </a:lnTo>
                <a:lnTo>
                  <a:pt x="21346" y="13376"/>
                </a:lnTo>
                <a:lnTo>
                  <a:pt x="20980" y="12828"/>
                </a:lnTo>
                <a:lnTo>
                  <a:pt x="19135" y="12828"/>
                </a:lnTo>
                <a:lnTo>
                  <a:pt x="19135" y="14107"/>
                </a:lnTo>
                <a:lnTo>
                  <a:pt x="9552" y="14107"/>
                </a:lnTo>
                <a:lnTo>
                  <a:pt x="9552" y="9877"/>
                </a:lnTo>
                <a:lnTo>
                  <a:pt x="9369" y="9877"/>
                </a:lnTo>
                <a:lnTo>
                  <a:pt x="8986" y="10243"/>
                </a:lnTo>
                <a:lnTo>
                  <a:pt x="8073" y="10243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50920" y="260280"/>
            <a:ext cx="86421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йствующее значение силы тока и напряжения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692280"/>
            <a:ext cx="8353440" cy="34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В цепи переменного тока мощность тоже будет менять своё значение. Как правило, нам надо знать среднюю мощность. Для её вычисления удобно пользоваться действующими значениями силы тока и напряж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99"/>
                </a:solidFill>
                <a:latin typeface="Times New Roman"/>
              </a:rPr>
              <a:t>Действующее значение силы переменного тока равно силе постоянного тока, выделяющего в проводнике то же количество теплоты что и переменный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99"/>
                </a:solidFill>
                <a:latin typeface="Times New Roman"/>
              </a:rPr>
              <a:t>ток за то же врем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411280" y="4292640"/>
            <a:ext cx="1513080" cy="1229040"/>
            <a:chOff x="2411280" y="4292640"/>
            <a:chExt cx="1513080" cy="1229040"/>
          </a:xfrm>
        </p:grpSpPr>
        <p:sp>
          <p:nvSpPr>
            <p:cNvPr id="151" name=""/>
            <p:cNvSpPr/>
            <p:nvPr/>
          </p:nvSpPr>
          <p:spPr>
            <a:xfrm>
              <a:off x="2411280" y="4581360"/>
              <a:ext cx="64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I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87640" y="450828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Times New Roman"/>
                </a:rPr>
                <a:t>____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60720" y="4292640"/>
              <a:ext cx="719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I</a:t>
              </a:r>
              <a:r>
                <a:rPr b="0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87640" y="4940280"/>
              <a:ext cx="93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√</a:t>
              </a: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6720" y="5013360"/>
              <a:ext cx="4316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500720" y="4292640"/>
            <a:ext cx="2233440" cy="1229400"/>
            <a:chOff x="4500720" y="4292640"/>
            <a:chExt cx="2233440" cy="1229400"/>
          </a:xfrm>
        </p:grpSpPr>
        <p:sp>
          <p:nvSpPr>
            <p:cNvPr id="157" name=""/>
            <p:cNvSpPr/>
            <p:nvPr/>
          </p:nvSpPr>
          <p:spPr>
            <a:xfrm>
              <a:off x="4500720" y="4581720"/>
              <a:ext cx="95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U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51400" y="4508640"/>
              <a:ext cx="13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Times New Roman"/>
                </a:rPr>
                <a:t>____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59400" y="4292640"/>
              <a:ext cx="1062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</a:rPr>
                <a:t>U</a:t>
              </a:r>
              <a:r>
                <a:rPr b="0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1400" y="4940640"/>
              <a:ext cx="138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√</a:t>
              </a: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53080" y="5013360"/>
              <a:ext cx="4320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95280" y="566100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Вольтметр и амперметр переменного тока всегда показывают действующие знач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2"/>
          </p:cNvPr>
          <p:cNvSpPr/>
          <p:nvPr/>
        </p:nvSpPr>
        <p:spPr>
          <a:xfrm>
            <a:off x="8388360" y="630864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7301"/>
                </a:moveTo>
                <a:lnTo>
                  <a:pt x="8986" y="7301"/>
                </a:lnTo>
                <a:lnTo>
                  <a:pt x="9369" y="7667"/>
                </a:lnTo>
                <a:lnTo>
                  <a:pt x="18578" y="7667"/>
                </a:lnTo>
                <a:lnTo>
                  <a:pt x="19135" y="8224"/>
                </a:lnTo>
                <a:lnTo>
                  <a:pt x="19135" y="8772"/>
                </a:lnTo>
                <a:lnTo>
                  <a:pt x="20980" y="8772"/>
                </a:lnTo>
                <a:lnTo>
                  <a:pt x="21346" y="8224"/>
                </a:lnTo>
                <a:lnTo>
                  <a:pt x="22086" y="8224"/>
                </a:lnTo>
                <a:lnTo>
                  <a:pt x="22086" y="13376"/>
                </a:lnTo>
                <a:lnTo>
                  <a:pt x="21346" y="13376"/>
                </a:lnTo>
                <a:lnTo>
                  <a:pt x="20980" y="12828"/>
                </a:lnTo>
                <a:lnTo>
                  <a:pt x="19135" y="12828"/>
                </a:lnTo>
                <a:lnTo>
                  <a:pt x="19135" y="14107"/>
                </a:lnTo>
                <a:lnTo>
                  <a:pt x="9552" y="14107"/>
                </a:lnTo>
                <a:lnTo>
                  <a:pt x="9552" y="9877"/>
                </a:lnTo>
                <a:lnTo>
                  <a:pt x="9369" y="9877"/>
                </a:lnTo>
                <a:lnTo>
                  <a:pt x="8986" y="10243"/>
                </a:lnTo>
                <a:lnTo>
                  <a:pt x="8073" y="10243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124000" y="189000"/>
            <a:ext cx="540072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Ёмкостное сопротивление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1557360"/>
            <a:ext cx="302400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98560" y="1846440"/>
            <a:ext cx="172872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27280" y="1846440"/>
            <a:ext cx="0" cy="50292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27280" y="2708280"/>
            <a:ext cx="0" cy="50652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898560" y="3214800"/>
            <a:ext cx="172872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98560" y="1846440"/>
            <a:ext cx="0" cy="4316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98560" y="2927520"/>
            <a:ext cx="0" cy="2872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26920" y="2782800"/>
            <a:ext cx="144720" cy="144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6920" y="2206800"/>
            <a:ext cx="144720" cy="144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22780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~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16360" y="2276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6922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Если цепь содержит конденсатор, то сопротивление такой цепи называют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ёмкостным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40000" y="2708280"/>
            <a:ext cx="57636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40000" y="2349360"/>
            <a:ext cx="57636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48360" y="2276640"/>
            <a:ext cx="363672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 = U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os </a:t>
            </a:r>
            <a:r>
              <a:rPr b="0" lang="el-GR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ω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 = I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s (</a:t>
            </a:r>
            <a:r>
              <a:rPr b="0" lang="el-GR" sz="3200" spc="-1" strike="noStrike">
                <a:solidFill>
                  <a:srgbClr val="000099"/>
                </a:solidFill>
                <a:latin typeface="Times New Roman"/>
              </a:rPr>
              <a:t>ω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+ </a:t>
            </a:r>
            <a:r>
              <a:rPr b="0" lang="el-GR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π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/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48360" y="1413000"/>
            <a:ext cx="2160360" cy="7182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 = 1/</a:t>
            </a:r>
            <a:r>
              <a:rPr b="0" lang="el-GR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ω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3860640"/>
            <a:ext cx="561636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6920" y="4060800"/>
            <a:ext cx="0" cy="2479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3200" y="3998880"/>
            <a:ext cx="3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60840" y="5369040"/>
            <a:ext cx="3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77920" y="5300640"/>
            <a:ext cx="0" cy="13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30720" y="5300640"/>
            <a:ext cx="0" cy="13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4840" y="4405320"/>
            <a:ext cx="1244160" cy="192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1449000" y="4406040"/>
            <a:ext cx="1244160" cy="192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450080" y="4406040"/>
            <a:ext cx="1243440" cy="192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2693880" y="4405320"/>
            <a:ext cx="1244160" cy="192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94240" y="4405320"/>
            <a:ext cx="1244160" cy="192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3938760" y="4406040"/>
            <a:ext cx="1243440" cy="192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938760" y="4406040"/>
            <a:ext cx="1244160" cy="192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6920" y="5370480"/>
            <a:ext cx="4865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1360" y="5300640"/>
            <a:ext cx="0" cy="13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831960" y="4710240"/>
            <a:ext cx="3732840" cy="1275840"/>
            <a:chOff x="831960" y="4710240"/>
            <a:chExt cx="3732840" cy="1275840"/>
          </a:xfrm>
        </p:grpSpPr>
        <p:sp>
          <p:nvSpPr>
            <p:cNvPr id="197" name=""/>
            <p:cNvSpPr/>
            <p:nvPr/>
          </p:nvSpPr>
          <p:spPr>
            <a:xfrm flipH="1" flipV="1">
              <a:off x="831960" y="4711320"/>
              <a:ext cx="1243440" cy="127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832320" y="4711320"/>
              <a:ext cx="1243440" cy="127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2082600" y="4710240"/>
              <a:ext cx="1243440" cy="1275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076840" y="4710240"/>
              <a:ext cx="1243440" cy="1275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3321000" y="4711320"/>
              <a:ext cx="1242720" cy="127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3321360" y="4711320"/>
              <a:ext cx="1243440" cy="127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74840" y="4646520"/>
            <a:ext cx="3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84720" y="3933720"/>
            <a:ext cx="27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ила тока </a:t>
            </a:r>
            <a:r>
              <a:rPr b="0" lang="ru-RU" sz="2400" spc="-1" strike="noStrike" u="sng">
                <a:solidFill>
                  <a:srgbClr val="000099"/>
                </a:solidFill>
                <a:uFillTx/>
                <a:latin typeface="Times New Roman"/>
              </a:rPr>
              <a:t>опережает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по фазе напряж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 rot="5400000">
            <a:off x="4614840" y="4735440"/>
            <a:ext cx="1244160" cy="127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2"/>
          </p:cNvPr>
          <p:cNvSpPr/>
          <p:nvPr/>
        </p:nvSpPr>
        <p:spPr>
          <a:xfrm>
            <a:off x="8388360" y="630864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7301"/>
                </a:moveTo>
                <a:lnTo>
                  <a:pt x="8986" y="7301"/>
                </a:lnTo>
                <a:lnTo>
                  <a:pt x="9369" y="7667"/>
                </a:lnTo>
                <a:lnTo>
                  <a:pt x="18578" y="7667"/>
                </a:lnTo>
                <a:lnTo>
                  <a:pt x="19135" y="8224"/>
                </a:lnTo>
                <a:lnTo>
                  <a:pt x="19135" y="8772"/>
                </a:lnTo>
                <a:lnTo>
                  <a:pt x="20980" y="8772"/>
                </a:lnTo>
                <a:lnTo>
                  <a:pt x="21346" y="8224"/>
                </a:lnTo>
                <a:lnTo>
                  <a:pt x="22086" y="8224"/>
                </a:lnTo>
                <a:lnTo>
                  <a:pt x="22086" y="13376"/>
                </a:lnTo>
                <a:lnTo>
                  <a:pt x="21346" y="13376"/>
                </a:lnTo>
                <a:lnTo>
                  <a:pt x="20980" y="12828"/>
                </a:lnTo>
                <a:lnTo>
                  <a:pt x="19135" y="12828"/>
                </a:lnTo>
                <a:lnTo>
                  <a:pt x="19135" y="14107"/>
                </a:lnTo>
                <a:lnTo>
                  <a:pt x="9552" y="14107"/>
                </a:lnTo>
                <a:lnTo>
                  <a:pt x="9552" y="9877"/>
                </a:lnTo>
                <a:lnTo>
                  <a:pt x="9369" y="9877"/>
                </a:lnTo>
                <a:lnTo>
                  <a:pt x="8986" y="10243"/>
                </a:lnTo>
                <a:lnTo>
                  <a:pt x="8073" y="10243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476360" y="189000"/>
            <a:ext cx="5975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дуктивное сопротивление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1557360"/>
            <a:ext cx="302400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98560" y="1846440"/>
            <a:ext cx="172872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27280" y="1846440"/>
            <a:ext cx="0" cy="2142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27280" y="2924280"/>
            <a:ext cx="0" cy="29052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898560" y="3214800"/>
            <a:ext cx="172872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98560" y="1846440"/>
            <a:ext cx="0" cy="4316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898560" y="2927520"/>
            <a:ext cx="0" cy="2872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6920" y="2782800"/>
            <a:ext cx="144720" cy="144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26920" y="2206800"/>
            <a:ext cx="144720" cy="144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68360" y="22780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~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3280" y="2276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4000" y="6922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Если цепь содержит катушку, то сопротивление такой цепи называют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индуктивным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48360" y="2205000"/>
            <a:ext cx="360036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 = U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os </a:t>
            </a:r>
            <a:r>
              <a:rPr b="0" lang="el-GR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ω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 = I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s (</a:t>
            </a:r>
            <a:r>
              <a:rPr b="0" lang="el-GR" sz="3200" spc="-1" strike="noStrike">
                <a:solidFill>
                  <a:srgbClr val="000099"/>
                </a:solidFill>
                <a:latin typeface="Times New Roman"/>
              </a:rPr>
              <a:t>ω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−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π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/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148360" y="1413000"/>
            <a:ext cx="2160360" cy="7182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Times New Roman"/>
              </a:rPr>
              <a:t>L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0" lang="el-GR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ω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4000" y="3860640"/>
            <a:ext cx="561636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826920" y="4060800"/>
            <a:ext cx="0" cy="2479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3200" y="3998880"/>
            <a:ext cx="3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60840" y="5369040"/>
            <a:ext cx="3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77920" y="5300640"/>
            <a:ext cx="0" cy="13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30720" y="5300640"/>
            <a:ext cx="0" cy="13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4840" y="4405320"/>
            <a:ext cx="1244160" cy="192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1449000" y="4406040"/>
            <a:ext cx="1244160" cy="192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450080" y="4406040"/>
            <a:ext cx="1243440" cy="192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693880" y="4405320"/>
            <a:ext cx="1244160" cy="192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94240" y="4405320"/>
            <a:ext cx="1244160" cy="192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3938760" y="4406040"/>
            <a:ext cx="1243440" cy="192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938760" y="4406040"/>
            <a:ext cx="1244160" cy="192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26920" y="5370480"/>
            <a:ext cx="4865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81360" y="5300640"/>
            <a:ext cx="0" cy="13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4597560" y="4650840"/>
            <a:ext cx="1243440" cy="127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 flipV="1" rot="10800000">
            <a:off x="3341160" y="4711320"/>
            <a:ext cx="1243440" cy="127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853920" y="4703760"/>
            <a:ext cx="1244160" cy="127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42040" y="4699080"/>
            <a:ext cx="1243440" cy="127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2092320" y="4654080"/>
            <a:ext cx="1244160" cy="127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093040" y="4654080"/>
            <a:ext cx="1243440" cy="127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4840" y="4646520"/>
            <a:ext cx="3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84720" y="3933720"/>
            <a:ext cx="27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ила тока </a:t>
            </a:r>
            <a:r>
              <a:rPr b="0" lang="ru-RU" sz="2400" spc="-1" strike="noStrike" u="sng">
                <a:solidFill>
                  <a:srgbClr val="000099"/>
                </a:solidFill>
                <a:uFillTx/>
                <a:latin typeface="Times New Roman"/>
              </a:rPr>
              <a:t>отстаёт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по фазе от напряж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 rot="5400000">
            <a:off x="3363840" y="4687920"/>
            <a:ext cx="1244160" cy="127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2508840" y="2060640"/>
            <a:ext cx="261000" cy="862920"/>
            <a:chOff x="2508840" y="2060640"/>
            <a:chExt cx="261000" cy="862920"/>
          </a:xfrm>
        </p:grpSpPr>
        <p:grpSp>
          <p:nvGrpSpPr>
            <p:cNvPr id="247" name=""/>
            <p:cNvGrpSpPr/>
            <p:nvPr/>
          </p:nvGrpSpPr>
          <p:grpSpPr>
            <a:xfrm>
              <a:off x="2508840" y="2060640"/>
              <a:ext cx="236880" cy="215280"/>
              <a:chOff x="2508840" y="2060640"/>
              <a:chExt cx="236880" cy="215280"/>
            </a:xfrm>
          </p:grpSpPr>
          <p:sp>
            <p:nvSpPr>
              <p:cNvPr id="248" name=""/>
              <p:cNvSpPr/>
              <p:nvPr/>
            </p:nvSpPr>
            <p:spPr>
              <a:xfrm>
                <a:off x="2508840" y="2060640"/>
                <a:ext cx="236880" cy="21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2508840" y="2060640"/>
                <a:ext cx="236880" cy="21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2532960" y="2275920"/>
              <a:ext cx="236880" cy="215640"/>
              <a:chOff x="2532960" y="2275920"/>
              <a:chExt cx="236880" cy="215640"/>
            </a:xfrm>
          </p:grpSpPr>
          <p:sp>
            <p:nvSpPr>
              <p:cNvPr id="251" name=""/>
              <p:cNvSpPr/>
              <p:nvPr/>
            </p:nvSpPr>
            <p:spPr>
              <a:xfrm>
                <a:off x="2532960" y="2275920"/>
                <a:ext cx="236880" cy="21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2532960" y="2276280"/>
                <a:ext cx="236880" cy="21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2532960" y="2491560"/>
              <a:ext cx="236880" cy="215640"/>
              <a:chOff x="2532960" y="2491560"/>
              <a:chExt cx="236880" cy="215640"/>
            </a:xfrm>
          </p:grpSpPr>
          <p:sp>
            <p:nvSpPr>
              <p:cNvPr id="254" name=""/>
              <p:cNvSpPr/>
              <p:nvPr/>
            </p:nvSpPr>
            <p:spPr>
              <a:xfrm>
                <a:off x="2532960" y="2491560"/>
                <a:ext cx="236880" cy="21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2532960" y="2491920"/>
                <a:ext cx="236880" cy="21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532960" y="2707920"/>
              <a:ext cx="236880" cy="215640"/>
              <a:chOff x="2532960" y="2707920"/>
              <a:chExt cx="236880" cy="215640"/>
            </a:xfrm>
          </p:grpSpPr>
          <p:sp>
            <p:nvSpPr>
              <p:cNvPr id="257" name=""/>
              <p:cNvSpPr/>
              <p:nvPr/>
            </p:nvSpPr>
            <p:spPr>
              <a:xfrm>
                <a:off x="2532960" y="2707920"/>
                <a:ext cx="236880" cy="21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532960" y="2708280"/>
                <a:ext cx="236880" cy="21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9" name="">
            <a:hlinkClick r:id="rId2"/>
          </p:cNvPr>
          <p:cNvSpPr/>
          <p:nvPr/>
        </p:nvSpPr>
        <p:spPr>
          <a:xfrm>
            <a:off x="8388360" y="630864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7301"/>
                </a:moveTo>
                <a:lnTo>
                  <a:pt x="8986" y="7301"/>
                </a:lnTo>
                <a:lnTo>
                  <a:pt x="9369" y="7667"/>
                </a:lnTo>
                <a:lnTo>
                  <a:pt x="18578" y="7667"/>
                </a:lnTo>
                <a:lnTo>
                  <a:pt x="19135" y="8224"/>
                </a:lnTo>
                <a:lnTo>
                  <a:pt x="19135" y="8772"/>
                </a:lnTo>
                <a:lnTo>
                  <a:pt x="20980" y="8772"/>
                </a:lnTo>
                <a:lnTo>
                  <a:pt x="21346" y="8224"/>
                </a:lnTo>
                <a:lnTo>
                  <a:pt x="22086" y="8224"/>
                </a:lnTo>
                <a:lnTo>
                  <a:pt x="22086" y="13376"/>
                </a:lnTo>
                <a:lnTo>
                  <a:pt x="21346" y="13376"/>
                </a:lnTo>
                <a:lnTo>
                  <a:pt x="20980" y="12828"/>
                </a:lnTo>
                <a:lnTo>
                  <a:pt x="19135" y="12828"/>
                </a:lnTo>
                <a:lnTo>
                  <a:pt x="19135" y="14107"/>
                </a:lnTo>
                <a:lnTo>
                  <a:pt x="9552" y="14107"/>
                </a:lnTo>
                <a:lnTo>
                  <a:pt x="9552" y="9877"/>
                </a:lnTo>
                <a:lnTo>
                  <a:pt x="9369" y="9877"/>
                </a:lnTo>
                <a:lnTo>
                  <a:pt x="8986" y="10243"/>
                </a:lnTo>
                <a:lnTo>
                  <a:pt x="8073" y="10243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8-02-28T02:30:41Z</dcterms:modified>
  <cp:revision>44</cp:revision>
  <dc:subject/>
  <dc:title>PowerPoint Presentation</dc:title>
</cp:coreProperties>
</file>