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E31-590D-4A42-8807-637DC040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BE1-8878-4FBC-AE18-9284E97A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28E-05F5-438E-977D-B0A49058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C0C-F776-4E8E-A582-8D3EF939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20F-5BA2-4C50-8254-1085C0D6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05B-8B31-4D4A-8E43-B3CCC33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3CE-4245-42A7-AAA7-DDDDE13C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DB5-059D-4D14-A9C4-068BDB4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F60-0A86-4730-B916-7A1EE7EE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F50-EA4A-4D81-82C7-7879B66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729-EFE3-4C75-B098-67DBA8A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51A-F8F1-4A0A-AEA6-32F8371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8530-5836-4DD2-B0DA-95C91B1020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74;&#1086;&#1083;&#1085;&#1099;\2. &#1052;&#1086;&#1076;&#1077;&#1083;&#1100; &#1069;&#1052; &#1074;&#1086;&#1083;&#1085;&#1099;.avi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74;&#1086;&#1083;&#1085;&#1099;\1. &#1048;&#1079;&#1083;&#1091;&#1095;&#1077;&#1085;&#1080;&#1077;&#1069;&#1052; &#1074;&#1086;&#1083;&#1085;.avi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Video\&#1069;&#1052; &#1074;&#1086;&#1083;&#1085;&#1099;\12. &#1052;&#1086;&#1076;&#1077;&#1083;&#1100; &#1088;&#1072;&#1076;&#1080;&#1086;&#1087;&#1088;&#1080;&#1077;&#1084;&#1085;&#1080;&#1082;&#1072;.avi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41672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ринцип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адиосвяз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92360" y="260280"/>
            <a:ext cx="612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улаты Максвелл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1052640"/>
            <a:ext cx="8209080" cy="1015920"/>
            <a:chOff x="468360" y="1052640"/>
            <a:chExt cx="8209080" cy="1015920"/>
          </a:xfrm>
        </p:grpSpPr>
        <p:sp>
          <p:nvSpPr>
            <p:cNvPr id="44" name=""/>
            <p:cNvSpPr/>
            <p:nvPr/>
          </p:nvSpPr>
          <p:spPr>
            <a:xfrm>
              <a:off x="468360" y="1052640"/>
              <a:ext cx="2951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X.</a:t>
              </a: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 Эрстед</a:t>
              </a: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(182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М. Фарадей </a:t>
              </a: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(183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19640" y="1052640"/>
              <a:ext cx="288720" cy="1008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24360" y="134136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Дж. Максвелл (1864) – 2 постула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050920" y="2276640"/>
            <a:ext cx="4753080" cy="1150920"/>
            <a:chOff x="2050920" y="2276640"/>
            <a:chExt cx="4753080" cy="1150920"/>
          </a:xfrm>
        </p:grpSpPr>
        <p:grpSp>
          <p:nvGrpSpPr>
            <p:cNvPr id="48" name=""/>
            <p:cNvGrpSpPr/>
            <p:nvPr/>
          </p:nvGrpSpPr>
          <p:grpSpPr>
            <a:xfrm>
              <a:off x="2195280" y="2492640"/>
              <a:ext cx="4248000" cy="703440"/>
              <a:chOff x="2195280" y="2492640"/>
              <a:chExt cx="4248000" cy="703440"/>
            </a:xfrm>
          </p:grpSpPr>
          <p:sp>
            <p:nvSpPr>
              <p:cNvPr id="49" name=""/>
              <p:cNvSpPr/>
              <p:nvPr/>
            </p:nvSpPr>
            <p:spPr>
              <a:xfrm>
                <a:off x="2195280" y="2492640"/>
                <a:ext cx="324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~</a:t>
                </a:r>
                <a:r>
                  <a:rPr b="0" lang="ru-RU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B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~ 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274560" y="2779920"/>
                <a:ext cx="1152720" cy="216000"/>
              </a:xfrm>
              <a:prstGeom prst="rightArrow">
                <a:avLst>
                  <a:gd name="adj1" fmla="val 50000"/>
                  <a:gd name="adj2" fmla="val 133417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626920" y="2564280"/>
                <a:ext cx="5032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930560" y="2564280"/>
                <a:ext cx="5032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5722560" y="2492640"/>
                <a:ext cx="720720" cy="647640"/>
                <a:chOff x="5722560" y="2492640"/>
                <a:chExt cx="720720" cy="6476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5722560" y="2492640"/>
                  <a:ext cx="720720" cy="64764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11640" y="24926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6011280" y="3140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2050920" y="2276640"/>
              <a:ext cx="4753080" cy="115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050920" y="3932280"/>
            <a:ext cx="4753080" cy="1150920"/>
            <a:chOff x="2050920" y="3932280"/>
            <a:chExt cx="4753080" cy="1150920"/>
          </a:xfrm>
        </p:grpSpPr>
        <p:grpSp>
          <p:nvGrpSpPr>
            <p:cNvPr id="59" name=""/>
            <p:cNvGrpSpPr/>
            <p:nvPr/>
          </p:nvGrpSpPr>
          <p:grpSpPr>
            <a:xfrm>
              <a:off x="2266920" y="4148280"/>
              <a:ext cx="4248000" cy="703440"/>
              <a:chOff x="2266920" y="4148280"/>
              <a:chExt cx="4248000" cy="703440"/>
            </a:xfrm>
          </p:grpSpPr>
          <p:sp>
            <p:nvSpPr>
              <p:cNvPr id="60" name=""/>
              <p:cNvSpPr/>
              <p:nvPr/>
            </p:nvSpPr>
            <p:spPr>
              <a:xfrm>
                <a:off x="2266920" y="4148280"/>
                <a:ext cx="3384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~</a:t>
                </a:r>
                <a:r>
                  <a:rPr b="0" lang="ru-RU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E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0" lang="en-US" sz="4000" spc="-1" strike="noStrike">
                    <a:solidFill>
                      <a:srgbClr val="000099"/>
                    </a:solidFill>
                    <a:latin typeface="Times New Roman"/>
                    <a:ea typeface="Times New Roman"/>
                  </a:rPr>
                  <a:t>~ 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346200" y="4435560"/>
                <a:ext cx="1152720" cy="216000"/>
              </a:xfrm>
              <a:prstGeom prst="rightArrow">
                <a:avLst>
                  <a:gd name="adj1" fmla="val 50000"/>
                  <a:gd name="adj2" fmla="val 133417"/>
                </a:avLst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98560" y="4219560"/>
                <a:ext cx="5032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02200" y="4219560"/>
                <a:ext cx="5032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5794200" y="4148280"/>
                <a:ext cx="720720" cy="647640"/>
                <a:chOff x="5794200" y="4148280"/>
                <a:chExt cx="720720" cy="6476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794200" y="4148280"/>
                  <a:ext cx="720720" cy="647640"/>
                </a:xfrm>
                <a:prstGeom prst="ellipse">
                  <a:avLst/>
                </a:prstGeom>
                <a:noFill/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83280" y="41482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6082920" y="47959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2050920" y="3932280"/>
              <a:ext cx="4753080" cy="115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971640" y="587700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566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 природе существуют ЭМ вол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/>
          </p:cNvPr>
          <p:cNvSpPr/>
          <p:nvPr/>
        </p:nvSpPr>
        <p:spPr>
          <a:xfrm>
            <a:off x="8388360" y="5373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1640" y="90792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1887 г. немецким физиком Г. Герцем ЭМ волны были открыты эксперимента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40000" y="18900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ыты Герц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19280" y="2492280"/>
            <a:ext cx="6622560" cy="4083840"/>
            <a:chOff x="1619280" y="2492280"/>
            <a:chExt cx="6622560" cy="4083840"/>
          </a:xfrm>
        </p:grpSpPr>
        <p:grpSp>
          <p:nvGrpSpPr>
            <p:cNvPr id="75" name=""/>
            <p:cNvGrpSpPr/>
            <p:nvPr/>
          </p:nvGrpSpPr>
          <p:grpSpPr>
            <a:xfrm>
              <a:off x="1619280" y="2492280"/>
              <a:ext cx="6193080" cy="4083840"/>
              <a:chOff x="1619280" y="2492280"/>
              <a:chExt cx="6193080" cy="4083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619280" y="2517120"/>
                <a:ext cx="3435840" cy="4044240"/>
                <a:chOff x="1619280" y="2517120"/>
                <a:chExt cx="3435840" cy="404424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4768200" y="2517120"/>
                  <a:ext cx="258120" cy="1885320"/>
                  <a:chOff x="4768200" y="2517120"/>
                  <a:chExt cx="258120" cy="188532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V="1">
                    <a:off x="4901040" y="2517120"/>
                    <a:ext cx="0" cy="164124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768200" y="4141440"/>
                    <a:ext cx="258120" cy="26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4796640" y="4716720"/>
                  <a:ext cx="258480" cy="1844640"/>
                  <a:chOff x="4796640" y="4716720"/>
                  <a:chExt cx="258480" cy="18446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V="1">
                    <a:off x="4925880" y="4920480"/>
                    <a:ext cx="0" cy="164088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4796640" y="4716720"/>
                    <a:ext cx="258480" cy="26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"/>
                <p:cNvSpPr/>
                <p:nvPr/>
              </p:nvSpPr>
              <p:spPr>
                <a:xfrm flipH="1">
                  <a:off x="3260160" y="3696120"/>
                  <a:ext cx="164088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3691800" y="5423040"/>
                  <a:ext cx="120852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92160" y="5163840"/>
                  <a:ext cx="0" cy="51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19000" y="5249880"/>
                  <a:ext cx="0" cy="3445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45840" y="5163840"/>
                  <a:ext cx="0" cy="51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172320" y="5249880"/>
                  <a:ext cx="0" cy="34452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1963080" y="5423040"/>
                  <a:ext cx="120852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 flipV="1">
                  <a:off x="2913480" y="3436560"/>
                  <a:ext cx="345960" cy="258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1963440" y="3696120"/>
                  <a:ext cx="95184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1704240" y="3696120"/>
                  <a:ext cx="520200" cy="1725480"/>
                  <a:chOff x="1704240" y="3696120"/>
                  <a:chExt cx="520200" cy="1725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>
                    <a:off x="1704600" y="4556880"/>
                    <a:ext cx="51912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715" y="203"/>
                        </a:moveTo>
                        <a:arcTo wR="10800" hR="10800" stAng="-6067724" swAng="1182374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715" y="203"/>
                        </a:moveTo>
                        <a:arcTo wR="10800" hR="10800" stAng="-6067724" swAng="11823746"/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1704600" y="4988520"/>
                    <a:ext cx="51984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96053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960532"/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1703880" y="3696120"/>
                    <a:ext cx="51660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715" y="203"/>
                        </a:moveTo>
                        <a:arcTo wR="10800" hR="10800" stAng="-6067724" swAng="1182374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715" y="203"/>
                        </a:moveTo>
                        <a:arcTo wR="10800" hR="10800" stAng="-6067724" swAng="11823746"/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1704600" y="4125240"/>
                    <a:ext cx="51912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6544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654442"/>
                      </a:path>
                    </a:pathLst>
                  </a:custGeom>
                  <a:noFill/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1619280" y="3696120"/>
                  <a:ext cx="0" cy="16390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068880" y="2492280"/>
                <a:ext cx="1743480" cy="4083840"/>
                <a:chOff x="6068880" y="2492280"/>
                <a:chExt cx="1743480" cy="408384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6068880" y="2492280"/>
                  <a:ext cx="258120" cy="1882080"/>
                  <a:chOff x="6068880" y="2492280"/>
                  <a:chExt cx="258120" cy="188208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 flipV="1">
                    <a:off x="6201720" y="2492280"/>
                    <a:ext cx="0" cy="16387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068880" y="4113720"/>
                    <a:ext cx="258120" cy="26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6085800" y="4734000"/>
                  <a:ext cx="258120" cy="1842120"/>
                  <a:chOff x="6085800" y="4734000"/>
                  <a:chExt cx="258120" cy="18421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flipV="1">
                    <a:off x="6214680" y="4937400"/>
                    <a:ext cx="0" cy="16387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085800" y="4734000"/>
                    <a:ext cx="258120" cy="26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 flipH="1">
                  <a:off x="6173280" y="3700080"/>
                  <a:ext cx="163908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6173280" y="5424480"/>
                  <a:ext cx="1639080" cy="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793280" y="3715920"/>
                  <a:ext cx="16920" cy="1707480"/>
                </a:xfrm>
                <a:prstGeom prst="line">
                  <a:avLst/>
                </a:prstGeom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787640" y="4435200"/>
                <a:ext cx="215640" cy="288360"/>
              </a:xfrm>
              <a:prstGeom prst="lightningBolt">
                <a:avLst/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56000" y="4435200"/>
                <a:ext cx="142560" cy="288360"/>
              </a:xfrm>
              <a:prstGeom prst="lightningBolt">
                <a:avLst/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914560" y="6021000"/>
              <a:ext cx="15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вибр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5949720"/>
              <a:ext cx="179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>
            <a:hlinkClick r:id="rId2"/>
          </p:cNvPr>
          <p:cNvSpPr/>
          <p:nvPr/>
        </p:nvSpPr>
        <p:spPr>
          <a:xfrm>
            <a:off x="838836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2160720" cy="280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260280"/>
            <a:ext cx="727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бретение радио А.С.Поповым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437000"/>
            <a:ext cx="86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7 мая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1895 г. русским военным инженером А.С. Поповым был продемонстрирован первый радиоприемник (грозоотметчи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4 марта 1896 года была осуществлена первая радиопередача. Радиограмма состояла из двух слов «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enrich Herz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» и была передана на расстояние 250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0" b="2255"/>
          <a:stretch/>
        </p:blipFill>
        <p:spPr>
          <a:xfrm>
            <a:off x="468360" y="907920"/>
            <a:ext cx="2452680" cy="3097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0" y="836640"/>
            <a:ext cx="3816360" cy="3548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907920"/>
            <a:ext cx="8209080" cy="547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32000" y="260280"/>
            <a:ext cx="61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ок-схема радиопередатч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2924280"/>
            <a:ext cx="576360" cy="57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92428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4720" y="2709720"/>
            <a:ext cx="1800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М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213000"/>
            <a:ext cx="115236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013360"/>
            <a:ext cx="180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ГВ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80000" y="3718080"/>
            <a:ext cx="0" cy="129528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5080" y="3213000"/>
            <a:ext cx="158256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1773360"/>
            <a:ext cx="0" cy="35287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5302080"/>
            <a:ext cx="865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5446800"/>
            <a:ext cx="5763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5589720"/>
            <a:ext cx="216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69080" y="1773360"/>
            <a:ext cx="358560" cy="360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1773360"/>
            <a:ext cx="360360" cy="360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>
            <a:lum contrast="6000"/>
          </a:blip>
          <a:srcRect l="0" t="13196" r="0" b="0"/>
          <a:stretch/>
        </p:blipFill>
        <p:spPr>
          <a:xfrm>
            <a:off x="4859280" y="2708280"/>
            <a:ext cx="914400" cy="4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lum contrast="6000"/>
          </a:blip>
          <a:srcRect l="0" t="9947" r="0" b="0"/>
          <a:stretch/>
        </p:blipFill>
        <p:spPr>
          <a:xfrm>
            <a:off x="3924360" y="4386240"/>
            <a:ext cx="863640" cy="52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692360" y="2708280"/>
            <a:ext cx="1009440" cy="39996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6127560" y="1007640"/>
            <a:ext cx="1796760" cy="2391840"/>
            <a:chOff x="6127560" y="1007640"/>
            <a:chExt cx="1796760" cy="2391840"/>
          </a:xfrm>
        </p:grpSpPr>
        <p:sp>
          <p:nvSpPr>
            <p:cNvPr id="137" name=""/>
            <p:cNvSpPr/>
            <p:nvPr/>
          </p:nvSpPr>
          <p:spPr>
            <a:xfrm>
              <a:off x="6156720" y="1310040"/>
              <a:ext cx="1151640" cy="16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27560" y="1459440"/>
              <a:ext cx="920520" cy="132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7520" y="1158480"/>
              <a:ext cx="1418760" cy="20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61480" y="1007640"/>
              <a:ext cx="1662840" cy="239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94840" y="2685960"/>
            <a:ext cx="677520" cy="1190520"/>
            <a:chOff x="294840" y="2685960"/>
            <a:chExt cx="677520" cy="1190520"/>
          </a:xfrm>
        </p:grpSpPr>
        <p:sp>
          <p:nvSpPr>
            <p:cNvPr id="142" name=""/>
            <p:cNvSpPr/>
            <p:nvPr/>
          </p:nvSpPr>
          <p:spPr>
            <a:xfrm>
              <a:off x="305280" y="2836440"/>
              <a:ext cx="434520" cy="82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4840" y="2910960"/>
              <a:ext cx="347040" cy="65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600" y="2761200"/>
              <a:ext cx="535320" cy="101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4880" y="2685960"/>
              <a:ext cx="627480" cy="119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332000" y="18900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мплитудная модуляц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877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зменение амплитуды колебаний высокой (несущей) частоты колебаниями низкой (звуковой) частоты называется 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0" t="4229" r="597" b="3999"/>
          <a:stretch/>
        </p:blipFill>
        <p:spPr>
          <a:xfrm>
            <a:off x="285840" y="728640"/>
            <a:ext cx="6337080" cy="5221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73272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Ч колеб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92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Ч колеб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458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М колеб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836640"/>
            <a:ext cx="864072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260280"/>
            <a:ext cx="61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ок-схема радиоприем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276640"/>
            <a:ext cx="122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ПК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781360"/>
            <a:ext cx="35892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96360" y="3284640"/>
            <a:ext cx="0" cy="7920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2781360"/>
            <a:ext cx="115236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1341360"/>
            <a:ext cx="0" cy="3600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05080" y="4941720"/>
            <a:ext cx="865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9440" y="5086440"/>
            <a:ext cx="5763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5440" y="5229360"/>
            <a:ext cx="215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476000" y="1412640"/>
            <a:ext cx="360360" cy="431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36720" y="1412640"/>
            <a:ext cx="360360" cy="431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>
            <a:lum contrast="6000"/>
          </a:blip>
          <a:srcRect l="0" t="13196" r="0" b="0"/>
          <a:stretch/>
        </p:blipFill>
        <p:spPr>
          <a:xfrm>
            <a:off x="3564000" y="2205000"/>
            <a:ext cx="914400" cy="4716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-281160" y="1222920"/>
            <a:ext cx="1796760" cy="2392200"/>
            <a:chOff x="-281160" y="1222920"/>
            <a:chExt cx="1796760" cy="2392200"/>
          </a:xfrm>
        </p:grpSpPr>
        <p:sp>
          <p:nvSpPr>
            <p:cNvPr id="166" name=""/>
            <p:cNvSpPr/>
            <p:nvPr/>
          </p:nvSpPr>
          <p:spPr>
            <a:xfrm>
              <a:off x="-252000" y="1526040"/>
              <a:ext cx="1151640" cy="165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281160" y="1675440"/>
              <a:ext cx="920520" cy="132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41200" y="1374480"/>
              <a:ext cx="1418760" cy="20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147240" y="1222920"/>
              <a:ext cx="1662840" cy="239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1260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572000" y="2276640"/>
            <a:ext cx="122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2276640"/>
            <a:ext cx="122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2781360"/>
            <a:ext cx="115236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4076640"/>
            <a:ext cx="289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3932280"/>
            <a:ext cx="0" cy="100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rcRect l="10903" t="0" r="18352" b="0"/>
          <a:stretch/>
        </p:blipFill>
        <p:spPr>
          <a:xfrm>
            <a:off x="5940360" y="2205000"/>
            <a:ext cx="936720" cy="495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443640" y="3500280"/>
            <a:ext cx="1066680" cy="4003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7638480" y="3911400"/>
            <a:ext cx="678240" cy="1190520"/>
            <a:chOff x="7638480" y="3911400"/>
            <a:chExt cx="678240" cy="1190520"/>
          </a:xfrm>
        </p:grpSpPr>
        <p:sp>
          <p:nvSpPr>
            <p:cNvPr id="178" name=""/>
            <p:cNvSpPr/>
            <p:nvPr/>
          </p:nvSpPr>
          <p:spPr>
            <a:xfrm>
              <a:off x="7648920" y="4061880"/>
              <a:ext cx="434520" cy="82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38480" y="4136400"/>
              <a:ext cx="347040" cy="65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52880" y="3986640"/>
              <a:ext cx="536040" cy="101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8880" y="3911400"/>
              <a:ext cx="627840" cy="119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410"/>
                  </a:moveTo>
                  <a:arcTo wR="10800" hR="10800" stAng="-4450283" swAng="7964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410"/>
                  </a:moveTo>
                  <a:arcTo wR="10800" hR="10800" stAng="-4450283" swAng="7964233"/>
                </a:path>
              </a:pathLst>
            </a:custGeom>
            <a:noFill/>
            <a:ln w="9360">
              <a:solidFill>
                <a:srgbClr val="009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050920" y="26028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ектирова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13229" r="1510" b="0"/>
          <a:stretch/>
        </p:blipFill>
        <p:spPr>
          <a:xfrm>
            <a:off x="684360" y="1665360"/>
            <a:ext cx="7559640" cy="19396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7632720" cy="2067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11280" y="98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гнал после прохождения через детектор (дио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78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гнал после прохождения через фильтр (конденсато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72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981000"/>
            <a:ext cx="7416720" cy="547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55640" y="26028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хема детекторного прием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8388360" y="5445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13080" y="1341360"/>
            <a:ext cx="0" cy="15829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2720" y="1341360"/>
            <a:ext cx="360360" cy="503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413080" y="1341360"/>
            <a:ext cx="358560" cy="503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63280" y="2924280"/>
            <a:ext cx="1181520" cy="1709640"/>
            <a:chOff x="1763280" y="2924280"/>
            <a:chExt cx="1181520" cy="1709640"/>
          </a:xfrm>
        </p:grpSpPr>
        <p:sp>
          <p:nvSpPr>
            <p:cNvPr id="194" name=""/>
            <p:cNvSpPr/>
            <p:nvPr/>
          </p:nvSpPr>
          <p:spPr>
            <a:xfrm flipH="1" flipV="1">
              <a:off x="2022480" y="4632480"/>
              <a:ext cx="906480" cy="1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036880" y="2924280"/>
              <a:ext cx="907920" cy="1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762920" y="3787920"/>
              <a:ext cx="49500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5" y="203"/>
                  </a:moveTo>
                  <a:arcTo wR="10800" hR="10800" stAng="-6067724" swAng="11823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5" y="203"/>
                  </a:moveTo>
                  <a:arcTo wR="10800" hR="10800" stAng="-6067724" swAng="11823746"/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63640" y="4219560"/>
              <a:ext cx="496080" cy="41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960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960532"/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63640" y="2925720"/>
              <a:ext cx="491760" cy="41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15" y="203"/>
                  </a:moveTo>
                  <a:arcTo wR="10800" hR="10800" stAng="-6067724" swAng="11823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8715" y="203"/>
                  </a:moveTo>
                  <a:arcTo wR="10800" hR="10800" stAng="-6067724" swAng="11823746"/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62920" y="3354480"/>
              <a:ext cx="496440" cy="41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544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54442"/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916360" y="3933720"/>
            <a:ext cx="0" cy="719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2924280"/>
            <a:ext cx="0" cy="7207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3645000"/>
            <a:ext cx="431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4653000"/>
            <a:ext cx="0" cy="12970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5950080"/>
            <a:ext cx="576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6021360"/>
            <a:ext cx="432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13080" y="6093000"/>
            <a:ext cx="1429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3080" y="2492280"/>
            <a:ext cx="388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5157720"/>
            <a:ext cx="3888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869080" y="3860640"/>
            <a:ext cx="0" cy="719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9080" y="2851200"/>
            <a:ext cx="0" cy="7207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3080" y="3860640"/>
            <a:ext cx="431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53080" y="3571920"/>
            <a:ext cx="431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9080" y="4581360"/>
            <a:ext cx="863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9080" y="2852640"/>
            <a:ext cx="863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732720" y="4076640"/>
            <a:ext cx="0" cy="5047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32720" y="2852280"/>
            <a:ext cx="0" cy="5050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88000" y="3357720"/>
            <a:ext cx="289080" cy="718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77080" y="3213000"/>
            <a:ext cx="0" cy="100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4581360"/>
            <a:ext cx="0" cy="576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2492280"/>
            <a:ext cx="0" cy="360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429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357720"/>
            <a:ext cx="79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ru-RU" sz="3600" spc="-1" strike="noStrike" baseline="-25000">
                <a:solidFill>
                  <a:srgbClr val="000099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342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3429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Т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00360" y="3357720"/>
            <a:ext cx="431640" cy="86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2276640"/>
            <a:ext cx="0" cy="431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2276640"/>
            <a:ext cx="504720" cy="215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211640" y="2492280"/>
            <a:ext cx="504720" cy="216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2276640"/>
            <a:ext cx="0" cy="431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155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4:13Z</dcterms:modified>
  <cp:revision>48</cp:revision>
  <dc:subject/>
  <dc:title>PowerPoint Presentation</dc:title>
</cp:coreProperties>
</file>