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67C9-5D2F-475E-8865-E62A6C7F4D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195B-001B-4D00-BB26-A1532CC0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DC6FE-5D53-43FB-B2F4-4EFFF63E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1A3F1-5EA2-4C01-9496-3032F852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6EB0D-9593-4DF2-8D8E-BB1D3451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8221E-5379-44C0-88E9-938CC088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4AF2B-846B-4D9D-AFC3-F5A32933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14A3C-D685-400C-AAA6-07A92E51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A201D-319D-4DF2-B773-E86099F9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2D59C-EF19-4DA8-ABC9-557DE993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C6061-1796-41A7-B5A0-50BC9A77A7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7D3F-2F2B-4CA3-AB2F-CDA9BF56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FF20-84CA-4FF9-A5AD-D1590B4086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21592-2BD7-474C-9DCA-E68BF1AE42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8FF5A-77CF-4B5C-9450-D9D2A3EE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A34AC-C470-414A-8D42-419AF3AD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ED366-FC42-4A1D-9336-67974E87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1DC89-9C41-407E-94ED-C0BB6CA9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3E50E-1008-4303-8A84-951454A5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9C1B9-74E7-4090-9ADD-59425826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A2C4-6990-418B-8DF3-15EA71C7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D35A4-CD58-40BA-8AE6-FD078350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E0DFD-3C51-4890-BF66-F4543D40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6CFB0-2FC4-4AAA-85D2-E7865000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3CA2C-057A-423E-A843-ED898206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0664B-DAEE-4D7B-AD60-60CEE653F0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C716-7EA0-4B21-893E-A61F7F3A0A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3058-4B19-4ECA-B9D6-686E0880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4B6B-A8A7-427E-9EE4-3788CDDC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7DDF-C6A9-4EAB-B33C-2FBA77C6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92F6-D6CD-46EA-ABEC-8757786E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4E9C-61E7-4FFB-801D-792A25E5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7197-0084-4520-B10D-28F10EA9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ADA5-5BA6-40B3-AFC8-FDBDEDD6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5156-6CB2-443F-A911-55536389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E88F-7A18-43DD-9CA0-F5FFB298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F628-DA51-445F-B835-B5BD1061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A62B-4802-49C5-BA8A-AB809911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CBCF-8894-4C97-9117-67E70D7862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E5203-7700-4D41-85DE-F5D26BA692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5CB05-7A4C-4F5F-A977-CE19F217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5363C-88D0-4AC2-A369-41F1DC37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010B-0FDB-4FAC-86DB-633ED9CA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5A8CB-C4A3-4394-B941-D8BC0864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A6985-37F5-44E1-A65E-BBB051DB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48932-5562-4843-89D0-8BC5850A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FE083-30FE-439F-A51D-9849B21B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E0FA0-88BE-4F9B-9932-4E6403A8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B89F8-83ED-44EA-8ADB-6622E53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BBAD3-4EA1-4FA7-A7AC-00A94202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C36D9-A11B-4D76-85B8-D0C7D08B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CC56F-2F9D-479A-A897-9007FC36A0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B8E3F5-D866-47E4-8EA3-CA4DD6D07A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369F-F8A4-4F30-B808-9335CFEB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865121-4665-4B48-BB6F-796D517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0BEDC-B72D-4B19-A438-EFEF6F15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22BA0-1B04-4D5B-A763-66A93790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D8ACF-C293-4084-9427-2EA2FC39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37A619-36EB-4D1E-A608-85A4BD41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E2BE2-29FB-42B0-8C1E-77135F2C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F7081-0E4C-48ED-8314-86E98E5E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CABBC-5EFD-4AAF-B921-76D5771A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22E683-BAC0-4D8C-8D78-3D318AB6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20DCA-572E-46EC-A5F2-E60433A9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7984-C884-4C09-AF69-A2B5DCE6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48075-2E89-4312-8A7A-32588BD458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9FE89-AE1C-4C14-835A-A8C5B1AB5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FFA14-C267-4F89-A527-11ED98D1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E7A16-2D33-4CA5-AC27-A3A1686D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CAA95-CF53-429B-AC97-B31427DA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DCB7E-6DAE-4D7F-9F2C-2DDD0A3D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3D655-3BB6-4BFB-85E7-5DC92315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B29B8-F8FE-452E-94B1-E720D48D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9CB4D-D62D-468F-BF3A-9B62C0CD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B683-430D-400E-B6F5-4D93A2C7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3625-3D90-4BB0-B195-56E3CAE2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EA808-CC92-4D45-92E4-1A532A3E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DE5C-BF8F-4EBA-AB38-674EB454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A12E-B165-41FD-8737-A8AF6AD42D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38BF7-CAD7-40B3-A42E-2221EC349E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D9545-0CD9-475F-A8E2-5BB34FF4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5BCA9-E54E-4E37-BA50-96056DDA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AF5EC-B278-4584-80FC-C1FB94CB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861F9-A6D0-4C4E-8047-5E255929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243FA-FD0A-457D-B7C3-7BB4762B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319D3-FF4C-4F5B-9A30-AF969A33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2B43C-F736-41E2-8DC9-3AD9CB08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758FB-A57E-4270-9C7F-F08BAE89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044E2-0740-4D30-8852-DB226D3F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C9CAE-C715-4F7A-B296-7431A1D0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7E186-7016-449A-96A4-271BF90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D7888-828F-4730-B5E1-AD4DF38658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12BC9-FA80-4A2D-9849-542C14F89F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525FE6-9138-4C84-A151-DE2E4489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39CDED-8F68-42B8-AEA0-2252AFF0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E13BDB-654C-4723-82F8-84828A7F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16040-8E5E-4D5F-A002-645FB6C7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F62D-8F23-41AB-8999-71960151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80800"/>
            <a:ext cx="8685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950D71-ADBE-4E8D-B921-98AAEE3E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9CBFE1-9E1E-4853-A037-B756B98C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94E489-B5B7-4FB8-B4A9-306816B2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DDDF32-BE7E-4DA4-811A-F856777F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0A3BF7-069A-4EFB-BFE6-F0985A1D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7E34D4-B504-421D-BCD7-21E42DD6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CA35BC-CCCC-45B6-AFDB-C34DC8D38C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6E1F8-7C7D-4E21-B5FF-49C5F30E57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86A1B-9CEE-4709-BE8E-00F7F2A7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24126-8439-4CEC-BC42-2C75034F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777B64-25ED-4707-80E2-BBC66F529B85}" type="slidenum">
              <a: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080" y="105660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080" y="534924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B9681F-E83D-4943-BE6D-44FE9DFCAE45}" type="slidenum">
              <a: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080" y="105012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080" y="105660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CAF4FD-25E6-4CD4-8578-B1E0CC0FAFEC}" type="slidenum">
              <a: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080" y="344376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1240" indent="-28404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EDF149-575C-4C9C-9850-42430D8947DB}" type="slidenum">
              <a: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080" y="601920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0A10B5-0F84-4F73-9B66-92C63D724D74}" type="slidenum">
              <a: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6396B9-AF74-4DEA-AC9F-F0EDC7B33B2C}" type="slidenum">
              <a: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080" y="5847480"/>
              <a:ext cx="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3AC437-5D00-4FF4-A93C-7057402931D9}" type="slidenum">
              <a: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B03126-55C1-45D2-A92D-7EDFBB205C91}" type="slidenum">
              <a: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1240" indent="-28404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76320"/>
            <a:ext cx="3353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088E14-E8B8-472A-AF68-41A7B42C9EC6}" type="slidenum">
              <a:rPr b="0" lang="en-GB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1"/>
          <p:cNvGrpSpPr/>
          <p:nvPr/>
        </p:nvGrpSpPr>
        <p:grpSpPr>
          <a:xfrm>
            <a:off x="103320" y="450720"/>
            <a:ext cx="8893080" cy="1152720"/>
            <a:chOff x="103320" y="450720"/>
            <a:chExt cx="8893080" cy="1152720"/>
          </a:xfrm>
        </p:grpSpPr>
        <p:pic>
          <p:nvPicPr>
            <p:cNvPr id="400" name="Picture 2" descr=""/>
            <p:cNvPicPr/>
            <p:nvPr/>
          </p:nvPicPr>
          <p:blipFill>
            <a:blip r:embed="rId1"/>
            <a:stretch/>
          </p:blipFill>
          <p:spPr>
            <a:xfrm>
              <a:off x="103320" y="450720"/>
              <a:ext cx="8893080" cy="11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3"/>
            <p:cNvSpPr/>
            <p:nvPr/>
          </p:nvSpPr>
          <p:spPr>
            <a:xfrm>
              <a:off x="103320" y="450720"/>
              <a:ext cx="88930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Text Box 4"/>
          <p:cNvSpPr/>
          <p:nvPr/>
        </p:nvSpPr>
        <p:spPr>
          <a:xfrm>
            <a:off x="304920" y="155412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Исследовать творчество современного поэта Николая Зиновьева с точки зрения конкретного элемента языковой организации в передаче определенного идейно – художественного содерж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856451"/>
                </a:solidFill>
                <a:latin typeface="Franklin Gothic Book"/>
              </a:rPr>
              <a:t>Эпифора (концовка</a:t>
            </a:r>
            <a:r>
              <a:rPr b="0" lang="ru-RU" sz="3600" spc="-1" strike="noStrike">
                <a:solidFill>
                  <a:srgbClr val="856451"/>
                </a:solidFill>
                <a:latin typeface="Franklin Gothic Book"/>
              </a:rPr>
              <a:t>)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– это «повторение слов или выражений в конце смежных отрывков (предложений)»: </a:t>
            </a:r>
            <a:r>
              <a:rPr b="0" lang="ru-RU" sz="3600" spc="-1" strike="noStrike">
                <a:solidFill>
                  <a:srgbClr val="856451"/>
                </a:solidFill>
                <a:latin typeface="Franklin Gothic Book"/>
              </a:rPr>
              <a:t>«Мне бы хотелось знать, отчего я титулярный советник? Почему именно титулярный советник?».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Эпифора «усиливает эмфатическую интонацию»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304920" y="1554120"/>
            <a:ext cx="86868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От вас, молодые, не скрою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Не Божью, но знал благодать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Я Родину видел </a:t>
            </a: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такою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Какой вам её не видат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Я видел </a:t>
            </a: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такую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державу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В Империи жил я </a:t>
            </a: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тако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Что вечно за прошлую слав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Я буду держаться руко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                              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араллелизм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это «одинаковое синтаксическое построение соседних предложений или отрезков речи»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7600" indent="-327600">
              <a:lnSpc>
                <a:spcPct val="9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араллелизм – разновидность повтора, повтор смежных синтаксических конструкций, но он, как правило, «сопровождается лексическим повтором, что создает фон для сопоставления высказываний». Разновидностью параллелизма является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отрицательный параллелизм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, построенный на основе отрицательного сравн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457200" y="136440"/>
            <a:ext cx="8229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457200" y="642960"/>
            <a:ext cx="82296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a5644e"/>
                </a:solidFill>
                <a:latin typeface="Franklin Gothic Book"/>
              </a:rPr>
              <a:t>Где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русские тихие песни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Хотел бы их слышать. Вотщ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Крикун же заморский, хоть тресни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Мне нужен, как волос в борще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a5644e"/>
                </a:solidFill>
                <a:latin typeface="Franklin Gothic Book"/>
              </a:rPr>
              <a:t>Где русские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квасы и каши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a5644e"/>
                </a:solidFill>
                <a:latin typeface="Franklin Gothic Book"/>
              </a:rPr>
              <a:t>Где русский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на избах венец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a5644e"/>
                </a:solidFill>
                <a:latin typeface="Franklin Gothic Book"/>
              </a:rPr>
              <a:t>Где русские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женщины наши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a5644e"/>
                </a:solidFill>
                <a:latin typeface="Franklin Gothic Book"/>
              </a:rPr>
              <a:t>Где русская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речь, наконец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Россия, любимая,</a:t>
            </a:r>
            <a:r>
              <a:rPr b="0" lang="en-GB" sz="2500" spc="-1" strike="noStrike">
                <a:solidFill>
                  <a:srgbClr val="996633"/>
                </a:solidFill>
                <a:latin typeface="Franklin Gothic Book"/>
              </a:rPr>
              <a:t> где ты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Какой тебя смел ураган?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Остался на ветку надеты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Небьющийся русский стака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457200" y="15228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1554120"/>
            <a:ext cx="86868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b84700"/>
                </a:solidFill>
                <a:latin typeface="Franklin Gothic Book"/>
              </a:rPr>
              <a:t>Я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не пахарь и не вои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У  своей родной стра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b84700"/>
                </a:solidFill>
                <a:latin typeface="Franklin Gothic Book"/>
              </a:rPr>
              <a:t>Я поэт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, мой ум раздвоен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Словно жало у зме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b84700"/>
                </a:solidFill>
                <a:latin typeface="Franklin Gothic Book"/>
              </a:rPr>
              <a:t>Я – поэт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. Счастливой до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Быть не может у мен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b84700"/>
                </a:solidFill>
                <a:latin typeface="Franklin Gothic Book"/>
              </a:rPr>
              <a:t>Как нет</a:t>
            </a: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 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запаха у соли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b84700"/>
                </a:solidFill>
                <a:latin typeface="Franklin Gothic Book"/>
              </a:rPr>
              <a:t>Как нет 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вкуса у огн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304920" y="1554120"/>
            <a:ext cx="86868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Снова </a:t>
            </a:r>
            <a:r>
              <a:rPr b="0" lang="en-GB" sz="2700" spc="-1" strike="noStrike">
                <a:solidFill>
                  <a:srgbClr val="6b2394"/>
                </a:solidFill>
                <a:latin typeface="Franklin Gothic Book"/>
              </a:rPr>
              <a:t>я 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безрадостные думы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Облачаю в грустные слов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a5644e"/>
                </a:solidFill>
                <a:latin typeface="Franklin Gothic Book"/>
              </a:rPr>
              <a:t>Может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lang="en-GB" sz="2700" spc="-1" strike="noStrike">
                <a:solidFill>
                  <a:srgbClr val="9966cc"/>
                </a:solidFill>
                <a:latin typeface="Franklin Gothic Book"/>
              </a:rPr>
              <a:t>я 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один такой угрюмый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a5644e"/>
                </a:solidFill>
                <a:latin typeface="Franklin Gothic Book"/>
              </a:rPr>
              <a:t>Может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lang="en-GB" sz="2700" spc="-1" strike="noStrike">
                <a:solidFill>
                  <a:srgbClr val="9966cc"/>
                </a:solidFill>
                <a:latin typeface="Franklin Gothic Book"/>
              </a:rPr>
              <a:t>я 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грущу напрасно, а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a5644e"/>
                </a:solidFill>
                <a:latin typeface="Franklin Gothic Book"/>
              </a:rPr>
              <a:t>Может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lang="en-GB" sz="2700" spc="-1" strike="noStrike">
                <a:solidFill>
                  <a:srgbClr val="9966cc"/>
                </a:solidFill>
                <a:latin typeface="Franklin Gothic Book"/>
              </a:rPr>
              <a:t>я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 в упор не вижу счастья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Тычусь мимо, как слепой щенок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a5644e"/>
                </a:solidFill>
                <a:latin typeface="Franklin Gothic Book"/>
              </a:rPr>
              <a:t>Может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, и о Родине так часто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9966cc"/>
                </a:solidFill>
                <a:latin typeface="Franklin Gothic Book"/>
              </a:rPr>
              <a:t>Я 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грущу напрасно?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Дай – то Бог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304920" y="1554120"/>
            <a:ext cx="86868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lang="en-GB" sz="3200" spc="-1" strike="noStrike">
                <a:solidFill>
                  <a:srgbClr val="a5644e"/>
                </a:solidFill>
                <a:latin typeface="Franklin Gothic Book"/>
              </a:rPr>
              <a:t>Я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не такой, как все», - тверж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a5644e"/>
                </a:solidFill>
                <a:latin typeface="Franklin Gothic Book"/>
              </a:rPr>
              <a:t>Я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то отчетливей, то глу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a5644e"/>
                </a:solidFill>
                <a:latin typeface="Franklin Gothic Book"/>
              </a:rPr>
              <a:t>Я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и перед Господом скаж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lang="en-GB" sz="3200" spc="-1" strike="noStrike">
                <a:solidFill>
                  <a:srgbClr val="a5644e"/>
                </a:solidFill>
                <a:latin typeface="Franklin Gothic Book"/>
              </a:rPr>
              <a:t>Я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не такой, как все. </a:t>
            </a:r>
            <a:r>
              <a:rPr b="0" lang="en-GB" sz="3200" spc="-1" strike="noStrike">
                <a:solidFill>
                  <a:srgbClr val="a5644e"/>
                </a:solidFill>
                <a:latin typeface="Franklin Gothic Book"/>
              </a:rPr>
              <a:t>Я 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– хуж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457200" y="30240"/>
            <a:ext cx="8229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457200" y="500040"/>
            <a:ext cx="82296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4e3b30"/>
                </a:solidFill>
                <a:latin typeface="Franklin Gothic Book"/>
              </a:rPr>
              <a:t>Женщин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То 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нужна, а </a:t>
            </a: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то 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вдруг не нужн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То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гоню. </a:t>
            </a: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То 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зову её робк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То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принцесса, царица. Княжна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То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рабыня, холоп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То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волнует, а нужен покой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То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… а впрочем, скажу по секрету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Очень плохо, когда её нет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Когда нету её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Никако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457200" y="-6480"/>
            <a:ext cx="8229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457200" y="428760"/>
            <a:ext cx="822960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a5644e"/>
                </a:solidFill>
                <a:latin typeface="Franklin Gothic Book"/>
              </a:rPr>
              <a:t>Молюсь 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о раненом солдате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О горце, ранившем его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Прошу у Бога благодат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Живущим, всем до одного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a5644e"/>
                </a:solidFill>
                <a:latin typeface="Franklin Gothic Book"/>
              </a:rPr>
              <a:t>Молюсь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о старой проститутке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a5644e"/>
                </a:solidFill>
                <a:latin typeface="Franklin Gothic Book"/>
              </a:rPr>
              <a:t>Молюсь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о банде из юнцов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a5644e"/>
                </a:solidFill>
                <a:latin typeface="Franklin Gothic Book"/>
              </a:rPr>
              <a:t>Молюсь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четыре раза в сутк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По шесть часов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a5644e"/>
                </a:solidFill>
                <a:latin typeface="Franklin Gothic Book"/>
              </a:rPr>
              <a:t>Молюсь</a:t>
            </a: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 о вышедших в дорогу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Чтоб с глаз их спала пелен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Когда душа взывает к Богу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4e3b30"/>
                </a:solidFill>
                <a:latin typeface="Franklin Gothic Book"/>
              </a:rPr>
              <a:t>Она для зла затворен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4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4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57200" y="66600"/>
            <a:ext cx="8229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500040"/>
            <a:ext cx="8229600" cy="53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4e3b30"/>
                </a:solidFill>
                <a:latin typeface="Franklin Gothic Book"/>
              </a:rPr>
              <a:t>О, Русь моя! Жена моя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А.Блок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Franklin Gothic Book"/>
              </a:rPr>
              <a:t>Я 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не скажу тебе: «Жена»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Franklin Gothic Book"/>
              </a:rPr>
              <a:t>Я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 говорю: «Мне лик твой жуток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Страна Рублёва, Шукшин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И восьмилетних проституток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Стакан прирос к твоей руке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И лучшим чувствам нет работы»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И гаснет с эхом вдалек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Вопрос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«Россия, кто ты?! Кто ты?..»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1"/>
          <p:cNvGrpSpPr/>
          <p:nvPr/>
        </p:nvGrpSpPr>
        <p:grpSpPr>
          <a:xfrm>
            <a:off x="128520" y="73080"/>
            <a:ext cx="8863200" cy="1485720"/>
            <a:chOff x="128520" y="73080"/>
            <a:chExt cx="8863200" cy="1485720"/>
          </a:xfrm>
        </p:grpSpPr>
        <p:pic>
          <p:nvPicPr>
            <p:cNvPr id="404" name="Picture 2" descr=""/>
            <p:cNvPicPr/>
            <p:nvPr/>
          </p:nvPicPr>
          <p:blipFill>
            <a:blip r:embed="rId1"/>
            <a:stretch/>
          </p:blipFill>
          <p:spPr>
            <a:xfrm>
              <a:off x="128520" y="73080"/>
              <a:ext cx="886320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"/>
            <p:cNvSpPr/>
            <p:nvPr/>
          </p:nvSpPr>
          <p:spPr>
            <a:xfrm>
              <a:off x="128520" y="73080"/>
              <a:ext cx="88632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Text Box 4"/>
          <p:cNvSpPr/>
          <p:nvPr/>
        </p:nvSpPr>
        <p:spPr>
          <a:xfrm>
            <a:off x="304920" y="1554120"/>
            <a:ext cx="868680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Изучить современную теоретическую основу данного языкового сред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Познакомиться с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литературой о творчестве Н.Зиновье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Изучить и проанализировать стихотворения поэ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Выявить художественную  функцию повтора в поэзии Н.Зиновье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"/>
          <p:cNvGrpSpPr/>
          <p:nvPr/>
        </p:nvGrpSpPr>
        <p:grpSpPr>
          <a:xfrm>
            <a:off x="195120" y="73080"/>
            <a:ext cx="8496360" cy="1382760"/>
            <a:chOff x="195120" y="73080"/>
            <a:chExt cx="8496360" cy="1382760"/>
          </a:xfrm>
        </p:grpSpPr>
        <p:pic>
          <p:nvPicPr>
            <p:cNvPr id="439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73080"/>
              <a:ext cx="849636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3"/>
            <p:cNvSpPr/>
            <p:nvPr/>
          </p:nvSpPr>
          <p:spPr>
            <a:xfrm>
              <a:off x="195120" y="73080"/>
              <a:ext cx="84963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Text Box 4"/>
          <p:cNvSpPr/>
          <p:nvPr/>
        </p:nvSpPr>
        <p:spPr>
          <a:xfrm>
            <a:off x="457200" y="1214280"/>
            <a:ext cx="822960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Различные виды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повтор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стихотворениях поэта нос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я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т усилительную функцию, служ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т средством концентрации внимания читателей, привлекая упорядоченностью мысли и формы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Повторяющиеся элементы находятся рядом или следуют друг за другом, могут быть разделены другими элементами текста, существенную позицию занимают повторяющиеся элементы в строке, строфе, абзаце и повтор, при котором элементы следуют в обратном порядк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457200" y="30240"/>
            <a:ext cx="8229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457200" y="500040"/>
            <a:ext cx="8229600" cy="63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овтор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ы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в стихотворениях Николая Зиновьева им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ю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т глубоко личностный характер, прид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ю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т им особую значимость, эмоциональность, взволнованность, драматиз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Именно  повтор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ы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 сближ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ю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т творчество поэта с фольклором, в котором повтор имеет особо важное значение, а также с творчеством его великих предшественников, близость к которым постоянно подчеркивают исследователи творчества Николая Зиновье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1"/>
          <p:cNvGrpSpPr/>
          <p:nvPr/>
        </p:nvGrpSpPr>
        <p:grpSpPr>
          <a:xfrm>
            <a:off x="255600" y="208080"/>
            <a:ext cx="8631360" cy="4667040"/>
            <a:chOff x="255600" y="208080"/>
            <a:chExt cx="8631360" cy="4667040"/>
          </a:xfrm>
        </p:grpSpPr>
        <p:pic>
          <p:nvPicPr>
            <p:cNvPr id="408" name="Picture 2" descr=""/>
            <p:cNvPicPr/>
            <p:nvPr/>
          </p:nvPicPr>
          <p:blipFill>
            <a:blip r:embed="rId1"/>
            <a:stretch/>
          </p:blipFill>
          <p:spPr>
            <a:xfrm>
              <a:off x="255600" y="208080"/>
              <a:ext cx="8631360" cy="46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3"/>
            <p:cNvSpPr/>
            <p:nvPr/>
          </p:nvSpPr>
          <p:spPr>
            <a:xfrm>
              <a:off x="255600" y="208080"/>
              <a:ext cx="8631360" cy="46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Text Box 4"/>
          <p:cNvSpPr/>
          <p:nvPr/>
        </p:nvSpPr>
        <p:spPr>
          <a:xfrm>
            <a:off x="457200" y="4929120"/>
            <a:ext cx="82296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Разновидности повтора: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анафора, 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антанакласис,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анадиплозис,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 эпифора,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кольцо,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 параллелизм, хиазм, антитеза и период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нафора (единоначати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) – это «повторение отдельных слов или оборотов в начале отрывков, из которых состоит высказывание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0760" indent="-32076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роме лексической и синтаксической, выделяется также анафора звуковая, то есть повторение в начале каждого параллельного ряда одних и тех же сочетаний звуков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30240"/>
            <a:ext cx="8229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457200" y="500040"/>
            <a:ext cx="8229600" cy="60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4e3b30"/>
                </a:solidFill>
                <a:latin typeface="Franklin Gothic Book"/>
              </a:rPr>
              <a:t>Еще раз о поэзи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Это 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только слов игр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Это 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мыслей перепляск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Это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тонкая игл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Это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чувственная сказ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Это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– тоненький рожок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Петь его не приневолиш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Это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только смерть, дружо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a5644e"/>
                </a:solidFill>
                <a:latin typeface="Franklin Gothic Book"/>
              </a:rPr>
              <a:t>Это</a:t>
            </a: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 смерть, дружок. Всего лиш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856451"/>
                </a:solidFill>
                <a:latin typeface="Franklin Gothic Book"/>
              </a:rPr>
              <a:t>Анадиплозис</a:t>
            </a: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( подхват</a:t>
            </a: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) – это фигура речи,  построенная таким образом, что слово или группа слов, заключающая сегмент текста, повторяется в начале следующего сегмента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560" y="280800"/>
            <a:ext cx="8685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18920" indent="-275400">
              <a:lnSpc>
                <a:spcPct val="105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Что такое </a:t>
            </a:r>
            <a:r>
              <a:rPr b="1" lang="ru-RU" sz="4000" spc="-1" strike="noStrike">
                <a:solidFill>
                  <a:srgbClr val="856451"/>
                </a:solidFill>
                <a:latin typeface="Franklin Gothic Book"/>
              </a:rPr>
              <a:t>гармония? Гармония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есть согласие мировых сил, </a:t>
            </a:r>
            <a:r>
              <a:rPr b="1" lang="ru-RU" sz="4000" spc="-1" strike="noStrike">
                <a:solidFill>
                  <a:srgbClr val="856451"/>
                </a:solidFill>
                <a:latin typeface="Franklin Gothic Book"/>
              </a:rPr>
              <a:t>порядок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мировой жизни. </a:t>
            </a:r>
            <a:r>
              <a:rPr b="1" lang="ru-RU" sz="4000" spc="-1" strike="noStrike">
                <a:solidFill>
                  <a:srgbClr val="856451"/>
                </a:solidFill>
                <a:latin typeface="Franklin Gothic Book"/>
              </a:rPr>
              <a:t>Порядок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– космос, в противоположность беспорядку – </a:t>
            </a:r>
            <a:r>
              <a:rPr b="1" lang="ru-RU" sz="4000" spc="-1" strike="noStrike">
                <a:solidFill>
                  <a:srgbClr val="856451"/>
                </a:solidFill>
                <a:latin typeface="Franklin Gothic Book"/>
              </a:rPr>
              <a:t>хаосу</a:t>
            </a: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 Из </a:t>
            </a:r>
            <a:r>
              <a:rPr b="1" lang="ru-RU" sz="4000" spc="-1" strike="noStrike">
                <a:solidFill>
                  <a:srgbClr val="856451"/>
                </a:solidFill>
                <a:latin typeface="Franklin Gothic Book"/>
              </a:rPr>
              <a:t>хаоса</a:t>
            </a: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рождается космос…»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4400" spc="-1" strike="noStrike">
                <a:solidFill>
                  <a:srgbClr val="856451"/>
                </a:solidFill>
                <a:latin typeface="Franklin Gothic Book"/>
              </a:rPr>
              <a:t>Антанакласис</a:t>
            </a: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 – это повторение слова в различных значениях:  «Что же делает супруга одна, в отсутствии супруга?»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</a:t>
            </a:r>
            <a:r>
              <a:rPr b="1" lang="en-GB" sz="3600" spc="-1" strike="noStrike">
                <a:solidFill>
                  <a:srgbClr val="4e3b30"/>
                </a:solidFill>
                <a:latin typeface="Franklin Gothic Book"/>
              </a:rPr>
              <a:t>Не искал я слов красивых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en-GB" sz="3600" spc="-1" strike="noStrike">
                <a:solidFill>
                  <a:srgbClr val="4e3b30"/>
                </a:solidFill>
                <a:latin typeface="Franklin Gothic Book"/>
              </a:rPr>
              <a:t>Мысль пришла, как пуля в лоб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en-GB" sz="36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1" lang="en-GB" sz="3600" spc="-1" strike="noStrike">
                <a:solidFill>
                  <a:srgbClr val="a5644e"/>
                </a:solidFill>
                <a:latin typeface="Franklin Gothic Book"/>
              </a:rPr>
              <a:t>Положенье</a:t>
            </a:r>
            <a:r>
              <a:rPr b="1" lang="en-GB" sz="3600" spc="-1" strike="noStrike">
                <a:solidFill>
                  <a:srgbClr val="4e3b30"/>
                </a:solidFill>
                <a:latin typeface="Franklin Gothic Book"/>
              </a:rPr>
              <a:t> у России –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105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a5644e"/>
                </a:solidFill>
                <a:latin typeface="Franklin Gothic Book"/>
              </a:rPr>
              <a:t>              </a:t>
            </a:r>
            <a:r>
              <a:rPr b="1" lang="en-GB" sz="3600" spc="-1" strike="noStrike">
                <a:solidFill>
                  <a:srgbClr val="a5644e"/>
                </a:solidFill>
                <a:latin typeface="Franklin Gothic Book"/>
              </a:rPr>
              <a:t>Положение</a:t>
            </a:r>
            <a:r>
              <a:rPr b="1" lang="en-GB" sz="3600" spc="-1" strike="noStrike">
                <a:solidFill>
                  <a:srgbClr val="4e3b30"/>
                </a:solidFill>
                <a:latin typeface="Franklin Gothic Book"/>
              </a:rPr>
              <a:t> во гроб</a:t>
            </a:r>
            <a:r>
              <a:rPr b="1" lang="en-GB" sz="3200" spc="-1" strike="noStrike">
                <a:solidFill>
                  <a:srgbClr val="4e3b30"/>
                </a:solidFill>
                <a:latin typeface="Franklin Gothic Book"/>
              </a:rPr>
              <a:t>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od</cp:lastModifiedBy>
  <dcterms:modified xsi:type="dcterms:W3CDTF">2012-04-19T19:29:28Z</dcterms:modified>
  <cp:revision>10</cp:revision>
  <dc:subject/>
  <dc:title>Слайд 1</dc:title>
</cp:coreProperties>
</file>