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7B3-151C-481E-8856-7353A35E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AEE-4B84-4F22-8DC4-535610FE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9F7C1-2011-4C43-8CE6-981C40AF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8C7AD-A6AE-4AB7-80BF-385327F3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5A23C-2DEF-4585-8FB8-82AB6B79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C3006-1CCE-4423-9363-019D5284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51FD6-F1F9-4D47-A778-E9F0349D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EF560-F06A-461F-A4AD-FFA34490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4570D-7BB8-499A-96BD-B457590D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50338-E918-4F75-BECD-EF4B2F1B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E00C1-334E-423D-AC26-F3AB13F6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B405-7FCF-444F-B6F0-669F50BA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E6FA-71D9-4886-AFC2-5795F730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6000-908C-4FC9-BACB-D5119CFA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076C-5690-4EB2-8E32-5CFA3E35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7531-0395-4E40-9DBD-5535E296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421A-1DAE-47C9-907B-08F90883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2C24-0856-45EE-9BC3-00E3607A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4FE3-F86B-4596-8B9A-320D3682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FF29-7A33-491A-9B21-338C3729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E66-D5EB-47AC-99B7-1B23132C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A46A-9302-49BC-B983-F9DFF4FC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F45D-41EA-4587-B47E-D027125C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8552-85F7-48C5-9EA9-02185520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32EC-CA9B-4F12-9E17-B41EA8DE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3B67-7A49-40EA-9766-D40C91B0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BEBF0-C45D-4D36-BA2F-1FB44BE5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879AB-6999-419F-8134-87FCA54D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93093-C783-4444-815F-ED472B6C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3F360-21A1-43BE-8E0A-4B8E3D8C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ED5F6-F73F-4DF1-A6E2-F97A3AE7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05BD-E8B6-43CB-BA22-EC3B4B01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E574F-2A87-4864-B3AD-A952961B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A0B40-42C7-4CC9-8EED-D0E4059B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03197-4497-4025-A236-92D201FE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3C284-CA17-481E-B2C7-A8C01DFC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18B69-29C9-4561-A378-384BD372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AFF15-32A3-43C0-A981-79162BE5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2A489-F014-42DC-8BBD-7F5992AA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53277-EE5B-4DCC-85A0-7E881336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C323C-CA09-4BCE-B1E4-7087BBBF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28524-2708-43F9-9EF7-C9B918C2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06B6-3BB8-4744-BDDE-89F2EB04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E9208-9A93-43FE-9B39-E4F0F983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551B2-6F1C-4D29-8697-0A3A0666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3AF39-CFB3-4610-AB42-0598CAD8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6C169-54C1-455A-8DE1-B075763F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66D4E-A9E9-464F-9827-6374366B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AF4AC-FC39-4E38-9AC1-D8D968B8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7FD72-1E59-48EC-9890-5E27D45E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22DA5-333D-402B-9FBC-E3B8AD4F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07D22-637A-4D1F-B29A-FEB73F98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A47B3-AF17-4BA4-9A57-0235CDC0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02BC-FB9F-4242-B10E-5BB7A9A5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406C6-6BA0-4194-9EE5-9119169C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41262-749A-4CEF-9A4D-55A92041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5D066-3726-450C-8CBA-C70225AD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08C6F-5584-4A26-BE48-948345CC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88A93-62BE-4DB4-90FB-8DCA1227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4EB32-076F-4BEF-9840-9008EC97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3E8D6-5447-47E6-8AEB-7BBC2F93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1D163-8D9C-49AA-B701-9EC77EE6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66FDE-1147-4849-A8A9-76B8B205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77916-4E56-454B-BE88-3112B0B2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014-394E-4485-B436-98C6E47A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278DE-E301-409C-9342-E67E0535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A97F2-B01F-433B-A2DA-A96C8BF1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A902E-BB25-4A74-AB55-62FD9A9A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415CF-A997-45E7-A619-63290D64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54EAA-962B-497D-8E5D-3F8AD4A4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89910-A473-43F6-8E5A-85E25085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01079-9ED5-463F-9D6D-28557765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27095-3698-4355-9DCC-FA8DC7CC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9DBB7-0299-4F19-A1C1-45C7C4EC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32EF3-9647-4C5D-99C9-237FF144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5C4-5E7D-4EA1-919C-2A6A80C4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66E27-F0B3-4899-9F30-786AA3DE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379B2-9C30-4A8D-AFAB-EAB3CFB4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90BC6-E842-45A8-AA87-A6F6DB7D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73A5D-D053-45B2-8A4A-1A89F4C0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7AD2F-A1D7-47B0-AC9D-ECBD8D3E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3A2C9-19A5-46DE-B2F3-405387BD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F151F-0380-4E2E-8395-4EA9BA30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37EEC-4739-4D64-8874-E3005BFF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5BB45-3947-4D8C-8704-EA55FBBC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B137A-F131-4152-84AE-03690E52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207B-73B4-49CC-A1FE-3C8B9776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4FA2F-E840-4331-9640-DAB1BDEF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54999-345A-4BD2-8B39-2786317E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1E8F1-4550-4FCD-BD57-4F5F939D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99CC5-A9FB-48EE-AA47-E940ED56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1391C-69F7-4A86-A2BF-4307BA62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6D6F9-4C38-48E0-997C-09152252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63B95-39F1-4659-BB8E-DB2B0C42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51AE6-7A7D-4526-93A0-FF515C6F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F56A4-0967-4B08-A262-CE7A8944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FFC39-DC87-43F0-A162-208F5F4C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111A-5E47-42BC-9EE3-F93AD9B4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DC280-EFB6-4D44-9FA0-BD55634F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7CF80-C67E-4B5D-B19F-84EAE62F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7C96A-3881-4FED-9755-2B5DD9C4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8BA59-6586-4439-B2A2-EB9279A5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95590-1EA4-41D8-BD67-129B0063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BF424-C253-42F3-941F-CE1A1C6E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61EFD-8EBB-45FD-A3BC-5BCFBD60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C1227-340C-4A63-8566-641210C2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13957-7AED-427A-AAF9-62E3966D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853FC-B9A8-4214-BCC0-D11D1380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B4FB-9BEE-47D6-92C3-C33D18634BE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7E13-E3DF-4F1D-B3F0-A057581C5A9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2B02-EFC6-4EF3-BD2D-561A190C8FB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DAD7-15CD-440B-8F7B-306E0CBE675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9F96-08C5-44CE-8550-49487207153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B56F-89F7-4A2F-8EA4-BBD5E14A0E4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C0BA-CA35-499A-8390-164D2ABBD73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D29C-8029-4F52-BBBC-A891378C173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76EE-E0F6-4AFA-9002-B7679ED77C6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-7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332000" y="620640"/>
            <a:ext cx="64008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43329"/>
                </a:solidFill>
                <a:latin typeface="Franklin Gothic Book"/>
              </a:rPr>
              <a:t>Замените словосочетание </a:t>
            </a:r>
            <a:r>
              <a:rPr b="0" i="1" lang="ru-RU" sz="4800" spc="-1" strike="noStrike" u="sng">
                <a:solidFill>
                  <a:srgbClr val="443329"/>
                </a:solidFill>
                <a:uFillTx/>
                <a:latin typeface="Franklin Gothic Book"/>
              </a:rPr>
              <a:t>береговой откос</a:t>
            </a:r>
            <a:r>
              <a:rPr b="0" lang="ru-RU" sz="4800" spc="-1" strike="noStrike">
                <a:solidFill>
                  <a:srgbClr val="443329"/>
                </a:solidFill>
                <a:latin typeface="Franklin Gothic Book"/>
              </a:rPr>
              <a:t>, построенное на основе связи согласование, синонимичным словосочетанием со связью управление</a:t>
            </a:r>
            <a:r>
              <a:rPr b="0" lang="ru-RU" sz="800" spc="-1" strike="noStrike">
                <a:solidFill>
                  <a:srgbClr val="443329"/>
                </a:solidFill>
                <a:latin typeface="Franklin Gothic Book"/>
              </a:rPr>
              <a:t>.</a:t>
            </a: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Замените      словосочетание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4800" spc="-1" strike="noStrike" u="sng">
                <a:solidFill>
                  <a:srgbClr val="4e3b30"/>
                </a:solidFill>
                <a:uFillTx/>
                <a:latin typeface="Franklin Gothic Book"/>
              </a:rPr>
              <a:t>в доме родителей</a:t>
            </a: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, построенное на основе связи </a:t>
            </a: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управление</a:t>
            </a: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, синонимичным словосочетанием со связью </a:t>
            </a: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согласование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Замените             словосочетание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4800" spc="-1" strike="noStrike" u="sng">
                <a:solidFill>
                  <a:srgbClr val="4e3b30"/>
                </a:solidFill>
                <a:uFillTx/>
                <a:latin typeface="Franklin Gothic Book"/>
              </a:rPr>
              <a:t>с восторгом поставил</a:t>
            </a: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, построенное на основе связи       </a:t>
            </a: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управление</a:t>
            </a: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, синонимичным словосочетанием со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связью </a:t>
            </a: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 примыкание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Выпишите из предложения 15 словосочетание со связью      </a:t>
            </a:r>
            <a:r>
              <a:rPr b="1" lang="ru-RU" sz="3600" spc="-1" strike="noStrike" u="sng">
                <a:solidFill>
                  <a:srgbClr val="4e3b30"/>
                </a:solidFill>
                <a:uFillTx/>
                <a:latin typeface="Franklin Gothic Book"/>
              </a:rPr>
              <a:t>примыкание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e3b30"/>
                </a:solidFill>
                <a:latin typeface="Franklin Gothic Book"/>
              </a:rPr>
              <a:t>Именно такая интеллигентность очень необходима для жизни самого человека и для окружающей среды.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128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Franklin Gothic Book"/>
              </a:rPr>
              <a:t>правда о случившемся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Franklin Gothic Book"/>
              </a:rPr>
              <a:t>только однажды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Franklin Gothic Book"/>
              </a:rPr>
              <a:t>яркой внешности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Franklin Gothic Book"/>
              </a:rPr>
              <a:t>быстро бежать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Franklin Gothic Book"/>
              </a:rPr>
              <a:t>купаться в море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Franklin Gothic Book"/>
              </a:rPr>
              <a:t>я не уверен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Franklin Gothic Book"/>
              </a:rPr>
              <a:t>несмотря ни на что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3:15:23Z</dcterms:created>
  <dc:creator>кабинет 8</dc:creator>
  <dc:description/>
  <dc:language>en-US</dc:language>
  <cp:lastModifiedBy>Vod</cp:lastModifiedBy>
  <dcterms:modified xsi:type="dcterms:W3CDTF">2012-04-19T19:58:26Z</dcterms:modified>
  <cp:revision>3</cp:revision>
  <dc:subject/>
  <dc:title>Слайд 1</dc:title>
</cp:coreProperties>
</file>