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EA3-8C6A-4355-8EAE-8AD537BE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823-C612-407C-9029-6C131007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A2B-B497-45E8-856E-A0F45F6F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856-340E-4411-BA0F-C6C1B056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3A9-B863-4BFB-ACF5-495F3BA1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E09-5968-4578-B8ED-E2618FC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77D-3763-4B3B-A10B-FD9D806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5D6-C9B3-421A-B102-E2D84ABF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C14-1F9E-4788-8253-7C134FC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7EC-DEE0-41E5-826B-DF09510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70E-B98A-4879-BC6C-F38A1C0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F02-D903-4302-BD3C-D2956C9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6284-9403-4199-9EDE-F69F88D359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АМОАНАЛИЗ УРОКА – ИМПРОВ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РОК – ИМПРОВИЗАЦИЯ «БЫТЬ ИЛИ НЕ БЫТЬ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«Чудеса цвет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Учитель ИЗО высшей категории МОУ СОШ№5 Левченко Ольга Константин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8864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цветовых ассоциаций через цветоощущение, цветовосприят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положительной мотивации в изучении изобразительного искусства, развитие образного мышления (психически познавательные процессы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 нравственно-эстетической отзывчивости на прекрасное и безобразное в жизни и в искусств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у детей смекалки, логического мышления, фантазии, эруди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умение выслушивать мнение одноклассников, излагать логически свою точку зр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ить знания, полученные учащимися на уроках изобразительного искусства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ить образному языку и умению работать цветом и линией на бумаг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Тип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- творческая лаборатор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Методы: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глядный, словесны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блемны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исковы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 самостоя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язь с жизнью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межпредметная связь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язь теории с практикой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Из словар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990000"/>
                </a:solidFill>
                <a:uFillTx/>
                <a:latin typeface="Times New Roman"/>
              </a:rPr>
              <a:t>Рефлексия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–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1)отражение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2)анализ собственного психологического состояния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Мои пожел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Times New Roman"/>
              </a:rPr>
              <a:t>Пусть</a:t>
            </a:r>
            <a:r>
              <a:rPr b="0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9933"/>
                </a:solidFill>
                <a:latin typeface="Times New Roman"/>
              </a:rPr>
              <a:t>в вашей</a:t>
            </a:r>
            <a:r>
              <a:rPr b="0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жизни</a:t>
            </a:r>
            <a:r>
              <a:rPr b="0" lang="ru-RU" sz="5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будет</a:t>
            </a:r>
            <a:r>
              <a:rPr b="0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3399ff"/>
                </a:solidFill>
                <a:latin typeface="Times New Roman"/>
              </a:rPr>
              <a:t>как можно</a:t>
            </a:r>
            <a:r>
              <a:rPr b="0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3399ff"/>
                </a:solidFill>
                <a:latin typeface="Times New Roman"/>
              </a:rPr>
              <a:t>больше</a:t>
            </a:r>
            <a:r>
              <a:rPr b="0" lang="ru-RU" sz="5400" spc="-1" strike="noStrike">
                <a:solidFill>
                  <a:srgbClr val="0033cc"/>
                </a:solidFill>
                <a:latin typeface="Times New Roman"/>
              </a:rPr>
              <a:t> цветов </a:t>
            </a:r>
            <a:r>
              <a:rPr b="0" lang="ru-RU" sz="5400" spc="-1" strike="noStrike">
                <a:solidFill>
                  <a:srgbClr val="9900cc"/>
                </a:solidFill>
                <a:latin typeface="Times New Roman"/>
              </a:rPr>
              <a:t>радуги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</cp:lastModifiedBy>
  <dcterms:modified xsi:type="dcterms:W3CDTF">2008-04-03T21:41:28Z</dcterms:modified>
  <cp:revision>1</cp:revision>
  <dc:subject/>
  <dc:title>PowerPoint Presentation</dc:title>
</cp:coreProperties>
</file>