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CF9-6D3D-4ADB-96BA-044205A1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2F5-34B0-4A16-BC03-4570D604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298D-49C2-4CAF-B619-BE2C0A98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935-1846-4CFA-A5A7-533B6B6E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806-A692-4357-AE9A-A2478FE5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CCF-255D-4824-9757-3ACFF13A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CB7-A218-44E2-8004-3C5B153B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474-6FB7-4659-9F2D-F3C72970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F4D-F5C2-4CCD-9B49-7604EC40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0B0-1F68-4AC5-A354-164D5635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1162-4355-45E2-8B91-D75E916A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FDB-1935-4DA6-87C9-C1E7B66D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5F67-E68C-46DA-9DC5-0DD2E9857D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4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«Чудеса цвета»</a:t>
            </a:r>
            <a:br>
              <a:rPr sz="6600"/>
            </a:br>
            <a:br>
              <a:rPr sz="6600"/>
            </a:b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Урок в 6 кл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855600" y="4506480"/>
            <a:ext cx="449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ИЗО высшей категор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У СОШ№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вченко Ольга Константин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C:\Documents and Settings\сош№5\Мои документы\Мои рисунки\009998.JPG"/>
          <p:cNvPicPr/>
          <p:nvPr/>
        </p:nvPicPr>
        <p:blipFill>
          <a:blip r:embed="rId1"/>
          <a:stretch/>
        </p:blipFill>
        <p:spPr>
          <a:xfrm>
            <a:off x="0" y="0"/>
            <a:ext cx="92124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C:\Documents and Settings\сош№5\Мои документы\Мои рисунки\00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C:\Documents and Settings\сош№5\Мои документы\Мои рисунки\00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:\Documents and Settings\сош№5\Мои документы\Мои рисунки\0099989.JPG"/>
          <p:cNvPicPr/>
          <p:nvPr/>
        </p:nvPicPr>
        <p:blipFill>
          <a:blip r:embed="rId1"/>
          <a:stretch/>
        </p:blipFill>
        <p:spPr>
          <a:xfrm>
            <a:off x="-9360" y="33480"/>
            <a:ext cx="9162720" cy="67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C:\Documents and Settings\сош№5\Мои документы\Мои рисунки\009998989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4" descr="C:\Documents and Settings\сош№5\Мои документы\Мои рисунки\00999898.JPG"/>
          <p:cNvPicPr/>
          <p:nvPr/>
        </p:nvPicPr>
        <p:blipFill>
          <a:blip r:embed="rId2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990033"/>
                </a:solidFill>
                <a:uFillTx/>
                <a:latin typeface="Times New Roman"/>
              </a:rPr>
              <a:t>Хромас</a:t>
            </a:r>
            <a:r>
              <a:rPr b="0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(от лат.) – </a:t>
            </a:r>
            <a:r>
              <a:rPr b="0" lang="ru-RU" sz="5400" spc="-1" strike="noStrike">
                <a:solidFill>
                  <a:srgbClr val="3333cc"/>
                </a:solidFill>
                <a:latin typeface="Times New Roman"/>
              </a:rPr>
              <a:t>цвет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ахроматически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хроматически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хроматический ряд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332000" y="3429000"/>
            <a:ext cx="1028520" cy="102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3780000" y="3429000"/>
            <a:ext cx="1028520" cy="102888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6227640" y="3429000"/>
            <a:ext cx="1028880" cy="10288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C:\Documents and Settings\сош№5\Мои документы\Мои рисунки\Безымянныйдл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Спектральный кру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C:\Documents and Settings\сош№5\Мои документы\Мои рисунки\7.JPG"/>
          <p:cNvPicPr/>
          <p:nvPr/>
        </p:nvPicPr>
        <p:blipFill>
          <a:blip r:embed="rId1"/>
          <a:stretch/>
        </p:blipFill>
        <p:spPr>
          <a:xfrm>
            <a:off x="2000160" y="1571760"/>
            <a:ext cx="480060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</a:rPr>
              <a:t>3 основных цвет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C:\Documents and Settings\сош№5\Мои документы\Мои рисунки\8.JPG"/>
          <p:cNvPicPr/>
          <p:nvPr/>
        </p:nvPicPr>
        <p:blipFill>
          <a:blip r:embed="rId1"/>
          <a:stretch/>
        </p:blipFill>
        <p:spPr>
          <a:xfrm>
            <a:off x="2214720" y="1500120"/>
            <a:ext cx="4562280" cy="482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5-01T22:00:47Z</dcterms:modified>
  <cp:revision>11</cp:revision>
  <dc:subject/>
  <dc:title>PowerPoint Presentation</dc:title>
</cp:coreProperties>
</file>