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6BC6-243A-430F-B8CD-741B812C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4CF-6B8D-4D0F-8E33-3CE6D854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2B9-699C-48EB-9342-42E0B7BA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B49-C99B-42CF-8581-DCB21C47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6ACC-9BCD-4AF0-A59F-B20D59E7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010-C672-4A2F-AFB5-FC3F0286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D6C3-CFCB-416B-AC72-3F61B364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AA3-CE7F-4836-982F-545FE3E7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ADB-AA49-4DDD-8617-C6F3EA8F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834D-ADCB-4A99-A4DD-FFC04452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D80-A509-4974-81AA-5803251B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7B6-ADE9-4AE3-90D6-00375F5E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476D-5E64-4C53-A301-5A03DB6B52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55;&#1086;&#1089;&#1090;&#1086;&#1103;&#1085;&#1085;&#1099;&#1081; &#1090;&#1086;&#1082;\10. &#1047;&#1072;&#1074;&#1080;&#1089;&#1080;&#1084;&#1086;&#1089;&#1090;&#1100; I &#1086;&#1090; U.avi" TargetMode="External"/><Relationship Id="rId3" Type="http://schemas.openxmlformats.org/officeDocument/2006/relationships/hyperlink" Target="Video\&#1055;&#1086;&#1089;&#1090;&#1086;&#1103;&#1085;&#1085;&#1099;&#1081; &#1090;&#1086;&#1082;\11. &#1047;&#1072;&#1074;&#1080;&#1089;&#1080;&#1084;&#1086;&#1089;&#1090;&#1100; I &#1086;&#1090; R.avi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55;&#1086;&#1089;&#1090;&#1086;&#1103;&#1085;&#1085;&#1099;&#1081; &#1090;&#1086;&#1082;\7. I &#1087;&#1088;&#1080; &#1087;&#1086;&#1089;&#1083;&#1077;&#1076;&#1086;&#1074;&#1072;&#1090;&#1077;&#1083;&#1100;&#1085;&#1086;&#1084; &#1089;&#1086;&#1077;&#1076;&#1080;&#1085;&#1077;&#1085;&#1080;&#1080;.avi" TargetMode="External"/><Relationship Id="rId3" Type="http://schemas.openxmlformats.org/officeDocument/2006/relationships/hyperlink" Target="Video\&#1055;&#1086;&#1089;&#1090;&#1086;&#1103;&#1085;&#1085;&#1099;&#1081; &#1090;&#1086;&#1082;\6. U &#1087;&#1088;&#1080; &#1087;&#1086;&#1089;&#1083;&#1077;&#1076;&#1086;&#1074;&#1072;&#1090;&#1077;&#1083;&#1100;&#1085;&#1086;&#1084; &#1089;&#1086;&#1077;&#1076;&#1080;&#1085;&#1077;&#1085;&#1080;&#1080;.avi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Video\&#1055;&#1086;&#1089;&#1090;&#1086;&#1103;&#1085;&#1085;&#1099;&#1081; &#1090;&#1086;&#1082;\9. I &#1087;&#1088;&#1080; &#1087;&#1072;&#1088;&#1072;&#1083;&#1083;&#1077;&#1083;&#1100;&#1085;&#1086;&#1084; &#1089;&#1086;&#1077;&#1076;&#1080;&#1085;&#1077;&#1085;&#1080;&#1080;.avi" TargetMode="External"/><Relationship Id="rId3" Type="http://schemas.openxmlformats.org/officeDocument/2006/relationships/hyperlink" Target="Video\&#1055;&#1086;&#1089;&#1090;&#1086;&#1103;&#1085;&#1085;&#1099;&#1081; &#1090;&#1086;&#1082;\8. U &#1087;&#1088;&#1080; &#1087;&#1072;&#1088;&#1072;&#1083;&#1083;&#1077;&#1083;&#1100;&#1085;&#1086;&#1084; &#1089;&#1086;&#1077;&#1076;&#1080;&#1085;&#1077;&#1085;&#1080;&#1080;.avi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1628640"/>
            <a:ext cx="777744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остоянный 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ток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48360" y="4508640"/>
            <a:ext cx="863640" cy="1800000"/>
          </a:xfrm>
          <a:prstGeom prst="ellipse">
            <a:avLst/>
          </a:prstGeom>
          <a:solidFill>
            <a:srgbClr val="ffffff">
              <a:alpha val="45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56360" y="5013360"/>
            <a:ext cx="360360" cy="144360"/>
            <a:chOff x="6156360" y="5013360"/>
            <a:chExt cx="360360" cy="144360"/>
          </a:xfrm>
        </p:grpSpPr>
        <p:sp>
          <p:nvSpPr>
            <p:cNvPr id="44" name=""/>
            <p:cNvSpPr/>
            <p:nvPr/>
          </p:nvSpPr>
          <p:spPr>
            <a:xfrm>
              <a:off x="6156360" y="501336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300720" y="5084640"/>
              <a:ext cx="2160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580000" y="5661000"/>
            <a:ext cx="360360" cy="144360"/>
            <a:chOff x="5580000" y="5661000"/>
            <a:chExt cx="360360" cy="144360"/>
          </a:xfrm>
        </p:grpSpPr>
        <p:sp>
          <p:nvSpPr>
            <p:cNvPr id="47" name=""/>
            <p:cNvSpPr/>
            <p:nvPr/>
          </p:nvSpPr>
          <p:spPr>
            <a:xfrm>
              <a:off x="5580000" y="56610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24360" y="5732280"/>
              <a:ext cx="2160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4067280" y="5373720"/>
            <a:ext cx="360360" cy="144360"/>
            <a:chOff x="4067280" y="5373720"/>
            <a:chExt cx="360360" cy="144360"/>
          </a:xfrm>
        </p:grpSpPr>
        <p:sp>
          <p:nvSpPr>
            <p:cNvPr id="50" name=""/>
            <p:cNvSpPr/>
            <p:nvPr/>
          </p:nvSpPr>
          <p:spPr>
            <a:xfrm>
              <a:off x="4067280" y="53737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211640" y="5445000"/>
              <a:ext cx="2160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132000" y="5157720"/>
            <a:ext cx="360360" cy="144360"/>
            <a:chOff x="3132000" y="5157720"/>
            <a:chExt cx="360360" cy="144360"/>
          </a:xfrm>
        </p:grpSpPr>
        <p:sp>
          <p:nvSpPr>
            <p:cNvPr id="53" name=""/>
            <p:cNvSpPr/>
            <p:nvPr/>
          </p:nvSpPr>
          <p:spPr>
            <a:xfrm>
              <a:off x="3132000" y="51577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76360" y="5229000"/>
              <a:ext cx="2160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3203640" y="18900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ила то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765000"/>
            <a:ext cx="896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остоянным электрическим током называют направленное движение заряженных части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илой тока называют величину равную отношению заряда перенесенного через поперечное сечение проводника ко врем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492360" y="2637000"/>
            <a:ext cx="2089080" cy="1294920"/>
            <a:chOff x="3492360" y="2637000"/>
            <a:chExt cx="2089080" cy="1294920"/>
          </a:xfrm>
        </p:grpSpPr>
        <p:sp>
          <p:nvSpPr>
            <p:cNvPr id="58" name=""/>
            <p:cNvSpPr/>
            <p:nvPr/>
          </p:nvSpPr>
          <p:spPr>
            <a:xfrm>
              <a:off x="3565080" y="2925720"/>
              <a:ext cx="107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I =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44720" y="3213000"/>
              <a:ext cx="72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∆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00360" y="263700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∆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q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28720" y="3357360"/>
              <a:ext cx="9367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92360" y="2708280"/>
              <a:ext cx="2089080" cy="1223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908000" y="4508280"/>
            <a:ext cx="5900400" cy="1799640"/>
            <a:chOff x="1908000" y="4508280"/>
            <a:chExt cx="5900400" cy="1799640"/>
          </a:xfrm>
        </p:grpSpPr>
        <p:sp>
          <p:nvSpPr>
            <p:cNvPr id="64" name=""/>
            <p:cNvSpPr/>
            <p:nvPr/>
          </p:nvSpPr>
          <p:spPr>
            <a:xfrm rot="16200000">
              <a:off x="5222880" y="3722400"/>
              <a:ext cx="1799640" cy="337140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3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6200000">
              <a:off x="2693880" y="3722400"/>
              <a:ext cx="1799640" cy="3371400"/>
            </a:xfrm>
            <a:prstGeom prst="can">
              <a:avLst>
                <a:gd name="adj" fmla="val 25000"/>
              </a:avLst>
            </a:prstGeom>
            <a:solidFill>
              <a:srgbClr val="ffffff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96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763640" y="189000"/>
            <a:ext cx="504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лектродвижущая сил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765000"/>
            <a:ext cx="896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олная электрическая цепь состоит из источника тока и потребителей соединенных провод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Направление тока в цепи выбирают от «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» к «-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24000" y="2276640"/>
            <a:ext cx="4032000" cy="3240000"/>
            <a:chOff x="324000" y="2276640"/>
            <a:chExt cx="4032000" cy="3240000"/>
          </a:xfrm>
        </p:grpSpPr>
        <p:sp>
          <p:nvSpPr>
            <p:cNvPr id="69" name=""/>
            <p:cNvSpPr/>
            <p:nvPr/>
          </p:nvSpPr>
          <p:spPr>
            <a:xfrm>
              <a:off x="324000" y="2276640"/>
              <a:ext cx="4032000" cy="324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18880" y="3429000"/>
              <a:ext cx="6472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18880" y="3716280"/>
              <a:ext cx="6472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18880" y="4005360"/>
              <a:ext cx="6472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61800" y="4148280"/>
              <a:ext cx="360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61800" y="3861000"/>
              <a:ext cx="360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1800" y="3571920"/>
              <a:ext cx="360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77800" y="4148280"/>
              <a:ext cx="0" cy="936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477800" y="2563560"/>
              <a:ext cx="0" cy="8650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77800" y="2563920"/>
              <a:ext cx="21585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77800" y="5085000"/>
              <a:ext cx="9345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412720" y="4940280"/>
              <a:ext cx="360000" cy="144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73080" y="5085000"/>
              <a:ext cx="8632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36720" y="2563920"/>
              <a:ext cx="0" cy="7920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636720" y="4148280"/>
              <a:ext cx="0" cy="936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93800" y="3355920"/>
              <a:ext cx="288720" cy="865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50160" y="2997360"/>
              <a:ext cx="1582560" cy="144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550160" y="2998440"/>
              <a:ext cx="1582560" cy="143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350064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81080" y="3500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77800" y="2997360"/>
              <a:ext cx="4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49080" y="4005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6720" y="3429000"/>
              <a:ext cx="86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ε</a:t>
              </a: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580000" y="2852640"/>
            <a:ext cx="2089080" cy="1295280"/>
            <a:chOff x="5580000" y="2852640"/>
            <a:chExt cx="2089080" cy="1295280"/>
          </a:xfrm>
        </p:grpSpPr>
        <p:sp>
          <p:nvSpPr>
            <p:cNvPr id="93" name=""/>
            <p:cNvSpPr/>
            <p:nvPr/>
          </p:nvSpPr>
          <p:spPr>
            <a:xfrm>
              <a:off x="5580000" y="2995200"/>
              <a:ext cx="1079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0" spc="-1" strike="noStrike">
                  <a:solidFill>
                    <a:srgbClr val="000099"/>
                  </a:solidFill>
                  <a:latin typeface="Times New Roman"/>
                </a:rPr>
                <a:t>ε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 =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59640" y="2852640"/>
              <a:ext cx="1008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A</a:t>
              </a:r>
              <a:r>
                <a:rPr b="0" lang="ru-RU" sz="4000" spc="-1" strike="noStrike" baseline="-25000">
                  <a:solidFill>
                    <a:srgbClr val="000099"/>
                  </a:solidFill>
                  <a:latin typeface="Times New Roman"/>
                  <a:ea typeface="Times New Roman"/>
                </a:rPr>
                <a:t>с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04000" y="3428640"/>
              <a:ext cx="57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q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516720" y="3573360"/>
              <a:ext cx="9367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80000" y="2923920"/>
              <a:ext cx="2089080" cy="12240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79280" y="57340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Источник тока характеризуется ЭДС и внутренним сопротивлен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8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42920" y="189000"/>
            <a:ext cx="6337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он Ома для полной  цепи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508720" y="2205000"/>
            <a:ext cx="2089080" cy="1512720"/>
            <a:chOff x="5508720" y="2205000"/>
            <a:chExt cx="2089080" cy="1512720"/>
          </a:xfrm>
        </p:grpSpPr>
        <p:sp>
          <p:nvSpPr>
            <p:cNvPr id="101" name=""/>
            <p:cNvSpPr/>
            <p:nvPr/>
          </p:nvSpPr>
          <p:spPr>
            <a:xfrm>
              <a:off x="5581800" y="2709720"/>
              <a:ext cx="79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I =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61440" y="2205000"/>
              <a:ext cx="576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6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ε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73800" y="299700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R+ r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45440" y="3070080"/>
              <a:ext cx="9367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720" y="2493720"/>
              <a:ext cx="2089080" cy="12240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68360" y="5300640"/>
            <a:ext cx="8064360" cy="825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ила тока в замкнутой цепи прямо пропорциональна ЭДС и обратно пропорциональна её полному сопротивл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90792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сновные законы постоянного тока были установлены немецким ученым Георгом Омом в 1826 - 1827 г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042920" y="1916280"/>
            <a:ext cx="2468520" cy="31683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p:transition spd="med">
    <p:newsflash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640"/>
                            </p:stCondLst>
                            <p:childTnLst>
                              <p:par>
                                <p:cTn id="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42920" y="189000"/>
            <a:ext cx="6337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кон Ома для участка цепи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>
            <a:hlinkClick r:id="rId2"/>
          </p:cNvPr>
          <p:cNvSpPr/>
          <p:nvPr/>
        </p:nvSpPr>
        <p:spPr>
          <a:xfrm>
            <a:off x="8172360" y="479736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7301"/>
                </a:moveTo>
                <a:lnTo>
                  <a:pt x="9040" y="7301"/>
                </a:lnTo>
                <a:lnTo>
                  <a:pt x="9423" y="7667"/>
                </a:lnTo>
                <a:lnTo>
                  <a:pt x="18632" y="7667"/>
                </a:lnTo>
                <a:lnTo>
                  <a:pt x="19189" y="8224"/>
                </a:lnTo>
                <a:lnTo>
                  <a:pt x="19189" y="8772"/>
                </a:lnTo>
                <a:lnTo>
                  <a:pt x="21034" y="8772"/>
                </a:lnTo>
                <a:lnTo>
                  <a:pt x="21400" y="8224"/>
                </a:lnTo>
                <a:lnTo>
                  <a:pt x="22139" y="8224"/>
                </a:lnTo>
                <a:lnTo>
                  <a:pt x="22139" y="13376"/>
                </a:lnTo>
                <a:lnTo>
                  <a:pt x="21400" y="13376"/>
                </a:lnTo>
                <a:lnTo>
                  <a:pt x="21034" y="12828"/>
                </a:lnTo>
                <a:lnTo>
                  <a:pt x="19189" y="12828"/>
                </a:lnTo>
                <a:lnTo>
                  <a:pt x="19189" y="14107"/>
                </a:lnTo>
                <a:lnTo>
                  <a:pt x="9606" y="14107"/>
                </a:lnTo>
                <a:lnTo>
                  <a:pt x="9606" y="9877"/>
                </a:lnTo>
                <a:lnTo>
                  <a:pt x="9423" y="9877"/>
                </a:lnTo>
                <a:lnTo>
                  <a:pt x="9040" y="10243"/>
                </a:lnTo>
                <a:lnTo>
                  <a:pt x="812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867280" y="2349360"/>
            <a:ext cx="1655640" cy="1295280"/>
            <a:chOff x="5867280" y="2349360"/>
            <a:chExt cx="1655640" cy="1295280"/>
          </a:xfrm>
        </p:grpSpPr>
        <p:sp>
          <p:nvSpPr>
            <p:cNvPr id="112" name=""/>
            <p:cNvSpPr/>
            <p:nvPr/>
          </p:nvSpPr>
          <p:spPr>
            <a:xfrm>
              <a:off x="5940360" y="2636640"/>
              <a:ext cx="79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I =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30920" y="234936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U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04000" y="292572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R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04000" y="2997000"/>
              <a:ext cx="4316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67280" y="2420640"/>
              <a:ext cx="1655640" cy="12240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>
            <a:hlinkClick r:id="rId3"/>
          </p:cNvPr>
          <p:cNvSpPr/>
          <p:nvPr/>
        </p:nvSpPr>
        <p:spPr>
          <a:xfrm>
            <a:off x="8244000" y="587700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4797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Зависимость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т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5805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Зависимость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т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2421000"/>
            <a:ext cx="4680000" cy="38289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179280" y="981000"/>
            <a:ext cx="8785440" cy="8254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Сила тока на участке цепи прямо пропорциональна напряжению на его концах  и обратно пропорциональна его сопротивл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4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8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11280" y="189000"/>
            <a:ext cx="7705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едовательное содинение проводников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42920" y="1052640"/>
            <a:ext cx="6694560" cy="792000"/>
            <a:chOff x="1042920" y="1052640"/>
            <a:chExt cx="6694560" cy="792000"/>
          </a:xfrm>
        </p:grpSpPr>
        <p:sp>
          <p:nvSpPr>
            <p:cNvPr id="124" name=""/>
            <p:cNvSpPr/>
            <p:nvPr/>
          </p:nvSpPr>
          <p:spPr>
            <a:xfrm>
              <a:off x="1187280" y="170028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79640" y="1555920"/>
              <a:ext cx="7192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98920" y="17002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90920" y="1555920"/>
              <a:ext cx="7192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11640" y="170028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4560" y="1628640"/>
              <a:ext cx="14292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42920" y="1628640"/>
              <a:ext cx="142920" cy="14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57840" y="170028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38920" y="1555920"/>
              <a:ext cx="71892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03640" y="170028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50920" y="1052640"/>
              <a:ext cx="50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64000" y="1052640"/>
              <a:ext cx="50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12000" y="1052640"/>
              <a:ext cx="64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763640" y="2349360"/>
            <a:ext cx="5329080" cy="2587680"/>
            <a:chOff x="1763640" y="2349360"/>
            <a:chExt cx="5329080" cy="2587680"/>
          </a:xfrm>
        </p:grpSpPr>
        <p:sp>
          <p:nvSpPr>
            <p:cNvPr id="138" name=""/>
            <p:cNvSpPr/>
            <p:nvPr/>
          </p:nvSpPr>
          <p:spPr>
            <a:xfrm>
              <a:off x="1763640" y="2349360"/>
              <a:ext cx="41767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I = I</a:t>
              </a:r>
              <a:r>
                <a:rPr b="0" lang="en-US" sz="40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 = I</a:t>
              </a:r>
              <a:r>
                <a:rPr b="0" lang="en-US" sz="40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 = 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∙∙∙ = I</a:t>
              </a:r>
              <a:r>
                <a:rPr b="0" lang="en-US" sz="4000" spc="-1" strike="noStrike" baseline="-25000">
                  <a:solidFill>
                    <a:srgbClr val="000099"/>
                  </a:solidFill>
                  <a:latin typeface="Times New Roman"/>
                  <a:ea typeface="Times New Roman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63640" y="3213000"/>
              <a:ext cx="5327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U = U</a:t>
              </a:r>
              <a:r>
                <a:rPr b="0" lang="en-US" sz="40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 + U</a:t>
              </a:r>
              <a:r>
                <a:rPr b="0" lang="en-US" sz="40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 + 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∙∙∙ + U</a:t>
              </a:r>
              <a:r>
                <a:rPr b="0" lang="en-US" sz="4000" spc="-1" strike="noStrike" baseline="-25000">
                  <a:solidFill>
                    <a:srgbClr val="000099"/>
                  </a:solidFill>
                  <a:latin typeface="Times New Roman"/>
                  <a:ea typeface="Times New Roman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5080" y="4149720"/>
              <a:ext cx="5327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R = R</a:t>
              </a:r>
              <a:r>
                <a:rPr b="0" lang="en-US" sz="40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 + R</a:t>
              </a:r>
              <a:r>
                <a:rPr b="0" lang="en-US" sz="40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 + </a:t>
              </a: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∙∙∙ + R</a:t>
              </a:r>
              <a:r>
                <a:rPr b="0" lang="en-US" sz="4000" spc="-1" strike="noStrike" baseline="-25000">
                  <a:solidFill>
                    <a:srgbClr val="000099"/>
                  </a:solidFill>
                  <a:latin typeface="Times New Roman"/>
                  <a:ea typeface="Times New Roman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>
            <a:hlinkClick r:id="rId2"/>
          </p:cNvPr>
          <p:cNvSpPr/>
          <p:nvPr/>
        </p:nvSpPr>
        <p:spPr>
          <a:xfrm>
            <a:off x="8101080" y="537372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530064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и последовательном соедин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3"/>
          </p:cNvPr>
          <p:cNvSpPr/>
          <p:nvPr/>
        </p:nvSpPr>
        <p:spPr>
          <a:xfrm>
            <a:off x="8101080" y="6021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7301"/>
                </a:moveTo>
                <a:lnTo>
                  <a:pt x="9030" y="7301"/>
                </a:lnTo>
                <a:lnTo>
                  <a:pt x="9413" y="7667"/>
                </a:lnTo>
                <a:lnTo>
                  <a:pt x="18621" y="7667"/>
                </a:lnTo>
                <a:lnTo>
                  <a:pt x="19178" y="8224"/>
                </a:lnTo>
                <a:lnTo>
                  <a:pt x="19178" y="8772"/>
                </a:lnTo>
                <a:lnTo>
                  <a:pt x="21023" y="8772"/>
                </a:lnTo>
                <a:lnTo>
                  <a:pt x="21389" y="8224"/>
                </a:lnTo>
                <a:lnTo>
                  <a:pt x="22129" y="8224"/>
                </a:lnTo>
                <a:lnTo>
                  <a:pt x="22129" y="13376"/>
                </a:lnTo>
                <a:lnTo>
                  <a:pt x="21389" y="13376"/>
                </a:lnTo>
                <a:lnTo>
                  <a:pt x="21023" y="12828"/>
                </a:lnTo>
                <a:lnTo>
                  <a:pt x="19178" y="12828"/>
                </a:lnTo>
                <a:lnTo>
                  <a:pt x="19178" y="14107"/>
                </a:lnTo>
                <a:lnTo>
                  <a:pt x="9595" y="14107"/>
                </a:lnTo>
                <a:lnTo>
                  <a:pt x="9595" y="9877"/>
                </a:lnTo>
                <a:lnTo>
                  <a:pt x="9413" y="9877"/>
                </a:lnTo>
                <a:lnTo>
                  <a:pt x="9030" y="10243"/>
                </a:lnTo>
                <a:lnTo>
                  <a:pt x="811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16360" y="59500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U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и последовательном соедин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24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11280" y="189000"/>
            <a:ext cx="7705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араллельное содинение проводников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1080" y="1052640"/>
            <a:ext cx="4176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I = I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I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∙∙∙ 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+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I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1080" y="1916280"/>
            <a:ext cx="5327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U = U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U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∙∙∙ 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U</a:t>
            </a:r>
            <a:r>
              <a:rPr b="0" lang="en-US" sz="40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24360" y="3068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2"/>
          </p:cNvPr>
          <p:cNvSpPr/>
          <p:nvPr/>
        </p:nvSpPr>
        <p:spPr>
          <a:xfrm>
            <a:off x="8099280" y="537228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7301"/>
                </a:moveTo>
                <a:lnTo>
                  <a:pt x="9040" y="7301"/>
                </a:lnTo>
                <a:lnTo>
                  <a:pt x="9423" y="7667"/>
                </a:lnTo>
                <a:lnTo>
                  <a:pt x="18632" y="7667"/>
                </a:lnTo>
                <a:lnTo>
                  <a:pt x="19189" y="8224"/>
                </a:lnTo>
                <a:lnTo>
                  <a:pt x="19189" y="8772"/>
                </a:lnTo>
                <a:lnTo>
                  <a:pt x="21034" y="8772"/>
                </a:lnTo>
                <a:lnTo>
                  <a:pt x="21400" y="8224"/>
                </a:lnTo>
                <a:lnTo>
                  <a:pt x="22139" y="8224"/>
                </a:lnTo>
                <a:lnTo>
                  <a:pt x="22139" y="13376"/>
                </a:lnTo>
                <a:lnTo>
                  <a:pt x="21400" y="13376"/>
                </a:lnTo>
                <a:lnTo>
                  <a:pt x="21034" y="12828"/>
                </a:lnTo>
                <a:lnTo>
                  <a:pt x="19189" y="12828"/>
                </a:lnTo>
                <a:lnTo>
                  <a:pt x="19189" y="14107"/>
                </a:lnTo>
                <a:lnTo>
                  <a:pt x="9606" y="14107"/>
                </a:lnTo>
                <a:lnTo>
                  <a:pt x="9606" y="9877"/>
                </a:lnTo>
                <a:lnTo>
                  <a:pt x="9423" y="9877"/>
                </a:lnTo>
                <a:lnTo>
                  <a:pt x="9040" y="10243"/>
                </a:lnTo>
                <a:lnTo>
                  <a:pt x="812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90920" y="530064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и параллельном соедин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3"/>
          </p:cNvPr>
          <p:cNvSpPr/>
          <p:nvPr/>
        </p:nvSpPr>
        <p:spPr>
          <a:xfrm>
            <a:off x="8099280" y="587700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7301"/>
                </a:moveTo>
                <a:lnTo>
                  <a:pt x="9040" y="7301"/>
                </a:lnTo>
                <a:lnTo>
                  <a:pt x="9423" y="7667"/>
                </a:lnTo>
                <a:lnTo>
                  <a:pt x="18632" y="7667"/>
                </a:lnTo>
                <a:lnTo>
                  <a:pt x="19189" y="8224"/>
                </a:lnTo>
                <a:lnTo>
                  <a:pt x="19189" y="8772"/>
                </a:lnTo>
                <a:lnTo>
                  <a:pt x="21034" y="8772"/>
                </a:lnTo>
                <a:lnTo>
                  <a:pt x="21400" y="8224"/>
                </a:lnTo>
                <a:lnTo>
                  <a:pt x="22139" y="8224"/>
                </a:lnTo>
                <a:lnTo>
                  <a:pt x="22139" y="13376"/>
                </a:lnTo>
                <a:lnTo>
                  <a:pt x="21400" y="13376"/>
                </a:lnTo>
                <a:lnTo>
                  <a:pt x="21034" y="12828"/>
                </a:lnTo>
                <a:lnTo>
                  <a:pt x="19189" y="12828"/>
                </a:lnTo>
                <a:lnTo>
                  <a:pt x="19189" y="14107"/>
                </a:lnTo>
                <a:lnTo>
                  <a:pt x="9606" y="14107"/>
                </a:lnTo>
                <a:lnTo>
                  <a:pt x="9606" y="9877"/>
                </a:lnTo>
                <a:lnTo>
                  <a:pt x="9423" y="9877"/>
                </a:lnTo>
                <a:lnTo>
                  <a:pt x="9040" y="10243"/>
                </a:lnTo>
                <a:lnTo>
                  <a:pt x="8126" y="10243"/>
                </a:lnTo>
                <a:close/>
              </a:path>
            </a:pathLst>
          </a:cu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19640" y="580536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U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при параллельном соедин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50920" y="836640"/>
            <a:ext cx="2733480" cy="2378160"/>
            <a:chOff x="250920" y="836640"/>
            <a:chExt cx="2733480" cy="2378160"/>
          </a:xfrm>
        </p:grpSpPr>
        <p:sp>
          <p:nvSpPr>
            <p:cNvPr id="154" name=""/>
            <p:cNvSpPr/>
            <p:nvPr/>
          </p:nvSpPr>
          <p:spPr>
            <a:xfrm flipV="1">
              <a:off x="754200" y="1484640"/>
              <a:ext cx="576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0200" y="1341720"/>
              <a:ext cx="7192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49480" y="1484640"/>
              <a:ext cx="504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30200" y="2133720"/>
              <a:ext cx="719280" cy="28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41840" y="2205360"/>
              <a:ext cx="14256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0920" y="2205360"/>
              <a:ext cx="142920" cy="142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4200" y="307044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30200" y="2926080"/>
              <a:ext cx="719280" cy="28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50920" y="30704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01840" y="836640"/>
              <a:ext cx="50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01840" y="1629000"/>
              <a:ext cx="50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01840" y="2421000"/>
              <a:ext cx="647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50920" y="227808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3840" y="227808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4200" y="148608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54200" y="148608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54200" y="227808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4200" y="227808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421080" y="2779560"/>
            <a:ext cx="574560" cy="1279800"/>
            <a:chOff x="3421080" y="2779560"/>
            <a:chExt cx="574560" cy="1279800"/>
          </a:xfrm>
        </p:grpSpPr>
        <p:sp>
          <p:nvSpPr>
            <p:cNvPr id="173" name=""/>
            <p:cNvSpPr/>
            <p:nvPr/>
          </p:nvSpPr>
          <p:spPr>
            <a:xfrm>
              <a:off x="3421080" y="3355920"/>
              <a:ext cx="57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21080" y="2779560"/>
              <a:ext cx="57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94160" y="3427200"/>
              <a:ext cx="4316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357800" y="2779560"/>
            <a:ext cx="792000" cy="1363320"/>
            <a:chOff x="4357800" y="2779560"/>
            <a:chExt cx="792000" cy="1363320"/>
          </a:xfrm>
        </p:grpSpPr>
        <p:sp>
          <p:nvSpPr>
            <p:cNvPr id="177" name=""/>
            <p:cNvSpPr/>
            <p:nvPr/>
          </p:nvSpPr>
          <p:spPr>
            <a:xfrm>
              <a:off x="4357800" y="3355560"/>
              <a:ext cx="792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R</a:t>
              </a:r>
              <a:r>
                <a:rPr b="0" lang="ru-RU" sz="4000" spc="-1" strike="noStrike" baseline="-25000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57800" y="2779560"/>
              <a:ext cx="57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30880" y="3427200"/>
              <a:ext cx="501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437080" y="2779560"/>
            <a:ext cx="792000" cy="1363320"/>
            <a:chOff x="5437080" y="2779560"/>
            <a:chExt cx="792000" cy="1363320"/>
          </a:xfrm>
        </p:grpSpPr>
        <p:sp>
          <p:nvSpPr>
            <p:cNvPr id="181" name=""/>
            <p:cNvSpPr/>
            <p:nvPr/>
          </p:nvSpPr>
          <p:spPr>
            <a:xfrm>
              <a:off x="5437080" y="3355560"/>
              <a:ext cx="792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R</a:t>
              </a:r>
              <a:r>
                <a:rPr b="0" lang="ru-RU" sz="4000" spc="-1" strike="noStrike" baseline="-25000">
                  <a:solidFill>
                    <a:srgbClr val="000099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37080" y="2779560"/>
              <a:ext cx="57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10160" y="3427200"/>
              <a:ext cx="501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005440" y="3068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84720" y="306864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9240" y="306864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∙∙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93080" y="3068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597800" y="2779560"/>
            <a:ext cx="792000" cy="1363320"/>
            <a:chOff x="7597800" y="2779560"/>
            <a:chExt cx="792000" cy="1363320"/>
          </a:xfrm>
        </p:grpSpPr>
        <p:sp>
          <p:nvSpPr>
            <p:cNvPr id="189" name=""/>
            <p:cNvSpPr/>
            <p:nvPr/>
          </p:nvSpPr>
          <p:spPr>
            <a:xfrm>
              <a:off x="7597800" y="3355560"/>
              <a:ext cx="792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99"/>
                  </a:solidFill>
                  <a:latin typeface="Times New Roman"/>
                </a:rPr>
                <a:t>R</a:t>
              </a:r>
              <a:r>
                <a:rPr b="0" lang="en-US" sz="4000" spc="-1" strike="noStrike" baseline="-25000">
                  <a:solidFill>
                    <a:srgbClr val="000099"/>
                  </a:solidFill>
                  <a:latin typeface="Times New Roman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97800" y="2779560"/>
              <a:ext cx="574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99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70880" y="3427200"/>
              <a:ext cx="501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newsflash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8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4-17T04:37:40Z</dcterms:modified>
  <cp:revision>97</cp:revision>
  <dc:subject/>
  <dc:title>PowerPoint Presentation</dc:title>
</cp:coreProperties>
</file>