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294-3A64-41FB-AB7F-957C19CE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DEC-9F2F-4D89-87EB-835354E2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472-A2B7-4F95-839A-C9B7A849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F38-1604-4B33-BDEE-2FA07F28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9FE-951F-4986-8017-1E27633F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D93-6FEB-4476-A2B8-A305A702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A37-B297-48BF-8FFF-39D10A6B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681-0B3C-4E2B-918E-CDE9CCB8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0C6A-D847-4C99-9800-A142AA03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FF8-1833-4EB2-8B5F-2F97DD4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9B28-2CC1-4E25-818F-938F99E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EEE8-C38E-44D1-8B00-225615A9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9B34-17F6-424A-B91B-CACA4BC00A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101;&#1083;&#1077;&#1082;&#1090;&#1088;&#1086;&#1089;&#1090;&#1072;&#1090;&#1080;&#1082;&#1072;\1. &#1044;&#1074;&#1072; &#1101;&#1083;&#1077;&#1082;&#1090;&#1088; &#1079;&#1072;&#1088;&#1103;&#1076;&#1072;.avi" TargetMode="External"/><Relationship Id="rId3" Type="http://schemas.openxmlformats.org/officeDocument/2006/relationships/hyperlink" Target="Video\&#1101;&#1083;&#1077;&#1082;&#1090;&#1088;&#1086;&#1089;&#1090;&#1072;&#1090;&#1080;&#1082;&#1072;\4. &#1076;&#1077;&#1083;&#1080;&#1084;&#1086;&#1089;&#1090;&#1100; &#1079;&#1072;&#1088;&#1103;&#1076;&#1072;.avi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101;&#1083;&#1077;&#1082;&#1090;&#1088;&#1086;&#1089;&#1090;&#1072;&#1090;&#1080;&#1082;&#1072;\8. &#1057;&#1074;&#1086;&#1081;&#1089;&#1090;&#1074;&#1072; &#1089;&#1080;&#1083;&#1086;&#1074;&#1099;&#1093; &#1083;&#1080;&#1085;&#1080;&#1081;.avi" TargetMode="External"/><Relationship Id="rId3" Type="http://schemas.openxmlformats.org/officeDocument/2006/relationships/hyperlink" Target="Video\&#1101;&#1083;&#1077;&#1082;&#1090;&#1088;&#1086;&#1089;&#1090;&#1072;&#1090;&#1080;&#1082;&#1072;\5. &#1042;&#1079;&#1072;&#1080;&#1084;&#1086;&#1076;&#1077;&#1081;&#1089;&#1090;&#1074;&#1080;&#1077; &#1079;&#1072;&#1088;&#1103;&#1078;&#1077;&#1085;&#1085;&#1099;&#1093; &#1090;&#1077;&#1083;.avi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101;&#1083;&#1077;&#1082;&#1090;&#1088;&#1086;&#1089;&#1090;&#1072;&#1090;&#1080;&#1082;&#1072;\7. &#1044;&#1077;&#1084;&#1086;&#1085;&#1089;&#1090;&#1088;&#1072;&#1094;&#1080;&#1103; &#1086;&#1076;&#1085;&#1086;&#1088;&#1086;&#1076;&#1085;&#1086;&#1075;&#1086; &#1101;&#1083; &#1087;&#1086;&#1083;&#1103;.avi" TargetMode="External"/><Relationship Id="rId3" Type="http://schemas.openxmlformats.org/officeDocument/2006/relationships/hyperlink" Target="Video\&#1101;&#1083;&#1077;&#1082;&#1090;&#1088;&#1086;&#1089;&#1090;&#1072;&#1090;&#1080;&#1082;&#1072;\9. &#1054;&#1088;&#1080;&#1077;&#1085;&#1090;&#1072;&#1094;&#1080;&#1103; &#1089;&#1080;&#1083;&#1086;&#1074; &#1083;&#1080;&#1085;&#1080;&#1081;.avi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2060640"/>
            <a:ext cx="813600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Электростатика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8920" y="692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Электрический заряд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– это скалярная физическая величина, которая определяет интенсивность электромагнитного взаимодейств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189000"/>
            <a:ext cx="44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ический заряд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>
            <a:hlinkClick r:id="rId2"/>
          </p:cNvPr>
          <p:cNvSpPr/>
          <p:nvPr/>
        </p:nvSpPr>
        <p:spPr>
          <a:xfrm>
            <a:off x="7956720" y="2421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3640" y="1628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[q] =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К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2421000"/>
            <a:ext cx="66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природе существует два рода зарядов: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и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–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3068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лектрический заряд дискретен, т. е. существует минимальный (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элементарный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) электрический заря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3"/>
          </p:cNvPr>
          <p:cNvSpPr/>
          <p:nvPr/>
        </p:nvSpPr>
        <p:spPr>
          <a:xfrm>
            <a:off x="7956720" y="3357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414972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е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=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1,6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0" lang="ru-RU" sz="4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-19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К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48000" y="5013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q = n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·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2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8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32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9800"/>
                            </p:stCondLst>
                            <p:childTnLst>
                              <p:par>
                                <p:cTn id="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36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19280" y="189000"/>
            <a:ext cx="583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сохранения заряд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907920"/>
            <a:ext cx="777708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любых процессах в замкнутой системе её полный электрический заряд остаётся неизмен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060640"/>
            <a:ext cx="3960720" cy="7873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+ q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= q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+ q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07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93080" y="407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0640" y="3357720"/>
            <a:ext cx="14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5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35560" y="3284640"/>
            <a:ext cx="167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- 3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01720" y="5445000"/>
            <a:ext cx="146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1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1720" y="5300640"/>
            <a:ext cx="154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’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= 1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2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7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2.59259E-006 L -5.55556E-007 2.59259E-006 E">
                                      <p:cBhvr>
                                        <p:cTn id="8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2.59259E-006 L -3.33333E-006 2.59259E-006 E">
                                      <p:cBhvr>
                                        <p:cTn id="84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411280" y="189000"/>
            <a:ext cx="43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оение атом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765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том состоит из положительно заряженного ядра и электронной оболо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68360" y="1700280"/>
            <a:ext cx="3382560" cy="3312720"/>
            <a:chOff x="468360" y="1700280"/>
            <a:chExt cx="3382560" cy="3312720"/>
          </a:xfrm>
        </p:grpSpPr>
        <p:sp>
          <p:nvSpPr>
            <p:cNvPr id="63" name=""/>
            <p:cNvSpPr/>
            <p:nvPr/>
          </p:nvSpPr>
          <p:spPr>
            <a:xfrm>
              <a:off x="468360" y="1700280"/>
              <a:ext cx="3382560" cy="3312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1793160" y="2924280"/>
              <a:ext cx="808560" cy="792360"/>
              <a:chOff x="1793160" y="2924280"/>
              <a:chExt cx="808560" cy="792360"/>
            </a:xfrm>
          </p:grpSpPr>
          <p:sp>
            <p:nvSpPr>
              <p:cNvPr id="65" name=""/>
              <p:cNvSpPr/>
              <p:nvPr/>
            </p:nvSpPr>
            <p:spPr>
              <a:xfrm>
                <a:off x="1793160" y="3140280"/>
                <a:ext cx="3675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234160" y="3140280"/>
                <a:ext cx="3675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013480" y="3356280"/>
                <a:ext cx="3675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13480" y="2924280"/>
                <a:ext cx="367560" cy="36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575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3263760" y="2131920"/>
              <a:ext cx="147600" cy="144360"/>
            </a:xfrm>
            <a:prstGeom prst="ellipse">
              <a:avLst/>
            </a:prstGeom>
            <a:gradFill rotWithShape="0">
              <a:gsLst>
                <a:gs pos="0">
                  <a:srgbClr val="e7e7ff"/>
                </a:gs>
                <a:gs pos="100000">
                  <a:srgbClr val="6a6a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09000" y="4436640"/>
              <a:ext cx="147600" cy="144720"/>
            </a:xfrm>
            <a:prstGeom prst="ellipse">
              <a:avLst/>
            </a:prstGeom>
            <a:gradFill rotWithShape="0">
              <a:gsLst>
                <a:gs pos="0">
                  <a:srgbClr val="e7e7ff"/>
                </a:gs>
                <a:gs pos="100000">
                  <a:srgbClr val="6a6a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572000" y="2708280"/>
            <a:ext cx="2521080" cy="1441440"/>
            <a:chOff x="4572000" y="2708280"/>
            <a:chExt cx="2521080" cy="1441440"/>
          </a:xfrm>
        </p:grpSpPr>
        <p:sp>
          <p:nvSpPr>
            <p:cNvPr id="72" name=""/>
            <p:cNvSpPr/>
            <p:nvPr/>
          </p:nvSpPr>
          <p:spPr>
            <a:xfrm>
              <a:off x="4572000" y="2708280"/>
              <a:ext cx="2376720" cy="14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278136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H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788000" y="2852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88000" y="3645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00260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96000" y="3284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гел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80360" y="2924280"/>
            <a:ext cx="100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5229360"/>
            <a:ext cx="8785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том потерявший электрон становится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положительным ионом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Атом захвативший электрон становится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трицательным ионом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48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66920" y="83664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 1785 г. французский ученый Ш. Кулон определил силу взаимодействия между двумя заряд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340000" y="189000"/>
            <a:ext cx="39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Кулон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68360" y="3284640"/>
            <a:ext cx="2952720" cy="1584360"/>
            <a:chOff x="468360" y="3284640"/>
            <a:chExt cx="2952720" cy="1584360"/>
          </a:xfrm>
        </p:grpSpPr>
        <p:sp>
          <p:nvSpPr>
            <p:cNvPr id="82" name=""/>
            <p:cNvSpPr/>
            <p:nvPr/>
          </p:nvSpPr>
          <p:spPr>
            <a:xfrm>
              <a:off x="468360" y="3789360"/>
              <a:ext cx="14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F = k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36720" y="3284640"/>
              <a:ext cx="144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q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· q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41440" y="407664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0" lang="en-US" sz="4000" spc="-1" strike="noStrike" baseline="30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08000" y="4076640"/>
              <a:ext cx="1297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8360" y="3284640"/>
              <a:ext cx="2952720" cy="15843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95280" y="5084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k = 9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0</a:t>
            </a:r>
            <a:r>
              <a:rPr b="0" lang="ru-RU" sz="40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9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·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</a:t>
            </a:r>
            <a:r>
              <a:rPr b="0" lang="ru-RU" sz="3200" spc="-1" strike="noStrike" baseline="30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/</a:t>
            </a: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л</a:t>
            </a:r>
            <a:r>
              <a:rPr b="0" lang="ru-RU" sz="32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rcRect l="0" t="0" r="0" b="2913"/>
          <a:stretch/>
        </p:blipFill>
        <p:spPr>
          <a:xfrm>
            <a:off x="468360" y="692280"/>
            <a:ext cx="2019240" cy="24494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633840" cy="460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split dir="out" orient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2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76720" y="2421000"/>
            <a:ext cx="13669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84360" y="242100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11280" y="189000"/>
            <a:ext cx="43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пряженность поля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765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Вокруг зарядов создаётся электрическое поле, которое действует на другие заря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357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Напряженность</a:t>
            </a:r>
            <a:r>
              <a:rPr b="0" i="1" lang="ru-RU" sz="2400" spc="-1" strike="noStrike">
                <a:solidFill>
                  <a:srgbClr val="000099"/>
                </a:solidFill>
                <a:latin typeface="Times New Roman"/>
              </a:rPr>
              <a:t>  -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 сила действующая на единичный положительный заряд (пробны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989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1200" y="231624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370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1916280"/>
            <a:ext cx="360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16360" y="2421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68360" y="2781360"/>
            <a:ext cx="10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08000" y="4653000"/>
            <a:ext cx="1656000" cy="1224000"/>
            <a:chOff x="1908000" y="4653000"/>
            <a:chExt cx="1656000" cy="1224000"/>
          </a:xfrm>
        </p:grpSpPr>
        <p:sp>
          <p:nvSpPr>
            <p:cNvPr id="102" name=""/>
            <p:cNvSpPr/>
            <p:nvPr/>
          </p:nvSpPr>
          <p:spPr>
            <a:xfrm>
              <a:off x="1908000" y="4653000"/>
              <a:ext cx="1656000" cy="12240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1981080" y="4653000"/>
              <a:ext cx="1511280" cy="1135080"/>
              <a:chOff x="1981080" y="4653000"/>
              <a:chExt cx="1511280" cy="11350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981080" y="4653000"/>
                <a:ext cx="1511280" cy="1135080"/>
                <a:chOff x="1981080" y="4653000"/>
                <a:chExt cx="1511280" cy="11350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981080" y="4941720"/>
                  <a:ext cx="1008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99"/>
                      </a:solidFill>
                      <a:latin typeface="Times New Roman"/>
                    </a:rPr>
                    <a:t>E =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916360" y="4653000"/>
                  <a:ext cx="57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99"/>
                      </a:solidFill>
                      <a:latin typeface="Times New Roman"/>
                    </a:rPr>
                    <a:t>F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916360" y="5084640"/>
                  <a:ext cx="576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99"/>
                      </a:solidFill>
                      <a:latin typeface="Times New Roman"/>
                    </a:rPr>
                    <a:t>q</a:t>
                  </a: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916360" y="5300640"/>
                  <a:ext cx="431640" cy="0"/>
                </a:xfrm>
                <a:prstGeom prst="line">
                  <a:avLst/>
                </a:prstGeom>
                <a:ln w="1908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2989080" y="4724280"/>
                <a:ext cx="3603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52720" y="5013360"/>
                <a:ext cx="360360" cy="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211640" y="4941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[ E ] =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В/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88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8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411280" y="189000"/>
            <a:ext cx="43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нии напряженност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692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ля наглядности электрическое поле изображают в виде линий напряже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4500720" y="59500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3"/>
          </p:cNvPr>
          <p:cNvSpPr/>
          <p:nvPr/>
        </p:nvSpPr>
        <p:spPr>
          <a:xfrm>
            <a:off x="4500720" y="4221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50920" y="1700280"/>
            <a:ext cx="3816360" cy="290808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79280" y="472428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ловые линии электрического поля начинаются на положительных  и заканчиваются на отрицательных заряд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587700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войства силовых ли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1700280"/>
            <a:ext cx="4537080" cy="2087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640"/>
                            </p:stCondLst>
                            <p:childTnLst>
                              <p:par>
                                <p:cTn id="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36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87280" y="189000"/>
            <a:ext cx="6553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нцип суперпозиции полей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692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ля наглядности электрическое поле изображают в виде линий напряженности. Результирующую напряженность находят как векторную сум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403280" y="1916280"/>
            <a:ext cx="5111640" cy="934920"/>
            <a:chOff x="1403280" y="1916280"/>
            <a:chExt cx="5111640" cy="934920"/>
          </a:xfrm>
        </p:grpSpPr>
        <p:sp>
          <p:nvSpPr>
            <p:cNvPr id="123" name=""/>
            <p:cNvSpPr/>
            <p:nvPr/>
          </p:nvSpPr>
          <p:spPr>
            <a:xfrm>
              <a:off x="1690560" y="2059200"/>
              <a:ext cx="4680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E = E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E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∙∙∙ + E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1840" y="2132280"/>
              <a:ext cx="36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27280" y="2132280"/>
              <a:ext cx="36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35280" y="2132280"/>
              <a:ext cx="36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78200" y="2132280"/>
              <a:ext cx="36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03280" y="1916280"/>
              <a:ext cx="5111640" cy="93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9280" y="508464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е напряженность которого в каждой точке пространства одинакова называется </a:t>
            </a:r>
            <a:r>
              <a:rPr b="1" i="1" lang="ru-RU" sz="2400" spc="-1" strike="noStrike">
                <a:solidFill>
                  <a:srgbClr val="000099"/>
                </a:solidFill>
                <a:latin typeface="Times New Roman"/>
              </a:rPr>
              <a:t>однородным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/>
          </p:cNvPr>
          <p:cNvSpPr/>
          <p:nvPr/>
        </p:nvSpPr>
        <p:spPr>
          <a:xfrm>
            <a:off x="5724360" y="5661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3"/>
          </p:cNvPr>
          <p:cNvSpPr/>
          <p:nvPr/>
        </p:nvSpPr>
        <p:spPr>
          <a:xfrm>
            <a:off x="5724360" y="616572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6093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риентация силовых ли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6360" y="3284640"/>
            <a:ext cx="3342960" cy="1368360"/>
            <a:chOff x="1476360" y="3284640"/>
            <a:chExt cx="3342960" cy="1368360"/>
          </a:xfrm>
        </p:grpSpPr>
        <p:sp>
          <p:nvSpPr>
            <p:cNvPr id="134" name=""/>
            <p:cNvSpPr/>
            <p:nvPr/>
          </p:nvSpPr>
          <p:spPr>
            <a:xfrm flipV="1">
              <a:off x="1549440" y="3284640"/>
              <a:ext cx="2448000" cy="12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7440" y="3284640"/>
              <a:ext cx="576000" cy="1366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360" y="4508640"/>
              <a:ext cx="309708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2640" y="34290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4280" y="37162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E</a:t>
              </a:r>
              <a:r>
                <a:rPr b="0" lang="ru-RU" sz="2400" spc="-1" strike="noStrike" baseline="-25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60720" y="4149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56000" y="3500280"/>
              <a:ext cx="215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27640" y="3789360"/>
              <a:ext cx="215640" cy="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32000" y="42210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867280" y="2997360"/>
            <a:ext cx="2303640" cy="1726920"/>
            <a:chOff x="5867280" y="2997360"/>
            <a:chExt cx="2303640" cy="1726920"/>
          </a:xfrm>
        </p:grpSpPr>
        <p:grpSp>
          <p:nvGrpSpPr>
            <p:cNvPr id="144" name=""/>
            <p:cNvGrpSpPr/>
            <p:nvPr/>
          </p:nvGrpSpPr>
          <p:grpSpPr>
            <a:xfrm>
              <a:off x="5867280" y="3429000"/>
              <a:ext cx="2303640" cy="1295280"/>
              <a:chOff x="5867280" y="3429000"/>
              <a:chExt cx="2303640" cy="1295280"/>
            </a:xfrm>
          </p:grpSpPr>
          <p:sp>
            <p:nvSpPr>
              <p:cNvPr id="145" name=""/>
              <p:cNvSpPr/>
              <p:nvPr/>
            </p:nvSpPr>
            <p:spPr>
              <a:xfrm>
                <a:off x="5867280" y="3429000"/>
                <a:ext cx="23036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7280" y="3860640"/>
                <a:ext cx="23036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7280" y="4292640"/>
                <a:ext cx="23036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7280" y="4724280"/>
                <a:ext cx="230364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804000" y="29973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7080" y="3070080"/>
              <a:ext cx="216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72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72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16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6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2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476360" y="189000"/>
            <a:ext cx="64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тенциал. Разность потенциало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0" r="0" b="3160"/>
          <a:stretch/>
        </p:blipFill>
        <p:spPr>
          <a:xfrm>
            <a:off x="468360" y="981000"/>
            <a:ext cx="5184720" cy="1971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68360" y="3068640"/>
            <a:ext cx="5184720" cy="34243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17T04:25:15Z</dcterms:modified>
  <cp:revision>68</cp:revision>
  <dc:subject/>
  <dc:title>PowerPoint Presentation</dc:title>
</cp:coreProperties>
</file>