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3.wmf" ContentType="image/x-wmf"/>
  <Override PartName="/ppt/media/image57.jpeg" ContentType="image/jpeg"/>
  <Override PartName="/ppt/media/image56.png" ContentType="image/png"/>
  <Override PartName="/ppt/media/image40.jpeg" ContentType="image/jpeg"/>
  <Override PartName="/ppt/media/image53.jpeg" ContentType="image/jpeg"/>
  <Override PartName="/ppt/media/image23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3.jpeg" ContentType="image/jpeg"/>
  <Override PartName="/ppt/media/image41.jpeg" ContentType="image/jpeg"/>
  <Override PartName="/ppt/media/image16.jpeg" ContentType="image/jpeg"/>
  <Override PartName="/ppt/media/image42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24.jpeg" ContentType="image/jpeg"/>
  <Override PartName="/ppt/media/image4.wmf" ContentType="image/x-wmf"/>
  <Override PartName="/ppt/media/image66.jpeg" ContentType="image/jpeg"/>
  <Override PartName="/ppt/media/image59.png" ContentType="image/png"/>
  <Override PartName="/ppt/media/image60.png" ContentType="image/png"/>
  <Override PartName="/ppt/media/image63.jpeg" ContentType="image/jpeg"/>
  <Override PartName="/ppt/media/image6.jpeg" ContentType="image/jpeg"/>
  <Override PartName="/ppt/media/image75.jpeg" ContentType="image/jpeg"/>
  <Override PartName="/ppt/media/image74.jpeg" ContentType="image/jpeg"/>
  <Override PartName="/ppt/media/image69.jpeg" ContentType="image/jpeg"/>
  <Override PartName="/ppt/media/image35.jpeg" ContentType="image/jpeg"/>
  <Override PartName="/ppt/media/image1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2.jpeg" ContentType="image/jpeg"/>
  <Override PartName="/ppt/media/image67.png" ContentType="image/png"/>
  <Override PartName="/ppt/media/image64.jpeg" ContentType="image/jpeg"/>
  <Override PartName="/ppt/media/image7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55.jpeg" ContentType="image/jpeg"/>
  <Override PartName="/ppt/media/image61.jpeg" ContentType="image/jpeg"/>
  <Override PartName="/ppt/media/image14.png" ContentType="image/png"/>
  <Override PartName="/ppt/media/image2.png" ContentType="image/png"/>
  <Override PartName="/ppt/media/image15.jpeg" ContentType="image/jpeg"/>
  <Override PartName="/ppt/media/image72.wmf" ContentType="image/x-wmf"/>
  <Override PartName="/ppt/media/image26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52.jpeg" ContentType="image/jpeg"/>
  <Override PartName="/ppt/media/image13.png" ContentType="image/png"/>
  <Override PartName="/ppt/media/image54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9.jpeg" ContentType="image/jpeg"/>
  <Override PartName="/ppt/media/image36.png" ContentType="image/png"/>
  <Override PartName="/ppt/media/image37.jpeg" ContentType="image/jpe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BC06-1583-47C9-9CE7-B7330D80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052E-6C2E-47BD-A404-B88BCBF5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5B78-A959-4D63-955C-52D6A27C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CCC-9A8C-4A94-B988-A4A35B95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3231-813B-4083-99AF-209B4162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B0A0-EA85-486E-A342-02B27EFA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4C7A-3B06-4DD7-8442-BFDDC936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9284-DCA1-40B5-B944-69FF5D76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DF67-BB84-4F87-99D9-5537A4A8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BE48-1FDC-4572-9480-D66351D4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9E66-C24B-4C40-9CC3-905492FA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316-0971-4AC0-A774-9BAFB2E6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4F6A-9BE3-4267-9940-D4E075AC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EDBC-BD86-48E4-A271-31DF5835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134A-139C-4CAF-BC9B-4126B1AF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3E61-F05A-40CA-A888-F5E33CC60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6D5D-F4BD-4180-B1E8-142C58B7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A8CA7-49F3-448E-8F13-77122E52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C625-AE54-4C8D-8BAC-4C7E0256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936BD-7798-427D-ACCE-ECF2653C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A7804-4BA2-41FB-9412-BAA2D07D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C6B9B-40EA-4FC7-934C-D0029747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B985-8B1F-4A76-B3A2-E64554B6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91E15-BC28-4D9A-9050-8470879C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C7479-E069-4532-84FC-499ADABE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C7DFE-9340-4A7A-9568-20AE8AA3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1C773-68F4-4ED8-AA4D-2D34F75C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64472-003E-4161-A04D-95F40C71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711F0-8B64-4990-8F5A-C8EE3A4C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25703-1027-46CF-AD45-A60709A9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FEDD3-1487-4D62-B095-BECBE81C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541F9-29B3-4956-937C-2319ED0A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0ADE9-C559-473D-8AEE-334D1EF2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E44-4BBD-49D7-9E28-6FF99FA6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38D64-87A2-4A7C-9442-2C2DA33A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1ACA9-7ADA-4B58-932C-B6C0057D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2BA6B-AA76-43E8-9E2E-10F8D8ED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BC859-ECA4-4BED-88FB-26DA4269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A504B-ACA9-46FF-BDCE-30A2EA04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26815-77B1-4D6E-BC9D-C1FD9130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52327-3719-47FB-AFBA-16A84E0B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35884-D933-4EF2-93F9-536B09DA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BFC16-2E7D-4410-A5AC-CF6492A6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DF6AB-54D3-4E02-9AE7-B8EF1126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694-A9DA-4232-BA5A-BB0D9D66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65E3F-9A54-448A-9B42-6A2E16A0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75352-6AA8-4F26-A7C8-B3854864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FAFDD-ADB0-49D4-8B3C-E04A66C9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61DAD-86A3-405B-AE9E-621523A4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F03AD-4B53-46F6-A114-9232A807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1B45B-0704-450F-A47F-E55A8D43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C0B08-C163-4D71-AE36-02FBD298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CCE3F-A06F-49A4-AB40-B8ADBE1B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E69C7-379B-4B10-B970-EBF2C8F2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C6406-6D99-4A84-85FC-9050DDC8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23C-0AB4-4316-8C8F-1090CE09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8250F-1DB9-4363-A08D-38EFA3A8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376-56E6-4068-AB96-004D7908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C5BB-862F-4571-8DB9-5DF70E07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0613-B98C-4AF0-92BF-1B56A3FE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567E-F7EE-40D3-914B-F543F21BC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2336-56F3-425C-B099-71A24F881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AD59-47E1-4B71-B4F1-13D6589EA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24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6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B06F-D887-4C71-881F-6A765A1B34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71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73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7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256D-BF22-4D96-9B4F-32EE5C69CE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95280" y="1125360"/>
            <a:ext cx="8569440" cy="338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7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556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ветовые явления</a:t>
            </a:r>
            <a:endParaRPr b="1" lang="en-US" sz="4400" spc="1" strike="noStrike">
              <a:ln w="2556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0" name=""/>
          <p:cNvSpPr/>
          <p:nvPr/>
        </p:nvSpPr>
        <p:spPr>
          <a:xfrm>
            <a:off x="3814920" y="5445000"/>
            <a:ext cx="5329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доцент кафедры теоретической физики Оренбургского педагог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ниверситета, кандидат педагогических наук     ИЛЬЯСОВА Т.В.                   200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28600" y="595008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Какое астрономическое событие случилось  перед походом князя Иго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Monotype Corsiva"/>
              </a:rPr>
              <a:t>на половцев? («Слово о полку игореве») ?  Как к этому относились люд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-704880" y="13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115920"/>
            <a:ext cx="8207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ff"/>
                  </a:outerShdw>
                </a:effectLst>
                <a:latin typeface="Times New Roman"/>
              </a:rPr>
              <a:t>Проверь себя!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0920" y="836640"/>
            <a:ext cx="8569080" cy="511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. Распространение света от источника к приёмнику осуществляетс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осредством переноса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путем передачи энергии излучением, видимым глаз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через особую среду, окружающую т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. Луч света  в прозрачной однородной сред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распространяется  по произвольным, сложной формы ли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распространяется прямолиней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. Источники света бывают…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тественные и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.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е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ерите из приведённого списк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Костёр.   2. Солнце.   3. Уличный светильник.   4. Светляч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Электросварка.   6. Собака Баскервилей.   7. Гнилу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. Образование тени от предмета является доказательством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наличия источника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прямолинейности распространения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. Полутень образуется в том случае, есл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свет попадает на предмет от точечного источника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источник света имеет значительные размеры с учё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тояния до предмета и его разме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32000" y="6237360"/>
            <a:ext cx="6553080" cy="36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:  А2;  Б2;  ВХ247;  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56;  Г2;   Д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4" dur="2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3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3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3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3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3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3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3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3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3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3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4183200" y="3790800"/>
            <a:ext cx="72720" cy="71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0920" y="1660680"/>
            <a:ext cx="2808360" cy="504000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547640" y="333360"/>
            <a:ext cx="6058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коны отражения све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79280" y="981000"/>
            <a:ext cx="8785440" cy="36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ражение – изменение направления луча на границе непрозрачно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68360" y="1700280"/>
            <a:ext cx="2563920" cy="9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Первый зако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Луч падающи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луч отражё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лежат в о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плоскости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перпендикуля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к отражающ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поверхности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точке па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луч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0920" y="2236680"/>
            <a:ext cx="216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796000" y="1628640"/>
            <a:ext cx="3097080" cy="49690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70440" y="1700280"/>
            <a:ext cx="3373560" cy="65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Второй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Угол падения лу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равен углу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отра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Monotype Corsiva"/>
              </a:rPr>
              <a:t>&lt;</a:t>
            </a: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АОС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гол пад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Monotype Corsiva"/>
              </a:rPr>
              <a:t>&lt;</a:t>
            </a:r>
            <a:r>
              <a:rPr b="1" lang="ru-RU" sz="2800" spc="-1" strike="noStrike">
                <a:solidFill>
                  <a:srgbClr val="ff3300"/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О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гол отраж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С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ерпендикуляр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верхности в точ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адения лу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  <a:ea typeface="Arial"/>
              </a:rPr>
              <a:t>α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&lt;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l-GR" sz="2400" spc="-1" strike="noStrike">
                <a:solidFill>
                  <a:srgbClr val="ff3300"/>
                </a:solidFill>
                <a:latin typeface="Arial"/>
                <a:ea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372360" y="2276640"/>
            <a:ext cx="2520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443640" y="5964120"/>
            <a:ext cx="1584360" cy="360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916360" y="1628640"/>
            <a:ext cx="3014640" cy="2709720"/>
            <a:chOff x="2916360" y="1628640"/>
            <a:chExt cx="3014640" cy="2709720"/>
          </a:xfrm>
        </p:grpSpPr>
        <p:sp>
          <p:nvSpPr>
            <p:cNvPr id="362" name=""/>
            <p:cNvSpPr/>
            <p:nvPr/>
          </p:nvSpPr>
          <p:spPr>
            <a:xfrm>
              <a:off x="4341960" y="2045880"/>
              <a:ext cx="30240" cy="188784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16360" y="1628640"/>
              <a:ext cx="3014640" cy="2709720"/>
              <a:chOff x="2916360" y="1628640"/>
              <a:chExt cx="3014640" cy="270972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2916360" y="1628640"/>
                <a:ext cx="3014640" cy="2709720"/>
                <a:chOff x="2916360" y="1628640"/>
                <a:chExt cx="3014640" cy="27097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2916360" y="3546360"/>
                  <a:ext cx="3014640" cy="792000"/>
                </a:xfrm>
                <a:prstGeom prst="parallelogram">
                  <a:avLst>
                    <a:gd name="adj" fmla="val 95159"/>
                  </a:avLst>
                </a:prstGeom>
                <a:solidFill>
                  <a:srgbClr val="ffff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314960" y="1641240"/>
                  <a:ext cx="3063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3492720" y="1744560"/>
                  <a:ext cx="889200" cy="216036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V="1">
                  <a:off x="4368960" y="1688400"/>
                  <a:ext cx="925560" cy="220212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4815000" y="2651040"/>
                  <a:ext cx="77760" cy="18072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297760" y="1628640"/>
                  <a:ext cx="2271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391280" y="2739960"/>
                  <a:ext cx="298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1800" spc="-1" strike="noStrike">
                      <a:solidFill>
                        <a:srgbClr val="ff3300"/>
                      </a:solidFill>
                      <a:latin typeface="Arial"/>
                      <a:ea typeface="Arial"/>
                    </a:rPr>
                    <a:t>β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057920" y="2738160"/>
                  <a:ext cx="258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l-GR" sz="1800" spc="-1" strike="noStrike">
                      <a:solidFill>
                        <a:srgbClr val="ff3300"/>
                      </a:solidFill>
                      <a:latin typeface="Arial"/>
                      <a:ea typeface="Arial"/>
                    </a:rPr>
                    <a:t>α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3204000" y="1699920"/>
                <a:ext cx="1296720" cy="2521080"/>
                <a:chOff x="3204000" y="1699920"/>
                <a:chExt cx="1296720" cy="25210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3853080" y="2636640"/>
                  <a:ext cx="71640" cy="2160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212000" y="4005000"/>
                  <a:ext cx="288720" cy="21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О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204000" y="1699920"/>
                  <a:ext cx="288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7" name=""/>
            <p:cNvSpPr/>
            <p:nvPr/>
          </p:nvSpPr>
          <p:spPr>
            <a:xfrm rot="12020400">
              <a:off x="3834360" y="3116160"/>
              <a:ext cx="1193040" cy="102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482" y="17223"/>
                  </a:moveTo>
                  <a:arcTo wR="10800" hR="10800" stAng="2189579" swAng="338088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482" y="17223"/>
                  </a:moveTo>
                  <a:arcTo wR="10800" hR="10800" stAng="2189579" swAng="3380885"/>
                </a:path>
              </a:pathLst>
            </a:custGeom>
            <a:noFill/>
            <a:ln w="284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 txBox="1"/>
          <p:nvPr/>
        </p:nvSpPr>
        <p:spPr>
          <a:xfrm>
            <a:off x="3044880" y="4724280"/>
            <a:ext cx="25923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Какие три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явления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происходят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при отражении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света?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465440" cy="29527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250920" y="3867120"/>
            <a:ext cx="4317840" cy="27306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50920" y="333360"/>
            <a:ext cx="8642160" cy="626436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000" y="6021360"/>
            <a:ext cx="287280" cy="358920"/>
          </a:xfrm>
          <a:prstGeom prst="ellipse">
            <a:avLst/>
          </a:prstGeom>
          <a:solidFill>
            <a:srgbClr val="ffffe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532720" y="1268280"/>
            <a:ext cx="271440" cy="360360"/>
          </a:xfrm>
          <a:prstGeom prst="ellipse">
            <a:avLst/>
          </a:prstGeom>
          <a:solidFill>
            <a:srgbClr val="ffffe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2280" y="955800"/>
            <a:ext cx="403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Задач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ходящийся пуч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вета падает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лоское зерк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еренесите рисунок в тетрадь с сохранением масштаба и  пост-ройте в тетради отражё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учок с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59400" y="3959280"/>
            <a:ext cx="428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Задач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асходящийся пучок света п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а поверхность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еренесите рисунок в тетрадь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сохранением масштаба и пос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ойте в тетради отражё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учок с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55640" y="492120"/>
            <a:ext cx="76327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нцип обратимости луч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12855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324000" y="1268280"/>
            <a:ext cx="4176720" cy="5329440"/>
            <a:chOff x="324000" y="1268280"/>
            <a:chExt cx="4176720" cy="5329440"/>
          </a:xfrm>
        </p:grpSpPr>
        <p:grpSp>
          <p:nvGrpSpPr>
            <p:cNvPr id="389" name=""/>
            <p:cNvGrpSpPr/>
            <p:nvPr/>
          </p:nvGrpSpPr>
          <p:grpSpPr>
            <a:xfrm>
              <a:off x="324000" y="1268280"/>
              <a:ext cx="4176720" cy="5329440"/>
              <a:chOff x="324000" y="1268280"/>
              <a:chExt cx="4176720" cy="5329440"/>
            </a:xfrm>
          </p:grpSpPr>
          <p:sp>
            <p:nvSpPr>
              <p:cNvPr id="390" name=""/>
              <p:cNvSpPr/>
              <p:nvPr/>
            </p:nvSpPr>
            <p:spPr>
              <a:xfrm>
                <a:off x="324000" y="1268280"/>
                <a:ext cx="4176720" cy="532944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26920" y="1773360"/>
                <a:ext cx="0" cy="647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700360" y="1700280"/>
                <a:ext cx="86364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1835280" y="2636640"/>
                <a:ext cx="720720" cy="215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4360" y="3645000"/>
                <a:ext cx="792000" cy="57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835280" y="5229360"/>
                <a:ext cx="1368360" cy="71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1042920" y="3212640"/>
                <a:ext cx="73080" cy="64764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050920" y="4508640"/>
                <a:ext cx="433440" cy="72072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2627280" y="3573360"/>
                <a:ext cx="1008000" cy="28728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2843280" y="1844640"/>
                <a:ext cx="288720" cy="5763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26920" y="2133720"/>
                <a:ext cx="720720" cy="43164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1763640" y="2781360"/>
                <a:ext cx="432000" cy="50328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3419640" y="3357720"/>
              <a:ext cx="504720" cy="1079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 txBox="1"/>
          <p:nvPr/>
        </p:nvSpPr>
        <p:spPr>
          <a:xfrm>
            <a:off x="1547640" y="333360"/>
            <a:ext cx="576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Impact"/>
              </a:rPr>
              <a:t>Проверь себя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Impact"/>
              <a:ea typeface="Impact"/>
            </a:endParaRPr>
          </a:p>
        </p:txBody>
      </p:sp>
      <p:sp>
        <p:nvSpPr>
          <p:cNvPr id="404" name=""/>
          <p:cNvSpPr/>
          <p:nvPr/>
        </p:nvSpPr>
        <p:spPr>
          <a:xfrm>
            <a:off x="468360" y="5661000"/>
            <a:ext cx="41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чертить в тетрадь и постро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каждого случая положение отра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ённого или падающего лу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826920" y="1844640"/>
            <a:ext cx="2808000" cy="3351240"/>
            <a:chOff x="826920" y="1844640"/>
            <a:chExt cx="2808000" cy="3351240"/>
          </a:xfrm>
        </p:grpSpPr>
        <p:grpSp>
          <p:nvGrpSpPr>
            <p:cNvPr id="406" name=""/>
            <p:cNvGrpSpPr/>
            <p:nvPr/>
          </p:nvGrpSpPr>
          <p:grpSpPr>
            <a:xfrm>
              <a:off x="826920" y="1844640"/>
              <a:ext cx="2808000" cy="2376360"/>
              <a:chOff x="826920" y="1844640"/>
              <a:chExt cx="2808000" cy="2376360"/>
            </a:xfrm>
          </p:grpSpPr>
          <p:sp>
            <p:nvSpPr>
              <p:cNvPr id="407" name=""/>
              <p:cNvSpPr/>
              <p:nvPr/>
            </p:nvSpPr>
            <p:spPr>
              <a:xfrm>
                <a:off x="826920" y="2133720"/>
                <a:ext cx="936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1042920" y="3284640"/>
                <a:ext cx="433440" cy="57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195640" y="2781360"/>
                <a:ext cx="144360" cy="718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700000" y="1844640"/>
                <a:ext cx="431640" cy="863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2916000" y="3860640"/>
                <a:ext cx="718920" cy="360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 flipH="1">
              <a:off x="2484360" y="4437000"/>
              <a:ext cx="84240" cy="7588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826920" y="1773000"/>
            <a:ext cx="2808360" cy="3456000"/>
            <a:chOff x="826920" y="1773000"/>
            <a:chExt cx="2808360" cy="3456000"/>
          </a:xfrm>
        </p:grpSpPr>
        <p:sp>
          <p:nvSpPr>
            <p:cNvPr id="414" name=""/>
            <p:cNvSpPr/>
            <p:nvPr/>
          </p:nvSpPr>
          <p:spPr>
            <a:xfrm flipV="1">
              <a:off x="2484360" y="4652640"/>
              <a:ext cx="647640" cy="576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826920" y="1773000"/>
              <a:ext cx="2808360" cy="2951280"/>
              <a:chOff x="826920" y="1773000"/>
              <a:chExt cx="2808360" cy="2951280"/>
            </a:xfrm>
          </p:grpSpPr>
          <p:sp>
            <p:nvSpPr>
              <p:cNvPr id="416" name=""/>
              <p:cNvSpPr/>
              <p:nvPr/>
            </p:nvSpPr>
            <p:spPr>
              <a:xfrm flipV="1">
                <a:off x="826920" y="1773000"/>
                <a:ext cx="733680" cy="3474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2916360" y="1871280"/>
                <a:ext cx="204840" cy="405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3348000" y="3860640"/>
                <a:ext cx="287280" cy="86364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1015920" y="3588840"/>
                <a:ext cx="676440" cy="28764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195640" y="2797200"/>
                <a:ext cx="576000" cy="21600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"/>
          <p:cNvSpPr/>
          <p:nvPr/>
        </p:nvSpPr>
        <p:spPr>
          <a:xfrm>
            <a:off x="4788000" y="1268280"/>
            <a:ext cx="4032000" cy="532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На заднем колесе велосип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имеется устройство («катафот»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отражающее лучи автомоби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ных фар обратно к нагоняющ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его автомоби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тейший отражатель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й цели состоит из двух  вз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но перпендикуляр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ых плоских зерка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66"/>
                </a:solidFill>
                <a:uFillTx/>
                <a:latin typeface="Monotype Corsiva"/>
              </a:rPr>
              <a:t>Д о к а ж и т 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дающие на та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ркала лучи отраж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тся в направлен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тивополож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х па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7346880" y="4869000"/>
            <a:ext cx="1368360" cy="16160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7524720" y="3645000"/>
            <a:ext cx="11048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4140360" y="2421000"/>
            <a:ext cx="4695840" cy="20764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1547640" y="162000"/>
            <a:ext cx="56167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8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оское зеркало</a:t>
            </a:r>
            <a:endParaRPr b="1" i="1" lang="en-US" sz="1800" spc="1" strike="noStrike">
              <a:ln w="22320">
                <a:solidFill>
                  <a:srgbClr val="00008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1197000"/>
            <a:ext cx="7561440" cy="503280"/>
          </a:xfrm>
          <a:prstGeom prst="rect">
            <a:avLst/>
          </a:prstGeom>
          <a:solidFill>
            <a:srgbClr val="ffffe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юбая плоская гладкая поверхность, хорошо отражающая с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81160" y="1773360"/>
            <a:ext cx="864072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им удивительным свойством обладает зеркало?</a:t>
            </a:r>
            <a:endParaRPr b="1" i="1" lang="en-US" sz="1800" spc="1" strike="noStrike">
              <a:ln w="1260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40360" y="4653000"/>
            <a:ext cx="4752720" cy="863640"/>
          </a:xfrm>
          <a:prstGeom prst="rect">
            <a:avLst/>
          </a:prstGeom>
          <a:solidFill>
            <a:srgbClr val="ffffe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удет ли помещённый в воде предм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рис.б) отражаться в воздухе, как дом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рис.а) -  в во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5200" y="4667400"/>
            <a:ext cx="3652920" cy="830160"/>
          </a:xfrm>
          <a:prstGeom prst="rect">
            <a:avLst/>
          </a:prstGeom>
          <a:solidFill>
            <a:srgbClr val="ffffe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де получается изображ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е в зеркале? Выполн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тё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580000" y="4076640"/>
            <a:ext cx="216000" cy="21600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8459640" y="2924280"/>
            <a:ext cx="289080" cy="28872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50920" y="5661000"/>
            <a:ext cx="8569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ие особенности имеет изображение</a:t>
            </a:r>
            <a:endParaRPr b="1" i="1" lang="en-US" sz="1800" spc="1" strike="noStrike">
              <a:ln w="25560">
                <a:solidFill>
                  <a:srgbClr val="3333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1800" spc="1" strike="noStrike">
                <a:ln w="2556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едмета в плоском зеркале?</a:t>
            </a:r>
            <a:endParaRPr b="1" i="1" lang="en-US" sz="1800" spc="1" strike="noStrike">
              <a:ln w="25560">
                <a:solidFill>
                  <a:srgbClr val="333399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4000" y="2492280"/>
            <a:ext cx="3600360" cy="2016360"/>
          </a:xfrm>
          <a:prstGeom prst="rect">
            <a:avLst/>
          </a:prstGeom>
          <a:solidFill>
            <a:srgbClr val="ffffe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395280" y="2565360"/>
            <a:ext cx="34956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24000" y="623736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Имеется ли различие между предметом и его изображени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74840" y="476280"/>
            <a:ext cx="82738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9966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324000" y="3716280"/>
            <a:ext cx="8578800" cy="1728720"/>
            <a:chOff x="324000" y="3716280"/>
            <a:chExt cx="8578800" cy="1728720"/>
          </a:xfrm>
        </p:grpSpPr>
        <p:sp>
          <p:nvSpPr>
            <p:cNvPr id="438" name=""/>
            <p:cNvSpPr/>
            <p:nvPr/>
          </p:nvSpPr>
          <p:spPr>
            <a:xfrm>
              <a:off x="324000" y="3716280"/>
              <a:ext cx="8578800" cy="1728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buClr>
                  <a:srgbClr val="6600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cc"/>
                  </a:solidFill>
                  <a:latin typeface="Arial"/>
                </a:rPr>
                <a:t>Какой должна быть отражающая поверхность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6600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cc"/>
                  </a:solidFill>
                  <a:latin typeface="Arial"/>
                </a:rPr>
                <a:t>Как направлены отражённые лучи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6600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cc"/>
                  </a:solidFill>
                  <a:latin typeface="Arial"/>
                </a:rPr>
                <a:t>Одинаков ли результат отражения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6600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cc"/>
                  </a:solidFill>
                  <a:latin typeface="Arial"/>
                </a:rPr>
                <a:t>В каком случае поглощается больше энергии света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6600cc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cc"/>
                  </a:solidFill>
                  <a:latin typeface="Arial"/>
                </a:rPr>
                <a:t>За счёт какого отражения мы видим несветящиеся тела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485120" y="3768840"/>
              <a:ext cx="438120" cy="84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324000" y="260280"/>
            <a:ext cx="85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6920" y="147600"/>
            <a:ext cx="756144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равните два вида отражения 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/>
          <p:nvPr/>
        </p:nvSpPr>
        <p:spPr>
          <a:xfrm>
            <a:off x="1547640" y="1197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зерка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12000" y="1125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рассея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95280" y="5589720"/>
            <a:ext cx="849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80"/>
                  </a:solidFill>
                  <a:miter/>
                </a:ln>
                <a:solidFill>
                  <a:srgbClr val="6600cc">
                    <a:alpha val="74000"/>
                  </a:srgbClr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Нарушаются ли в случае рассеяния света</a:t>
            </a:r>
            <a:endParaRPr b="1" lang="en-US" sz="1800" spc="1" strike="noStrike">
              <a:ln w="15840">
                <a:solidFill>
                  <a:srgbClr val="800080"/>
                </a:solidFill>
                <a:miter/>
              </a:ln>
              <a:solidFill>
                <a:srgbClr val="6600cc">
                  <a:alpha val="74000"/>
                </a:srgbClr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800080"/>
                  </a:solidFill>
                  <a:miter/>
                </a:ln>
                <a:solidFill>
                  <a:srgbClr val="6600cc">
                    <a:alpha val="74000"/>
                  </a:srgbClr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законы отражения ?</a:t>
            </a:r>
            <a:endParaRPr b="1" lang="en-US" sz="1800" spc="1" strike="noStrike">
              <a:ln w="15840">
                <a:solidFill>
                  <a:srgbClr val="800080"/>
                </a:solidFill>
                <a:miter/>
              </a:ln>
              <a:solidFill>
                <a:srgbClr val="6600cc">
                  <a:alpha val="74000"/>
                </a:srgbClr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596360" y="3789360"/>
            <a:ext cx="339480" cy="84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7596360" y="3789360"/>
            <a:ext cx="1195200" cy="15858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7619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4410000" y="3476520"/>
            <a:ext cx="4734000" cy="33814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33800" cy="34290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1520" y="127080"/>
            <a:ext cx="287280" cy="288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02160" y="3495600"/>
            <a:ext cx="312840" cy="279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003640" y="0"/>
            <a:ext cx="4140360" cy="6426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Задача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63520" y="3535200"/>
            <a:ext cx="3816360" cy="6426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Задача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49800" y="576360"/>
            <a:ext cx="4067280" cy="25628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еловек смотрит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рящую свечу че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а зерк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де будет изображ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хему перенесите в 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нарисуйте из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в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твердите домашним экспериме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66760" y="4105440"/>
            <a:ext cx="3816360" cy="25628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еловек смотрит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орящую свечу че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а зерк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Где будет изображ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хему перенесите в тетр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нарисуйте изображение све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ким будет изображ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чём отличие от 1-го случа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0" y="42840"/>
            <a:ext cx="6516720" cy="6815160"/>
          </a:xfrm>
          <a:prstGeom prst="rect">
            <a:avLst/>
          </a:prstGeom>
          <a:noFill/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55640" y="0"/>
            <a:ext cx="5761080" cy="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900000" cy="6858000"/>
          </a:xfrm>
          <a:prstGeom prst="rect">
            <a:avLst/>
          </a:prstGeom>
          <a:solidFill>
            <a:srgbClr val="f5e8cd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 rot="5400000">
            <a:off x="-2819160" y="3133440"/>
            <a:ext cx="6567480" cy="604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07932" dir="2700000" blurRad="0" rotWithShape="0">
                    <a:srgbClr val="ff9900">
                      <a:alpha val="50000"/>
                    </a:srgbClr>
                  </a:outerShdw>
                </a:effectLst>
                <a:latin typeface="Arial"/>
              </a:rPr>
              <a:t>Зеркальная эстафета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07932" dir="2700000" blurRad="0" rotWithShape="0">
                  <a:srgbClr val="ff99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16720" y="28440"/>
            <a:ext cx="2627280" cy="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0" y="28440"/>
            <a:ext cx="928800" cy="2880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684360" cy="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71640" y="981000"/>
            <a:ext cx="215640" cy="216000"/>
          </a:xfrm>
          <a:prstGeom prst="ellipse">
            <a:avLst/>
          </a:prstGeom>
          <a:solidFill>
            <a:srgbClr val="f5e8cd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85680" y="1844640"/>
            <a:ext cx="216000" cy="216000"/>
          </a:xfrm>
          <a:prstGeom prst="ellipse">
            <a:avLst/>
          </a:prstGeom>
          <a:solidFill>
            <a:srgbClr val="f5e8cd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71640" y="2651040"/>
            <a:ext cx="215640" cy="216000"/>
          </a:xfrm>
          <a:prstGeom prst="ellipse">
            <a:avLst/>
          </a:prstGeom>
          <a:solidFill>
            <a:srgbClr val="f5e8cd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71640" y="3502080"/>
            <a:ext cx="215640" cy="216000"/>
          </a:xfrm>
          <a:prstGeom prst="ellipse">
            <a:avLst/>
          </a:prstGeom>
          <a:solidFill>
            <a:srgbClr val="f5e8cd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71640" y="4365720"/>
            <a:ext cx="215640" cy="215640"/>
          </a:xfrm>
          <a:prstGeom prst="ellipse">
            <a:avLst/>
          </a:prstGeom>
          <a:solidFill>
            <a:srgbClr val="f5e8cd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00080" y="5229360"/>
            <a:ext cx="216000" cy="215640"/>
          </a:xfrm>
          <a:prstGeom prst="ellipse">
            <a:avLst/>
          </a:prstGeom>
          <a:solidFill>
            <a:srgbClr val="f5e8cd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014480" y="6066000"/>
            <a:ext cx="216000" cy="215640"/>
          </a:xfrm>
          <a:prstGeom prst="ellipse">
            <a:avLst/>
          </a:prstGeom>
          <a:solidFill>
            <a:srgbClr val="f5e8cd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804000" y="219240"/>
            <a:ext cx="20671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663300">
                    <a:alpha val="79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дание:</a:t>
            </a:r>
            <a:endParaRPr b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663300">
                  <a:alpha val="79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04000" y="981000"/>
            <a:ext cx="2089080" cy="50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Поставить плоские зерк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так, чт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отражённые лу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овпали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зображё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на рису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коль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зер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необходим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Имеет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ц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свет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722760" y="1162080"/>
            <a:ext cx="1836720" cy="3960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43200" y="2027160"/>
            <a:ext cx="1649160" cy="23508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927080" y="3033720"/>
            <a:ext cx="1368720" cy="14436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636560" y="3846240"/>
            <a:ext cx="1584360" cy="14436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381480" y="4869000"/>
            <a:ext cx="1780920" cy="288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859040" y="5629320"/>
            <a:ext cx="2390760" cy="1440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4211640" y="6521400"/>
            <a:ext cx="487440" cy="276120"/>
          </a:xfrm>
          <a:prstGeom prst="line">
            <a:avLst/>
          </a:prstGeom>
          <a:ln w="9360">
            <a:solidFill>
              <a:srgbClr val="cc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5628960" y="946080"/>
            <a:ext cx="20520" cy="4269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819440" y="1793880"/>
            <a:ext cx="71280" cy="4287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328560" y="2957400"/>
            <a:ext cx="71640" cy="43200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65280" y="3824280"/>
            <a:ext cx="33480" cy="34920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5214960" y="4681440"/>
            <a:ext cx="23760" cy="32724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890360" y="5351400"/>
            <a:ext cx="42840" cy="43200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30680" y="6315120"/>
            <a:ext cx="216000" cy="358560"/>
          </a:xfrm>
          <a:prstGeom prst="line">
            <a:avLst/>
          </a:prstGeom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22200" y="1587600"/>
            <a:ext cx="835344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Отражение  и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еломление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вета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1258920" y="4221000"/>
            <a:ext cx="3483000" cy="24480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250920" y="1557360"/>
            <a:ext cx="4537080" cy="25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4395600" cy="16574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2700360" y="2205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98400" y="561960"/>
            <a:ext cx="7561440" cy="1197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6633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умай и ответь!</a:t>
            </a:r>
            <a:endParaRPr b="1" lang="en-US" sz="1800" spc="1" strike="noStrike">
              <a:ln w="25560">
                <a:solidFill>
                  <a:srgbClr val="6633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920" y="321300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ли осветить фонарём изображение предмета в зеркале, хотя за зеркалом ни-какого предмета нет? Проверьте опы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932360" y="1557360"/>
            <a:ext cx="3960720" cy="25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932360" y="328464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акой минимальной высоты долж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ыть зеркало, чтобы увидеть себя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лный рост? Сделайте чертё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79280" y="4221000"/>
            <a:ext cx="4578480" cy="2465640"/>
          </a:xfrm>
          <a:prstGeom prst="rect">
            <a:avLst/>
          </a:prstGeom>
          <a:noFill/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878360" y="4241880"/>
            <a:ext cx="4032360" cy="244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93680" y="4249800"/>
            <a:ext cx="1282680" cy="2422440"/>
          </a:xfrm>
          <a:prstGeom prst="rect">
            <a:avLst/>
          </a:prstGeom>
          <a:solidFill>
            <a:srgbClr val="4961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ч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ука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жиг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ламен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веч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ч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оку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5"/>
          <a:stretch/>
        </p:blipFill>
        <p:spPr>
          <a:xfrm>
            <a:off x="4932360" y="1628640"/>
            <a:ext cx="3876840" cy="165744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6919920" y="213192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003640" y="4438800"/>
            <a:ext cx="4140360" cy="2218320"/>
            <a:chOff x="5003640" y="4438800"/>
            <a:chExt cx="4140360" cy="2218320"/>
          </a:xfrm>
        </p:grpSpPr>
        <p:sp>
          <p:nvSpPr>
            <p:cNvPr id="501" name=""/>
            <p:cNvSpPr/>
            <p:nvPr/>
          </p:nvSpPr>
          <p:spPr>
            <a:xfrm>
              <a:off x="5219640" y="4581360"/>
              <a:ext cx="216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5003640" y="4438800"/>
              <a:ext cx="4140360" cy="2218320"/>
              <a:chOff x="5003640" y="4438800"/>
              <a:chExt cx="4140360" cy="221832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5003640" y="4438800"/>
                <a:ext cx="4140360" cy="2218320"/>
                <a:chOff x="5003640" y="4438800"/>
                <a:chExt cx="4140360" cy="2218320"/>
              </a:xfrm>
            </p:grpSpPr>
            <p:sp>
              <p:nvSpPr>
                <p:cNvPr id="504" name=""/>
                <p:cNvSpPr/>
                <p:nvPr/>
              </p:nvSpPr>
              <p:spPr>
                <a:xfrm flipV="1">
                  <a:off x="5580000" y="4797000"/>
                  <a:ext cx="0" cy="576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5003640" y="4438800"/>
                  <a:ext cx="4140360" cy="2218320"/>
                  <a:chOff x="5003640" y="4438800"/>
                  <a:chExt cx="4140360" cy="221832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>
                    <a:off x="5003640" y="5589720"/>
                    <a:ext cx="4140360" cy="1067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Arial"/>
                      </a:rPr>
                      <a:t>Найти область пространства, в кото-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Arial"/>
                      </a:rPr>
                      <a:t>рой глаз будет видеть изображение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Arial"/>
                      </a:rPr>
                      <a:t>всего светящегося предмета </a:t>
                    </a:r>
                    <a:r>
                      <a:rPr b="1" i="1" lang="ru-RU" sz="1600" spc="-1" strike="noStrike">
                        <a:solidFill>
                          <a:srgbClr val="333399"/>
                        </a:solidFill>
                        <a:latin typeface="Arial"/>
                      </a:rPr>
                      <a:t>АВ</a:t>
                    </a: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Arial"/>
                      </a:rPr>
                      <a:t> в зеркале </a:t>
                    </a:r>
                    <a:r>
                      <a:rPr b="1" i="1" lang="en-US" sz="1600" spc="-1" strike="noStrike">
                        <a:solidFill>
                          <a:srgbClr val="333399"/>
                        </a:solidFill>
                        <a:latin typeface="Arial"/>
                      </a:rPr>
                      <a:t>MN</a:t>
                    </a:r>
                    <a:r>
                      <a:rPr b="1" lang="ru-RU" sz="1600" spc="-1" strike="noStrike">
                        <a:solidFill>
                          <a:srgbClr val="000000"/>
                        </a:solidFill>
                        <a:latin typeface="Arial"/>
                      </a:rPr>
                      <a:t>. Выполнить чертёж.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5276880" y="4754520"/>
                    <a:ext cx="287280" cy="70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cc3300"/>
                        </a:solidFill>
                        <a:latin typeface="Arial"/>
                      </a:rPr>
                      <a:t>А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cc3300"/>
                        </a:solidFill>
                        <a:latin typeface="Arial"/>
                      </a:rPr>
                      <a:t>В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6948360" y="4581720"/>
                    <a:ext cx="144720" cy="79200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7050240" y="4456080"/>
                    <a:ext cx="379440" cy="107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cc3300"/>
                        </a:solidFill>
                        <a:latin typeface="Arial"/>
                      </a:rPr>
                      <a:t>M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cc3300"/>
                        </a:solidFill>
                        <a:latin typeface="Arial"/>
                      </a:rPr>
                      <a:t>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5435640" y="4438800"/>
                    <a:ext cx="3603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?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1" name=""/>
              <p:cNvSpPr/>
              <p:nvPr/>
            </p:nvSpPr>
            <p:spPr>
              <a:xfrm>
                <a:off x="7093080" y="4581360"/>
                <a:ext cx="0" cy="79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452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362400" y="1082520"/>
            <a:ext cx="525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о провести крайние лучи от точек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опадающие на зеркало (его точки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м, где отражённые пучки накладыва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тся, и будет область полного вид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я  предмета    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А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   Разм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ркала имеют сущест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нное  значение.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17960" y="49212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ПРОВЕРЬТЕ СВОЁ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8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5022720" y="4408560"/>
            <a:ext cx="128880" cy="71280"/>
          </a:xfrm>
          <a:custGeom>
            <a:avLst/>
            <a:gdLst/>
            <a:ahLst/>
            <a:rect l="l" t="t" r="r" b="b"/>
            <a:pathLst>
              <a:path w="81" h="45">
                <a:moveTo>
                  <a:pt x="71" y="0"/>
                </a:moveTo>
                <a:cubicBezTo>
                  <a:pt x="69" y="0"/>
                  <a:pt x="0" y="0"/>
                  <a:pt x="8" y="32"/>
                </a:cubicBezTo>
                <a:cubicBezTo>
                  <a:pt x="10" y="40"/>
                  <a:pt x="24" y="37"/>
                  <a:pt x="32" y="40"/>
                </a:cubicBezTo>
                <a:cubicBezTo>
                  <a:pt x="81" y="30"/>
                  <a:pt x="71" y="45"/>
                  <a:pt x="71" y="0"/>
                </a:cubicBezTo>
                <a:close/>
              </a:path>
            </a:pathLst>
          </a:custGeom>
          <a:solidFill>
            <a:srgbClr val="00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951200" y="103320"/>
            <a:ext cx="5113080" cy="90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еркальные фокусы</a:t>
            </a:r>
            <a:endParaRPr b="1" i="1" lang="en-US" sz="1800" spc="1" strike="noStrike">
              <a:ln w="2232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29160" y="4998960"/>
            <a:ext cx="4230720" cy="165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788000" y="5086440"/>
            <a:ext cx="4537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0920" y="1197000"/>
            <a:ext cx="3816360" cy="165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268360" y="138420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ядя на отра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ение сво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уки в зеркал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писать св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амил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0920" y="3040200"/>
            <a:ext cx="3816360" cy="174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4000" y="3112920"/>
            <a:ext cx="2303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ва зеркала укреп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лены в  оправе п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глом 9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друг 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ругу. Каким увид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бя глядя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зеркал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529160" y="1212840"/>
            <a:ext cx="4248000" cy="35290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149960" y="2998800"/>
            <a:ext cx="50004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7889760" y="3490920"/>
          <a:ext cx="822600" cy="11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89760" y="3490920"/>
                    <a:ext cx="82260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7018200" y="1716120"/>
            <a:ext cx="1943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обретён в Англии в 181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. Брюсте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риантов узо-ров из 20 цвет-ных стёклыш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~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786800" y="3502080"/>
            <a:ext cx="320400" cy="5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672080" y="134604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Объясните устройство калейдоскоп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43280" y="5013360"/>
            <a:ext cx="405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мотрю – и что ж в моих глаз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 фигурах разных и звез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апфиры, яхонты, топа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 изумруды, и алмаз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 аметисты, и жемчуг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 перламутр – всё вижу вдруг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Лишь сделаю рукой движень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 новое в глазах явленье!     (А. Измайлов, 1818 г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176480" y="5378400"/>
            <a:ext cx="75960" cy="3348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36520" y="4994280"/>
            <a:ext cx="3844800" cy="167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95280" y="503568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 если 2 зеркала - стоят стр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06440" y="634032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араллель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925560" y="5398920"/>
            <a:ext cx="287280" cy="28764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23080" y="5401800"/>
            <a:ext cx="1190880" cy="1186200"/>
            <a:chOff x="523080" y="5401800"/>
            <a:chExt cx="1190880" cy="1186200"/>
          </a:xfrm>
        </p:grpSpPr>
        <p:sp>
          <p:nvSpPr>
            <p:cNvPr id="537" name=""/>
            <p:cNvSpPr/>
            <p:nvPr/>
          </p:nvSpPr>
          <p:spPr>
            <a:xfrm rot="18966000">
              <a:off x="611280" y="5660640"/>
              <a:ext cx="1014480" cy="663480"/>
            </a:xfrm>
            <a:prstGeom prst="parallelogram">
              <a:avLst>
                <a:gd name="adj" fmla="val 9365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38160" y="5661000"/>
              <a:ext cx="14400" cy="927000"/>
            </a:xfrm>
            <a:prstGeom prst="line">
              <a:avLst/>
            </a:prstGeom>
            <a:ln w="7632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2828160" y="5330880"/>
            <a:ext cx="1190880" cy="1185840"/>
            <a:chOff x="2828160" y="5330880"/>
            <a:chExt cx="1190880" cy="1185840"/>
          </a:xfrm>
        </p:grpSpPr>
        <p:sp>
          <p:nvSpPr>
            <p:cNvPr id="540" name=""/>
            <p:cNvSpPr/>
            <p:nvPr/>
          </p:nvSpPr>
          <p:spPr>
            <a:xfrm rot="18966000">
              <a:off x="2916360" y="5589360"/>
              <a:ext cx="1014120" cy="663480"/>
            </a:xfrm>
            <a:prstGeom prst="parallelogram">
              <a:avLst>
                <a:gd name="adj" fmla="val 9361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42880" y="5589720"/>
              <a:ext cx="14040" cy="927000"/>
            </a:xfrm>
            <a:prstGeom prst="line">
              <a:avLst/>
            </a:prstGeom>
            <a:ln w="7632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 flipV="1">
            <a:off x="3230640" y="5299200"/>
            <a:ext cx="312840" cy="30168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492360" y="5263920"/>
            <a:ext cx="6480" cy="363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92360" y="5300640"/>
            <a:ext cx="52560" cy="223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4643280" y="1628640"/>
            <a:ext cx="2260800" cy="309744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2484360" y="3141720"/>
            <a:ext cx="1494000" cy="159048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324000" y="1268280"/>
            <a:ext cx="1633320" cy="15004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6"/>
          <a:stretch/>
        </p:blipFill>
        <p:spPr>
          <a:xfrm>
            <a:off x="1763640" y="5300640"/>
            <a:ext cx="9446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06360" y="260280"/>
            <a:ext cx="8504280" cy="415152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24000" y="3068640"/>
            <a:ext cx="3344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а зеркала укрепл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жду собой под углом 72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руг   к другу.   При вдвигании между ними карандаша получается 5 изображ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0920" y="4437000"/>
            <a:ext cx="8569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815320" y="200160"/>
            <a:ext cx="4680" cy="423684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57040" y="256680"/>
            <a:ext cx="7920" cy="421956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260280"/>
            <a:ext cx="8569080" cy="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811680" y="386064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06728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66760" y="4653000"/>
            <a:ext cx="8569440" cy="2016000"/>
          </a:xfrm>
          <a:prstGeom prst="rect">
            <a:avLst/>
          </a:prstGeom>
          <a:solidFill>
            <a:srgbClr val="ffffef"/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716200" y="4724280"/>
            <a:ext cx="60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между зеркалами находится  предмет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о виден не только он, но и его отражения в зеркалах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2, 3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аждое зеркало посылает ещё изображение, отражённое его соседом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4, 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В результате, кроме предмета, видны ещё 4 от- ражения в разных поворо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2284560" y="4939920"/>
            <a:ext cx="142560" cy="73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1973160" y="4941720"/>
            <a:ext cx="295200" cy="22320"/>
          </a:xfrm>
          <a:prstGeom prst="line">
            <a:avLst/>
          </a:prstGeom>
          <a:ln w="3816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979640" y="5013360"/>
            <a:ext cx="0" cy="144360"/>
          </a:xfrm>
          <a:prstGeom prst="line">
            <a:avLst/>
          </a:prstGeom>
          <a:ln w="3816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395280" y="4687920"/>
            <a:ext cx="2303640" cy="19098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 rot="19790400">
            <a:off x="2003040" y="5043240"/>
            <a:ext cx="542880" cy="279360"/>
          </a:xfrm>
          <a:prstGeom prst="parallelogram">
            <a:avLst>
              <a:gd name="adj" fmla="val 115950"/>
            </a:avLst>
          </a:prstGeom>
          <a:solidFill>
            <a:srgbClr val="80808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rot="755400">
            <a:off x="1873080" y="4870440"/>
            <a:ext cx="503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1258920" y="77760"/>
            <a:ext cx="662616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машний эксперимент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4000" y="907920"/>
            <a:ext cx="8569080" cy="259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4000" y="3573360"/>
            <a:ext cx="8569080" cy="30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ставьте вертикально на стол два карманных зеркальца  под уг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руг к др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ложите между зеркалами рисунок простой фигуры (ёлочка, д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Изменяя угол между зеркалами убедитесь, что число изобра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ен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колько изображений получается при углах  9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?  7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?  6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Monotype Corsiva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Этот способ получения узоров используется для составления орнаме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Monotype Corsiva"/>
              </a:rPr>
              <a:t>тов, рисунков ковров, обоев, тканей, театральных декор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6227280" y="914400"/>
            <a:ext cx="34920" cy="25858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981160" y="907920"/>
            <a:ext cx="6480" cy="259884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368280" y="907920"/>
            <a:ext cx="2619360" cy="25624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6300720" y="907920"/>
            <a:ext cx="2581200" cy="25434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395280" y="98100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8596440" y="9446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071880" y="105876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считайте колич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ображений  на рисунках 1 и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 каким уг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ходятся  зерка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метьте: изобра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учаются под раз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лами зре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85680" y="1743120"/>
            <a:ext cx="7493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им успехом пользовался «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Дворец иллю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з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- нечто вроде  большого вращающегося калейдоскоп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 был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угольный зал с идеально зеркальными стен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углах зала были вырезаны  вращающиеся трёхгранные зеркала с  декорациями, которые заменялись соответственно угла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, 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   Все угл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лючали в себе обстановку тропического леса. Угл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обстановку арабского зал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л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индийского хра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им движением скрытого механизма, поворачивающего углы, тропический лес превращался  в  индийский  храм  или арабский з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есь эффект основан на отражении световых луч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ритель внутри такого зала видел многокра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ажение людей в бесконечной анфила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лов. Различались залы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1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го отражени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имый горизонт зрителя охватывал 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46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зало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Эффект бесчисленных отраж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иливался мгновенной переменой декор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7391520" y="907920"/>
            <a:ext cx="1752480" cy="593100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5796000" y="5229360"/>
            <a:ext cx="1714320" cy="15811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28440" y="0"/>
            <a:ext cx="9144000" cy="6858000"/>
          </a:xfrm>
          <a:prstGeom prst="rect">
            <a:avLst/>
          </a:prstGeom>
          <a:noFill/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 rot="20477400">
            <a:off x="1006200" y="0"/>
            <a:ext cx="813744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41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9966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Секрет "Дворца  и л л ю з и й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9966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580" name=""/>
          <p:cNvSpPr/>
          <p:nvPr/>
        </p:nvSpPr>
        <p:spPr>
          <a:xfrm>
            <a:off x="2970360" y="13539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всемирной выставке в Пари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2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2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4" dur="1000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1000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2" dur="2000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7" dur="1000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0" dur="1000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3" dur="1000"/>
                                        <p:tgtEl>
                                          <p:spTgt spid="5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6" dur="1000"/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9" dur="1000"/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2" dur="1000"/>
                                        <p:tgtEl>
                                          <p:spTgt spid="5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5" dur="1000"/>
                                        <p:tgtEl>
                                          <p:spTgt spid="5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1187280" y="108000"/>
            <a:ext cx="72010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Проверь себя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9640" y="1125360"/>
            <a:ext cx="8209080" cy="482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А. Световой луч – это…  Б. Плоское зеркало – это…  В. Отражение – это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изменение направления луча на границе непрозрачной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линия, вдоль которой распространяется с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гладкая плоская поверх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Тень, отброшенная предметом, освещённым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Г. точечным источником…                            Д. протяжённым источником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окружена полутенью.                           2. имеет резкие очер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Е. Размеры тени, отбрасываемой предметом,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при удалении от него точечного     источника,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при увеличении размеров источника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8080"/>
                </a:solidFill>
                <a:latin typeface="Arial"/>
              </a:rPr>
              <a:t>а) увеличиваются.            б) уменьшаются.             в) не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Ж. Если параллельный пучок света падает на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очень гладкую поверхность, то…    2. шероховатую поверхность, то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после отражения лучи иду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) по всевозможным направлениям.  б) параллельным пуч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Такое отражение называетс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) рассеянным.                                         г) зеркаль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З. При этом для каждого луча законы отражени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выполняются.  2. не выполняются. 3. выполняются для некотор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6308640"/>
            <a:ext cx="8064360" cy="28908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ВЕТЫ: А2;  Б3;  В1;  Г2;  Д1;  Е1б;  Е2б;  Ж1бг;  Ж2ав;  З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8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8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1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1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10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8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10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5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5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5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5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5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5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9" dur="80"/>
                                        <p:tgtEl>
                                          <p:spTgt spid="5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5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80"/>
                                        <p:tgtEl>
                                          <p:spTgt spid="5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5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5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5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5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5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5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1" dur="80"/>
                                        <p:tgtEl>
                                          <p:spTgt spid="5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2" dur="80"/>
                                        <p:tgtEl>
                                          <p:spTgt spid="5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1000"/>
                                        <p:tgtEl>
                                          <p:spTgt spid="5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1000"/>
                                        <p:tgtEl>
                                          <p:spTgt spid="5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5" dur="2000"/>
                                        <p:tgtEl>
                                          <p:spTgt spid="5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8" dur="2000"/>
                                        <p:tgtEl>
                                          <p:spTgt spid="58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3" dur="8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4" dur="8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5" dur="8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0" y="131436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0" y="0"/>
            <a:ext cx="9144000" cy="6958080"/>
          </a:xfrm>
          <a:prstGeom prst="rect">
            <a:avLst/>
          </a:prstGeom>
          <a:noFill/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55640" y="189000"/>
            <a:ext cx="784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птический лабирин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395280" y="5877000"/>
            <a:ext cx="1008000" cy="2887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6804000" y="5661000"/>
            <a:ext cx="216000" cy="792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780000" y="2565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740040" cy="260208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95280" y="3933720"/>
            <a:ext cx="3741840" cy="26956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4788000" y="981000"/>
            <a:ext cx="3962160" cy="21146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4"/>
          <a:stretch/>
        </p:blipFill>
        <p:spPr>
          <a:xfrm>
            <a:off x="4932360" y="4129200"/>
            <a:ext cx="3745080" cy="26240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 txBox="1"/>
          <p:nvPr/>
        </p:nvSpPr>
        <p:spPr>
          <a:xfrm>
            <a:off x="1476360" y="0"/>
            <a:ext cx="626436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Задачи на отраж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468360" y="907920"/>
            <a:ext cx="2016000" cy="1309680"/>
            <a:chOff x="468360" y="907920"/>
            <a:chExt cx="2016000" cy="1309680"/>
          </a:xfrm>
        </p:grpSpPr>
        <p:sp>
          <p:nvSpPr>
            <p:cNvPr id="596" name=""/>
            <p:cNvSpPr/>
            <p:nvPr/>
          </p:nvSpPr>
          <p:spPr>
            <a:xfrm>
              <a:off x="468360" y="907920"/>
              <a:ext cx="28728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95640" y="2001960"/>
              <a:ext cx="2887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95280" y="4290840"/>
            <a:ext cx="3812760" cy="2379600"/>
            <a:chOff x="395280" y="4290840"/>
            <a:chExt cx="3812760" cy="2379600"/>
          </a:xfrm>
        </p:grpSpPr>
        <p:sp>
          <p:nvSpPr>
            <p:cNvPr id="599" name=""/>
            <p:cNvSpPr/>
            <p:nvPr/>
          </p:nvSpPr>
          <p:spPr>
            <a:xfrm>
              <a:off x="498960" y="4290840"/>
              <a:ext cx="301680" cy="34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281400" y="4847400"/>
              <a:ext cx="29844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95280" y="5846400"/>
              <a:ext cx="3812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д каким углом надо постави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зеркало, чтобы осветить дно к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лодца? Высота Солнца – 60</a:t>
              </a:r>
              <a:r>
                <a:rPr b="1" lang="ru-RU" sz="16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5046840" y="4221000"/>
            <a:ext cx="28872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020000" y="5661000"/>
            <a:ext cx="3585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022720" y="5788080"/>
            <a:ext cx="412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 каким углом на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ставить зеркало, чтобы осветить вход  в подъезд? Высота Солнца над горизонтом 4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932360" y="3068640"/>
            <a:ext cx="30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какой уг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о повернуть зерк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818240" y="3071880"/>
            <a:ext cx="3916080" cy="95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какой угол надо повернуть зерка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о, чтобы солнечный зайчик «пере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ыгнул» в окно второго этаж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95280" y="3068640"/>
            <a:ext cx="3747960" cy="98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 каким углом к горизонту на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положить зеркало, чтобы осве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ить вход в пещер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611280" y="189000"/>
            <a:ext cx="7921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ломление свет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9" name=""/>
          <p:cNvSpPr/>
          <p:nvPr/>
        </p:nvSpPr>
        <p:spPr>
          <a:xfrm>
            <a:off x="324000" y="981000"/>
            <a:ext cx="8496000" cy="576360"/>
          </a:xfrm>
          <a:prstGeom prst="rect">
            <a:avLst/>
          </a:prstGeom>
          <a:solidFill>
            <a:srgbClr val="ffffe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изменение направления луча при переходе из од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зрачной среды в друг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643280" y="5734080"/>
            <a:ext cx="360360" cy="57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276720" y="1844640"/>
            <a:ext cx="5616360" cy="4680000"/>
            <a:chOff x="3276720" y="1844640"/>
            <a:chExt cx="5616360" cy="4680000"/>
          </a:xfrm>
        </p:grpSpPr>
        <p:grpSp>
          <p:nvGrpSpPr>
            <p:cNvPr id="612" name=""/>
            <p:cNvGrpSpPr/>
            <p:nvPr/>
          </p:nvGrpSpPr>
          <p:grpSpPr>
            <a:xfrm>
              <a:off x="3276720" y="1844640"/>
              <a:ext cx="5616360" cy="4680000"/>
              <a:chOff x="3276720" y="1844640"/>
              <a:chExt cx="5616360" cy="46800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3276720" y="1844640"/>
                <a:ext cx="5616360" cy="4680000"/>
                <a:chOff x="3276720" y="1844640"/>
                <a:chExt cx="5616360" cy="468000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3276720" y="1844640"/>
                  <a:ext cx="5616360" cy="4680000"/>
                  <a:chOff x="3276720" y="1844640"/>
                  <a:chExt cx="5616360" cy="4680000"/>
                </a:xfrm>
              </p:grpSpPr>
              <p:grpSp>
                <p:nvGrpSpPr>
                  <p:cNvPr id="615" name=""/>
                  <p:cNvGrpSpPr/>
                  <p:nvPr/>
                </p:nvGrpSpPr>
                <p:grpSpPr>
                  <a:xfrm>
                    <a:off x="3276720" y="1844640"/>
                    <a:ext cx="5616360" cy="4680000"/>
                    <a:chOff x="3276720" y="1844640"/>
                    <a:chExt cx="5616360" cy="4680000"/>
                  </a:xfrm>
                </p:grpSpPr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3276720" y="1844640"/>
                      <a:ext cx="5543280" cy="4680000"/>
                    </a:xfrm>
                    <a:prstGeom prst="rect">
                      <a:avLst/>
                    </a:prstGeom>
                    <a:solidFill>
                      <a:srgbClr val="ffffef"/>
                    </a:solidFill>
                    <a:ln w="28440">
                      <a:solidFill>
                        <a:srgbClr val="0000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Monotype Corsiva"/>
                        </a:rPr>
                        <a:t>Первый закон преломлен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Лучи падающий и преломлённый лежат 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одной плоскости с перпендикуляром, прове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дённым в точке падения луча к плоск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раздела двух прозрачных сре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cc3300"/>
                          </a:solidFill>
                          <a:uFillTx/>
                          <a:latin typeface="Monotype Corsiva"/>
                        </a:rPr>
                        <a:t>Второй закон преломления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Угол преломления может быть меньше и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больше угла падения в зависимости от того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из какой среды в какую луч переходи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17" name=""/>
                    <p:cNvGrpSpPr/>
                    <p:nvPr/>
                  </p:nvGrpSpPr>
                  <p:grpSpPr>
                    <a:xfrm>
                      <a:off x="3635280" y="5300640"/>
                      <a:ext cx="5257800" cy="1108080"/>
                      <a:chOff x="3635280" y="5300640"/>
                      <a:chExt cx="5257800" cy="1108080"/>
                    </a:xfrm>
                  </p:grpSpPr>
                  <p:sp>
                    <p:nvSpPr>
                      <p:cNvPr id="618" name=""/>
                      <p:cNvSpPr/>
                      <p:nvPr/>
                    </p:nvSpPr>
                    <p:spPr>
                      <a:xfrm>
                        <a:off x="5867280" y="5616720"/>
                        <a:ext cx="3025800" cy="785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cc3300"/>
                            </a:solidFill>
                            <a:latin typeface="Arial"/>
                            <a:ea typeface="Arial"/>
                          </a:rPr>
                          <a:t>&lt;</a:t>
                        </a:r>
                        <a:r>
                          <a:rPr b="1" lang="ru-RU" sz="1800" spc="-1" strike="noStrike">
                            <a:solidFill>
                              <a:srgbClr val="cc3300"/>
                            </a:solidFill>
                            <a:latin typeface="Arial"/>
                            <a:ea typeface="Arial"/>
                          </a:rPr>
                          <a:t> </a:t>
                        </a:r>
                        <a:r>
                          <a:rPr b="1" lang="el-GR" sz="1800" spc="-1" strike="noStrike">
                            <a:solidFill>
                              <a:srgbClr val="cc3300"/>
                            </a:solidFill>
                            <a:latin typeface="Arial"/>
                            <a:ea typeface="Arial"/>
                          </a:rPr>
                          <a:t>α</a:t>
                        </a:r>
                        <a:r>
                          <a:rPr b="1" lang="ru-RU" sz="1800" spc="-1" strike="noStrike">
                            <a:solidFill>
                              <a:srgbClr val="cc3300"/>
                            </a:solidFill>
                            <a:latin typeface="Arial"/>
                            <a:ea typeface="Arial"/>
                          </a:rPr>
                          <a:t>- угол падения;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cc3300"/>
                            </a:solidFill>
                            <a:latin typeface="Arial"/>
                            <a:ea typeface="Arial"/>
                          </a:rPr>
                          <a:t>&lt;</a:t>
                        </a:r>
                        <a:r>
                          <a:rPr b="1" lang="ru-RU" sz="1800" spc="-1" strike="noStrike">
                            <a:solidFill>
                              <a:srgbClr val="cc3300"/>
                            </a:solidFill>
                            <a:latin typeface="Arial"/>
                            <a:ea typeface="Arial"/>
                          </a:rPr>
                          <a:t> </a:t>
                        </a:r>
                        <a:r>
                          <a:rPr b="1" lang="el-GR" sz="1800" spc="-1" strike="noStrike">
                            <a:solidFill>
                              <a:srgbClr val="cc3300"/>
                            </a:solidFill>
                            <a:latin typeface="Arial"/>
                            <a:ea typeface="Arial"/>
                          </a:rPr>
                          <a:t>γ</a:t>
                        </a:r>
                        <a:r>
                          <a:rPr b="1" lang="ru-RU" sz="1800" spc="-1" strike="noStrike">
                            <a:solidFill>
                              <a:srgbClr val="cc3300"/>
                            </a:solidFill>
                            <a:latin typeface="Arial"/>
                            <a:ea typeface="Arial"/>
                          </a:rPr>
                          <a:t> – угол преломления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619" name=""/>
                      <p:cNvGrpSpPr/>
                      <p:nvPr/>
                    </p:nvGrpSpPr>
                    <p:grpSpPr>
                      <a:xfrm>
                        <a:off x="3635280" y="5300640"/>
                        <a:ext cx="2016360" cy="1108080"/>
                        <a:chOff x="3635280" y="5300640"/>
                        <a:chExt cx="2016360" cy="1108080"/>
                      </a:xfrm>
                    </p:grpSpPr>
                    <p:grpSp>
                      <p:nvGrpSpPr>
                        <p:cNvPr id="620" name=""/>
                        <p:cNvGrpSpPr/>
                        <p:nvPr/>
                      </p:nvGrpSpPr>
                      <p:grpSpPr>
                        <a:xfrm>
                          <a:off x="3635280" y="5300640"/>
                          <a:ext cx="2016360" cy="1108080"/>
                          <a:chOff x="3635280" y="5300640"/>
                          <a:chExt cx="2016360" cy="1108080"/>
                        </a:xfrm>
                      </p:grpSpPr>
                      <p:sp>
                        <p:nvSpPr>
                          <p:cNvPr id="621" name=""/>
                          <p:cNvSpPr/>
                          <p:nvPr/>
                        </p:nvSpPr>
                        <p:spPr>
                          <a:xfrm>
                            <a:off x="3635280" y="5734080"/>
                            <a:ext cx="2016360" cy="647640"/>
                          </a:xfrm>
                          <a:prstGeom prst="rect">
                            <a:avLst/>
                          </a:prstGeom>
                          <a:blipFill rotWithShape="0">
                            <a:blip r:embed="rId1"/>
                            <a:srcRect/>
                            <a:tile tx="0" ty="0" sx="100000" sy="100000" algn="ctr"/>
                          </a:blipFill>
                          <a:ln w="9360">
                            <a:solidFill>
                              <a:srgbClr val="3333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2" name=""/>
                          <p:cNvSpPr/>
                          <p:nvPr/>
                        </p:nvSpPr>
                        <p:spPr>
                          <a:xfrm>
                            <a:off x="3708360" y="5300640"/>
                            <a:ext cx="934920" cy="43344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3333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3" name=""/>
                          <p:cNvSpPr/>
                          <p:nvPr/>
                        </p:nvSpPr>
                        <p:spPr>
                          <a:xfrm>
                            <a:off x="4643280" y="5300640"/>
                            <a:ext cx="0" cy="1081080"/>
                          </a:xfrm>
                          <a:prstGeom prst="line">
                            <a:avLst/>
                          </a:prstGeom>
                          <a:ln w="9360">
                            <a:solidFill>
                              <a:srgbClr val="cc3300"/>
                            </a:solidFill>
                            <a:prstDash val="dash"/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4" name=""/>
                          <p:cNvSpPr/>
                          <p:nvPr/>
                        </p:nvSpPr>
                        <p:spPr>
                          <a:xfrm>
                            <a:off x="4384800" y="5329080"/>
                            <a:ext cx="431640" cy="368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l-GR" sz="1800" spc="-1" strike="noStrike">
                                <a:solidFill>
                                  <a:srgbClr val="cc3300"/>
                                </a:solidFill>
                                <a:latin typeface="Arial"/>
                                <a:ea typeface="Arial"/>
                              </a:rPr>
                              <a:t>α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5" name=""/>
                          <p:cNvSpPr/>
                          <p:nvPr/>
                        </p:nvSpPr>
                        <p:spPr>
                          <a:xfrm>
                            <a:off x="4645440" y="6040440"/>
                            <a:ext cx="307080" cy="3682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l-GR" sz="1800" spc="-1" strike="noStrike">
                                <a:solidFill>
                                  <a:srgbClr val="cc3300"/>
                                </a:solidFill>
                                <a:latin typeface="Arial"/>
                                <a:ea typeface="Arial"/>
                              </a:rPr>
                              <a:t>γ</a:t>
                            </a: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6" name=""/>
                        <p:cNvSpPr/>
                        <p:nvPr/>
                      </p:nvSpPr>
                      <p:spPr>
                        <a:xfrm rot="20375400">
                          <a:off x="4268520" y="5416560"/>
                          <a:ext cx="380880" cy="69840"/>
                        </a:xfrm>
                        <a:prstGeom prst="blockArc">
                          <a:avLst>
                            <a:gd name="adj1" fmla="val 11862831"/>
                            <a:gd name="adj2" fmla="val 20537169"/>
                            <a:gd name="adj3" fmla="val 26389"/>
                          </a:avLst>
                        </a:prstGeom>
                        <a:solidFill>
                          <a:srgbClr val="bbe0e3"/>
                        </a:solidFill>
                        <a:ln w="9360">
                          <a:solidFill>
                            <a:srgbClr val="cc33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3040" bIns="230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27" name=""/>
                        <p:cNvSpPr/>
                        <p:nvPr/>
                      </p:nvSpPr>
                      <p:spPr>
                        <a:xfrm>
                          <a:off x="4613400" y="5950080"/>
                          <a:ext cx="245880" cy="179280"/>
                        </a:xfrm>
                        <a:prstGeom prst="blockArc">
                          <a:avLst>
                            <a:gd name="adj1" fmla="val 10800000"/>
                            <a:gd name="adj2" fmla="val 0"/>
                            <a:gd name="adj3" fmla="val 25000"/>
                          </a:avLst>
                        </a:prstGeom>
                        <a:solidFill>
                          <a:srgbClr val="bbe0e3"/>
                        </a:solidFill>
                        <a:ln w="28440">
                          <a:solidFill>
                            <a:srgbClr val="cc3300"/>
                          </a:solidFill>
                          <a:prstDash val="dash"/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628" name=""/>
                  <p:cNvSpPr/>
                  <p:nvPr/>
                </p:nvSpPr>
                <p:spPr>
                  <a:xfrm>
                    <a:off x="4037040" y="5459400"/>
                    <a:ext cx="247680" cy="11268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9" name=""/>
                <p:cNvSpPr/>
                <p:nvPr/>
              </p:nvSpPr>
              <p:spPr>
                <a:xfrm>
                  <a:off x="4643280" y="5734080"/>
                  <a:ext cx="414360" cy="6094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0" name=""/>
              <p:cNvSpPr/>
              <p:nvPr/>
            </p:nvSpPr>
            <p:spPr>
              <a:xfrm>
                <a:off x="4643280" y="6093000"/>
                <a:ext cx="28908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4788000" y="5950080"/>
              <a:ext cx="144360" cy="215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2" name="" descr=""/>
          <p:cNvPicPr/>
          <p:nvPr/>
        </p:nvPicPr>
        <p:blipFill>
          <a:blip r:embed="rId2"/>
          <a:stretch/>
        </p:blipFill>
        <p:spPr>
          <a:xfrm>
            <a:off x="395280" y="1843200"/>
            <a:ext cx="25812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 rot="21035400">
            <a:off x="1762200" y="468000"/>
            <a:ext cx="5413320" cy="4537080"/>
          </a:xfrm>
          <a:prstGeom prst="irregularSeal2">
            <a:avLst/>
          </a:prstGeom>
          <a:gradFill rotWithShape="0">
            <a:gsLst>
              <a:gs pos="0">
                <a:srgbClr val="f5eb9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4724280"/>
            <a:ext cx="2448000" cy="1944720"/>
          </a:xfrm>
          <a:prstGeom prst="rect">
            <a:avLst/>
          </a:prstGeom>
          <a:solidFill>
            <a:srgbClr val="009999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4040" y="4869000"/>
            <a:ext cx="1871640" cy="1655640"/>
          </a:xfrm>
          <a:prstGeom prst="roundRect">
            <a:avLst>
              <a:gd name="adj" fmla="val 16667"/>
            </a:avLst>
          </a:prstGeom>
          <a:solidFill>
            <a:srgbClr val="f5eb9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Благода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зр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мы вид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окружаю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нас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916360" y="2133720"/>
            <a:ext cx="295272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77254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Impact"/>
              </a:rPr>
              <a:t>Свет - излучение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77254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77254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Impact"/>
              </a:rPr>
              <a:t>видимое глазом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77254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333360"/>
            <a:ext cx="2232000" cy="1871640"/>
          </a:xfrm>
          <a:prstGeom prst="ellipse">
            <a:avLst/>
          </a:prstGeom>
          <a:solidFill>
            <a:srgbClr val="f5eb9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С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Солнца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ос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жизни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наш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план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27640" y="0"/>
            <a:ext cx="2916360" cy="2421000"/>
          </a:xfrm>
          <a:prstGeom prst="diamond">
            <a:avLst/>
          </a:prstGeom>
          <a:solidFill>
            <a:srgbClr val="f5eb9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С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далёких звёз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рассказ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об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Всел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307000">
            <a:off x="5182920" y="4508280"/>
            <a:ext cx="3960720" cy="1584360"/>
          </a:xfrm>
          <a:prstGeom prst="ellipse">
            <a:avLst/>
          </a:prstGeom>
          <a:solidFill>
            <a:srgbClr val="f5eb9f"/>
          </a:solidFill>
          <a:ln w="28440">
            <a:solidFill>
              <a:srgbClr val="7243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Видимый с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обладает энерги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которая поглощ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"/>
              </a:rPr>
              <a:t>те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771640" y="260280"/>
            <a:ext cx="18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0000"/>
                </a:solidFill>
                <a:latin typeface="Times New Roman"/>
              </a:rPr>
              <a:t>Оптика -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0000"/>
              </a:solidFill>
              <a:latin typeface="Times New Roman"/>
              <a:ea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5280" y="3068640"/>
            <a:ext cx="1352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0000"/>
                </a:solidFill>
                <a:latin typeface="Times New Roman"/>
              </a:rPr>
              <a:t>раздел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0000"/>
              </a:solidFill>
              <a:latin typeface="Times New Roman"/>
              <a:ea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020000" y="3068640"/>
            <a:ext cx="167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0000"/>
                </a:solidFill>
                <a:latin typeface="Times New Roman"/>
              </a:rPr>
              <a:t>физики,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0000"/>
              </a:solidFill>
              <a:latin typeface="Times New Roman"/>
              <a:ea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19640" y="479736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03640" y="5373720"/>
            <a:ext cx="2438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0000"/>
                </a:solidFill>
                <a:latin typeface="Times New Roman"/>
              </a:rPr>
              <a:t>изучающий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990000"/>
                </a:solidFill>
                <a:latin typeface="Times New Roman"/>
              </a:rPr>
              <a:t>свет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99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324000" y="981000"/>
            <a:ext cx="4032000" cy="5543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16360" y="981000"/>
            <a:ext cx="4103640" cy="5543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68360" y="10526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Задан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076720" y="1052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Задание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8040" y="154152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уч из воздуха попадает в во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 находится плоское зерк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Найдите дальнейший ход лу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Постройте ход луча в тетради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блюдением масшта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Как и где он обнаружи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Какие изменения происходят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учо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572000" y="407664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716360" y="1557360"/>
            <a:ext cx="424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уч из воды попадает в возду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де находится плоское зерк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йдите дальнейший ход лу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тройте ход луча в тетради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блюдением масшта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Что будет, если на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да луча изменить на обратн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95280" y="260280"/>
            <a:ext cx="8424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6633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оверь себя!</a:t>
            </a:r>
            <a:endParaRPr b="1" lang="en-US" sz="1800" spc="1" strike="noStrike">
              <a:ln w="22320">
                <a:solidFill>
                  <a:srgbClr val="6633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401760" y="3789360"/>
            <a:ext cx="3882960" cy="266688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2"/>
          <a:stretch/>
        </p:blipFill>
        <p:spPr>
          <a:xfrm>
            <a:off x="4788000" y="3789360"/>
            <a:ext cx="3960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cc66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"/>
          <p:cNvGrpSpPr/>
          <p:nvPr/>
        </p:nvGrpSpPr>
        <p:grpSpPr>
          <a:xfrm>
            <a:off x="324000" y="5013360"/>
            <a:ext cx="8583840" cy="1674000"/>
            <a:chOff x="324000" y="5013360"/>
            <a:chExt cx="8583840" cy="1674000"/>
          </a:xfrm>
        </p:grpSpPr>
        <p:grpSp>
          <p:nvGrpSpPr>
            <p:cNvPr id="644" name=""/>
            <p:cNvGrpSpPr/>
            <p:nvPr/>
          </p:nvGrpSpPr>
          <p:grpSpPr>
            <a:xfrm>
              <a:off x="324000" y="5013360"/>
              <a:ext cx="8583840" cy="1655280"/>
              <a:chOff x="324000" y="5013360"/>
              <a:chExt cx="8583840" cy="1655280"/>
            </a:xfrm>
          </p:grpSpPr>
          <p:grpSp>
            <p:nvGrpSpPr>
              <p:cNvPr id="645" name=""/>
              <p:cNvGrpSpPr/>
              <p:nvPr/>
            </p:nvGrpSpPr>
            <p:grpSpPr>
              <a:xfrm>
                <a:off x="2484360" y="5084640"/>
                <a:ext cx="1450440" cy="1235160"/>
                <a:chOff x="2484360" y="5084640"/>
                <a:chExt cx="1450440" cy="1235160"/>
              </a:xfrm>
            </p:grpSpPr>
            <p:sp>
              <p:nvSpPr>
                <p:cNvPr id="646" name=""/>
                <p:cNvSpPr/>
                <p:nvPr/>
              </p:nvSpPr>
              <p:spPr>
                <a:xfrm rot="16200000">
                  <a:off x="2988720" y="5373720"/>
                  <a:ext cx="1100160" cy="79200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484360" y="5084640"/>
                  <a:ext cx="288720" cy="289080"/>
                </a:xfrm>
                <a:prstGeom prst="ellipse">
                  <a:avLst/>
                </a:prstGeom>
                <a:noFill/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8" name=""/>
              <p:cNvSpPr/>
              <p:nvPr/>
            </p:nvSpPr>
            <p:spPr>
              <a:xfrm>
                <a:off x="5164200" y="5013360"/>
                <a:ext cx="1099800" cy="792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6819840" y="5084640"/>
                <a:ext cx="2088000" cy="505080"/>
                <a:chOff x="6819840" y="5084640"/>
                <a:chExt cx="2088000" cy="50508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6819840" y="5084640"/>
                  <a:ext cx="288720" cy="287640"/>
                </a:xfrm>
                <a:prstGeom prst="ellipse">
                  <a:avLst/>
                </a:prstGeom>
                <a:noFill/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>
                  <a:off x="8187480" y="5373720"/>
                  <a:ext cx="720360" cy="21600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324000" y="5184720"/>
                <a:ext cx="1660320" cy="1483920"/>
                <a:chOff x="324000" y="5184720"/>
                <a:chExt cx="1660320" cy="1483920"/>
              </a:xfrm>
            </p:grpSpPr>
            <p:sp>
              <p:nvSpPr>
                <p:cNvPr id="653" name=""/>
                <p:cNvSpPr/>
                <p:nvPr/>
              </p:nvSpPr>
              <p:spPr>
                <a:xfrm rot="2200800">
                  <a:off x="756720" y="5445000"/>
                  <a:ext cx="1099800" cy="7923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4" name=""/>
                <p:cNvGrpSpPr/>
                <p:nvPr/>
              </p:nvGrpSpPr>
              <p:grpSpPr>
                <a:xfrm>
                  <a:off x="324000" y="5184720"/>
                  <a:ext cx="1555560" cy="1197000"/>
                  <a:chOff x="324000" y="5184720"/>
                  <a:chExt cx="1555560" cy="119700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 flipV="1">
                    <a:off x="324000" y="6165720"/>
                    <a:ext cx="720720" cy="21600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1521000" y="5184720"/>
                    <a:ext cx="358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?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7" name=""/>
                <p:cNvSpPr/>
                <p:nvPr/>
              </p:nvSpPr>
              <p:spPr>
                <a:xfrm flipH="1" flipV="1">
                  <a:off x="1692000" y="6237000"/>
                  <a:ext cx="288360" cy="431640"/>
                </a:xfrm>
                <a:prstGeom prst="line">
                  <a:avLst/>
                </a:prstGeom>
                <a:ln w="9360">
                  <a:solidFill>
                    <a:srgbClr val="3333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8" name=""/>
            <p:cNvGrpSpPr/>
            <p:nvPr/>
          </p:nvGrpSpPr>
          <p:grpSpPr>
            <a:xfrm>
              <a:off x="4586400" y="5114880"/>
              <a:ext cx="1209600" cy="690480"/>
              <a:chOff x="4586400" y="5114880"/>
              <a:chExt cx="1209600" cy="690480"/>
            </a:xfrm>
          </p:grpSpPr>
          <p:sp>
            <p:nvSpPr>
              <p:cNvPr id="659" name=""/>
              <p:cNvSpPr/>
              <p:nvPr/>
            </p:nvSpPr>
            <p:spPr>
              <a:xfrm>
                <a:off x="4586400" y="5114880"/>
                <a:ext cx="287280" cy="287280"/>
              </a:xfrm>
              <a:prstGeom prst="ellipse">
                <a:avLst/>
              </a:prstGeom>
              <a:noFill/>
              <a:ln w="93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435640" y="5229360"/>
                <a:ext cx="360360" cy="576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rot="2200800">
              <a:off x="7308720" y="5444640"/>
              <a:ext cx="1100160" cy="792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115800" y="5661000"/>
              <a:ext cx="792360" cy="2160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093760" y="6350040"/>
              <a:ext cx="424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Это более плотная оптическая сре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68360" y="1989000"/>
            <a:ext cx="7920000" cy="7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68360" y="981000"/>
            <a:ext cx="7920000" cy="71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476360" y="260280"/>
            <a:ext cx="5448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опыте установлено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97000" y="981000"/>
            <a:ext cx="82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розрачных средах свет распространяется с разной скор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Самая большая скорость – в вакууме (300 000 км/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а считаетс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птически более плотной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если скорость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ней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меньш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чем в данной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68360" y="3068640"/>
            <a:ext cx="7920000" cy="86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более плотной оптической среде всегд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гол пад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лом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ния меньш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чем в менее плотной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68360" y="4076640"/>
            <a:ext cx="792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Постройте отражённый и преломлённый лучи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в приведённых случаях :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5252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8000" y="6669000"/>
            <a:ext cx="41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826920" y="5444640"/>
            <a:ext cx="1009800" cy="1083240"/>
            <a:chOff x="826920" y="5444640"/>
            <a:chExt cx="1009800" cy="1083240"/>
          </a:xfrm>
        </p:grpSpPr>
        <p:sp>
          <p:nvSpPr>
            <p:cNvPr id="673" name=""/>
            <p:cNvSpPr/>
            <p:nvPr/>
          </p:nvSpPr>
          <p:spPr>
            <a:xfrm flipH="1">
              <a:off x="826920" y="5880240"/>
              <a:ext cx="432000" cy="647640"/>
            </a:xfrm>
            <a:prstGeom prst="line">
              <a:avLst/>
            </a:prstGeom>
            <a:ln w="936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1042920" y="5660640"/>
              <a:ext cx="671760" cy="5079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1476360" y="5444640"/>
              <a:ext cx="360360" cy="505080"/>
            </a:xfrm>
            <a:prstGeom prst="line">
              <a:avLst/>
            </a:prstGeom>
            <a:ln w="1908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 flipV="1">
            <a:off x="1692360" y="5373720"/>
            <a:ext cx="576000" cy="287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7308720" y="5229360"/>
            <a:ext cx="1217520" cy="1101600"/>
            <a:chOff x="7308720" y="5229360"/>
            <a:chExt cx="1217520" cy="1101600"/>
          </a:xfrm>
        </p:grpSpPr>
        <p:sp>
          <p:nvSpPr>
            <p:cNvPr id="678" name=""/>
            <p:cNvSpPr/>
            <p:nvPr/>
          </p:nvSpPr>
          <p:spPr>
            <a:xfrm flipH="1">
              <a:off x="7950240" y="5229360"/>
              <a:ext cx="576000" cy="647640"/>
            </a:xfrm>
            <a:prstGeom prst="line">
              <a:avLst/>
            </a:prstGeom>
            <a:ln w="1908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7517880" y="5589720"/>
              <a:ext cx="647640" cy="503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7308720" y="5734080"/>
              <a:ext cx="496800" cy="596880"/>
            </a:xfrm>
            <a:prstGeom prst="line">
              <a:avLst/>
            </a:prstGeom>
            <a:ln w="1908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 flipH="1">
            <a:off x="6876720" y="6093000"/>
            <a:ext cx="647640" cy="215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5796000" y="5373720"/>
            <a:ext cx="504720" cy="755640"/>
            <a:chOff x="5796000" y="5373720"/>
            <a:chExt cx="504720" cy="755640"/>
          </a:xfrm>
        </p:grpSpPr>
        <p:sp>
          <p:nvSpPr>
            <p:cNvPr id="683" name=""/>
            <p:cNvSpPr/>
            <p:nvPr/>
          </p:nvSpPr>
          <p:spPr>
            <a:xfrm flipH="1">
              <a:off x="5796000" y="5373720"/>
              <a:ext cx="9360" cy="755640"/>
            </a:xfrm>
            <a:prstGeom prst="line">
              <a:avLst/>
            </a:prstGeom>
            <a:ln w="1908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796000" y="5805360"/>
              <a:ext cx="504720" cy="21600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2771640" y="5300280"/>
            <a:ext cx="792360" cy="360720"/>
            <a:chOff x="2771640" y="5300280"/>
            <a:chExt cx="792360" cy="360720"/>
          </a:xfrm>
        </p:grpSpPr>
        <p:sp>
          <p:nvSpPr>
            <p:cNvPr id="686" name=""/>
            <p:cNvSpPr/>
            <p:nvPr/>
          </p:nvSpPr>
          <p:spPr>
            <a:xfrm>
              <a:off x="2771640" y="5661000"/>
              <a:ext cx="792360" cy="0"/>
            </a:xfrm>
            <a:prstGeom prst="line">
              <a:avLst/>
            </a:prstGeom>
            <a:ln w="1908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>
              <a:off x="2843280" y="5300280"/>
              <a:ext cx="288720" cy="3603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9" dur="8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1" dur="8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6" dur="8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7" dur="8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8" dur="8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1" dur="8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2" dur="8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8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8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3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8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" descr=""/>
          <p:cNvPicPr/>
          <p:nvPr/>
        </p:nvPicPr>
        <p:blipFill>
          <a:blip r:embed="rId1"/>
          <a:stretch/>
        </p:blipFill>
        <p:spPr>
          <a:xfrm>
            <a:off x="0" y="1811160"/>
            <a:ext cx="9144000" cy="507384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9144000" y="0"/>
            <a:ext cx="0" cy="508464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219640" y="1052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отник целится в камень  на дне пруда. Как на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иться, чтобы пу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пала в каме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 flipV="1">
            <a:off x="4699080" y="1138320"/>
            <a:ext cx="17280" cy="571968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95280" y="1052640"/>
            <a:ext cx="368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квалангист из ружья д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водной охоты хо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пасть стрелой в яблоко, висящее над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надо цел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тобы стр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пал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бл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332000" y="142920"/>
            <a:ext cx="69120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образи  !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7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20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20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20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20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eb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"/>
          <p:cNvGrpSpPr/>
          <p:nvPr/>
        </p:nvGrpSpPr>
        <p:grpSpPr>
          <a:xfrm>
            <a:off x="0" y="5159520"/>
            <a:ext cx="4284720" cy="3087360"/>
            <a:chOff x="0" y="5159520"/>
            <a:chExt cx="4284720" cy="3087360"/>
          </a:xfrm>
        </p:grpSpPr>
        <p:grpSp>
          <p:nvGrpSpPr>
            <p:cNvPr id="696" name=""/>
            <p:cNvGrpSpPr/>
            <p:nvPr/>
          </p:nvGrpSpPr>
          <p:grpSpPr>
            <a:xfrm>
              <a:off x="0" y="5159520"/>
              <a:ext cx="4100400" cy="3087360"/>
              <a:chOff x="0" y="5159520"/>
              <a:chExt cx="4100400" cy="3087360"/>
            </a:xfrm>
          </p:grpSpPr>
          <p:sp>
            <p:nvSpPr>
              <p:cNvPr id="697" name=""/>
              <p:cNvSpPr/>
              <p:nvPr/>
            </p:nvSpPr>
            <p:spPr>
              <a:xfrm rot="7794000">
                <a:off x="741240" y="5562360"/>
                <a:ext cx="1954080" cy="235764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8" name=""/>
              <p:cNvGrpSpPr/>
              <p:nvPr/>
            </p:nvGrpSpPr>
            <p:grpSpPr>
              <a:xfrm>
                <a:off x="0" y="5159520"/>
                <a:ext cx="4100400" cy="1569960"/>
                <a:chOff x="0" y="5159520"/>
                <a:chExt cx="4100400" cy="15699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1273320" y="5303880"/>
                  <a:ext cx="502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90</a:t>
                  </a:r>
                  <a:r>
                    <a:rPr b="1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0" name=""/>
                <p:cNvGrpSpPr/>
                <p:nvPr/>
              </p:nvGrpSpPr>
              <p:grpSpPr>
                <a:xfrm>
                  <a:off x="0" y="5159520"/>
                  <a:ext cx="4100400" cy="1569960"/>
                  <a:chOff x="0" y="5159520"/>
                  <a:chExt cx="4100400" cy="156996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>
                    <a:off x="85680" y="6701040"/>
                    <a:ext cx="4014720" cy="19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279360" y="5938920"/>
                    <a:ext cx="865080" cy="790560"/>
                  </a:xfrm>
                  <a:prstGeom prst="line">
                    <a:avLst/>
                  </a:prstGeom>
                  <a:ln w="28440">
                    <a:solidFill>
                      <a:srgbClr val="3333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243000" y="5577120"/>
                    <a:ext cx="1157040" cy="111456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257040" y="5234040"/>
                    <a:ext cx="1579680" cy="1467000"/>
                  </a:xfrm>
                  <a:prstGeom prst="line">
                    <a:avLst/>
                  </a:prstGeom>
                  <a:ln w="28440">
                    <a:solidFill>
                      <a:srgbClr val="996633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0" y="5159520"/>
                    <a:ext cx="323640" cy="832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6" name=""/>
            <p:cNvSpPr/>
            <p:nvPr/>
          </p:nvSpPr>
          <p:spPr>
            <a:xfrm>
              <a:off x="3205080" y="6670440"/>
              <a:ext cx="1079640" cy="131400"/>
            </a:xfrm>
            <a:prstGeom prst="rect">
              <a:avLst/>
            </a:prstGeom>
            <a:solidFill>
              <a:srgbClr val="f9f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2840" y="6599160"/>
              <a:ext cx="185760" cy="188640"/>
            </a:xfrm>
            <a:prstGeom prst="rect">
              <a:avLst/>
            </a:prstGeom>
            <a:solidFill>
              <a:srgbClr val="f9f2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6300720" y="3122640"/>
            <a:ext cx="2303640" cy="302400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5003640" y="692280"/>
            <a:ext cx="3500280" cy="2016000"/>
            <a:chOff x="5003640" y="692280"/>
            <a:chExt cx="3500280" cy="2016000"/>
          </a:xfrm>
        </p:grpSpPr>
        <p:grpSp>
          <p:nvGrpSpPr>
            <p:cNvPr id="710" name=""/>
            <p:cNvGrpSpPr/>
            <p:nvPr/>
          </p:nvGrpSpPr>
          <p:grpSpPr>
            <a:xfrm>
              <a:off x="5263920" y="692280"/>
              <a:ext cx="3240000" cy="2016000"/>
              <a:chOff x="5263920" y="692280"/>
              <a:chExt cx="3240000" cy="2016000"/>
            </a:xfrm>
          </p:grpSpPr>
          <p:sp>
            <p:nvSpPr>
              <p:cNvPr id="711" name=""/>
              <p:cNvSpPr/>
              <p:nvPr/>
            </p:nvSpPr>
            <p:spPr>
              <a:xfrm>
                <a:off x="5622840" y="692280"/>
                <a:ext cx="2881080" cy="2016000"/>
              </a:xfrm>
              <a:prstGeom prst="triangle">
                <a:avLst>
                  <a:gd name="adj" fmla="val 48046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2" name=""/>
              <p:cNvGrpSpPr/>
              <p:nvPr/>
            </p:nvGrpSpPr>
            <p:grpSpPr>
              <a:xfrm>
                <a:off x="5263920" y="1844640"/>
                <a:ext cx="3240000" cy="863640"/>
                <a:chOff x="5263920" y="1844640"/>
                <a:chExt cx="3240000" cy="86364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622840" y="2708280"/>
                  <a:ext cx="28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263920" y="1844640"/>
                  <a:ext cx="936720" cy="0"/>
                </a:xfrm>
                <a:prstGeom prst="line">
                  <a:avLst/>
                </a:prstGeom>
                <a:ln w="2844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622840" y="1844640"/>
                  <a:ext cx="215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263920" y="2133720"/>
                  <a:ext cx="792000" cy="0"/>
                </a:xfrm>
                <a:prstGeom prst="line">
                  <a:avLst/>
                </a:prstGeom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551200" y="2133720"/>
                  <a:ext cx="216000" cy="0"/>
                </a:xfrm>
                <a:prstGeom prst="line">
                  <a:avLst/>
                </a:prstGeom>
                <a:ln w="9360">
                  <a:solidFill>
                    <a:srgbClr val="008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V="1">
                  <a:off x="5292360" y="2385720"/>
                  <a:ext cx="594000" cy="6120"/>
                </a:xfrm>
                <a:prstGeom prst="line">
                  <a:avLst/>
                </a:prstGeom>
                <a:ln w="2844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493960" y="2378160"/>
                  <a:ext cx="216000" cy="0"/>
                </a:xfrm>
                <a:prstGeom prst="line">
                  <a:avLst/>
                </a:prstGeom>
                <a:ln w="9360">
                  <a:solidFill>
                    <a:srgbClr val="9966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0" name=""/>
            <p:cNvSpPr/>
            <p:nvPr/>
          </p:nvSpPr>
          <p:spPr>
            <a:xfrm>
              <a:off x="5003640" y="1685880"/>
              <a:ext cx="36036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179280" y="1557360"/>
            <a:ext cx="2089080" cy="2736720"/>
            <a:chOff x="179280" y="1557360"/>
            <a:chExt cx="2089080" cy="2736720"/>
          </a:xfrm>
        </p:grpSpPr>
        <p:sp>
          <p:nvSpPr>
            <p:cNvPr id="722" name=""/>
            <p:cNvSpPr/>
            <p:nvPr/>
          </p:nvSpPr>
          <p:spPr>
            <a:xfrm>
              <a:off x="468360" y="1557360"/>
              <a:ext cx="1800000" cy="273672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179280" y="2852280"/>
              <a:ext cx="792360" cy="289080"/>
              <a:chOff x="179280" y="2852280"/>
              <a:chExt cx="792360" cy="289080"/>
            </a:xfrm>
          </p:grpSpPr>
          <p:sp>
            <p:nvSpPr>
              <p:cNvPr id="724" name=""/>
              <p:cNvSpPr/>
              <p:nvPr/>
            </p:nvSpPr>
            <p:spPr>
              <a:xfrm flipV="1">
                <a:off x="179280" y="2852280"/>
                <a:ext cx="792360" cy="28908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82760" y="2952360"/>
                <a:ext cx="215640" cy="7308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"/>
          <p:cNvSpPr txBox="1"/>
          <p:nvPr/>
        </p:nvSpPr>
        <p:spPr>
          <a:xfrm>
            <a:off x="395280" y="0"/>
            <a:ext cx="53341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000000"/>
                  </a:outerShdw>
                </a:effectLst>
                <a:latin typeface="Arial"/>
              </a:rPr>
              <a:t>Преломление в призме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059280" y="1268280"/>
            <a:ext cx="1946160" cy="302004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 приз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ходя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луч все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отклон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к  е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осн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50920" y="2565360"/>
            <a:ext cx="1620720" cy="577800"/>
            <a:chOff x="250920" y="2565360"/>
            <a:chExt cx="1620720" cy="577800"/>
          </a:xfrm>
        </p:grpSpPr>
        <p:sp>
          <p:nvSpPr>
            <p:cNvPr id="729" name=""/>
            <p:cNvSpPr/>
            <p:nvPr/>
          </p:nvSpPr>
          <p:spPr>
            <a:xfrm>
              <a:off x="250920" y="2565360"/>
              <a:ext cx="1008000" cy="43200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71640" y="2852640"/>
              <a:ext cx="900000" cy="29052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403280" y="2997360"/>
              <a:ext cx="216000" cy="71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1476360" y="2923920"/>
            <a:ext cx="1366920" cy="1009800"/>
            <a:chOff x="1476360" y="2923920"/>
            <a:chExt cx="1366920" cy="1009800"/>
          </a:xfrm>
        </p:grpSpPr>
        <p:sp>
          <p:nvSpPr>
            <p:cNvPr id="733" name=""/>
            <p:cNvSpPr/>
            <p:nvPr/>
          </p:nvSpPr>
          <p:spPr>
            <a:xfrm flipV="1">
              <a:off x="1476360" y="2923920"/>
              <a:ext cx="1008000" cy="36036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1835280" y="3141720"/>
              <a:ext cx="1008000" cy="792000"/>
              <a:chOff x="1835280" y="3141720"/>
              <a:chExt cx="1008000" cy="792000"/>
            </a:xfrm>
          </p:grpSpPr>
          <p:sp>
            <p:nvSpPr>
              <p:cNvPr id="735" name=""/>
              <p:cNvSpPr/>
              <p:nvPr/>
            </p:nvSpPr>
            <p:spPr>
              <a:xfrm>
                <a:off x="1835280" y="3141720"/>
                <a:ext cx="1008000" cy="79200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254320" y="3486240"/>
                <a:ext cx="185760" cy="1299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7" name=""/>
          <p:cNvGrpSpPr/>
          <p:nvPr/>
        </p:nvGrpSpPr>
        <p:grpSpPr>
          <a:xfrm>
            <a:off x="6848640" y="4292640"/>
            <a:ext cx="1395360" cy="2566080"/>
            <a:chOff x="6848640" y="4292640"/>
            <a:chExt cx="1395360" cy="2566080"/>
          </a:xfrm>
        </p:grpSpPr>
        <p:grpSp>
          <p:nvGrpSpPr>
            <p:cNvPr id="738" name=""/>
            <p:cNvGrpSpPr/>
            <p:nvPr/>
          </p:nvGrpSpPr>
          <p:grpSpPr>
            <a:xfrm>
              <a:off x="6848640" y="4292640"/>
              <a:ext cx="914400" cy="2305080"/>
              <a:chOff x="6848640" y="4292640"/>
              <a:chExt cx="914400" cy="230508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6848640" y="4292640"/>
                <a:ext cx="914400" cy="2302920"/>
                <a:chOff x="6848640" y="4292640"/>
                <a:chExt cx="914400" cy="2302920"/>
              </a:xfrm>
            </p:grpSpPr>
            <p:sp>
              <p:nvSpPr>
                <p:cNvPr id="740" name=""/>
                <p:cNvSpPr/>
                <p:nvPr/>
              </p:nvSpPr>
              <p:spPr>
                <a:xfrm flipV="1">
                  <a:off x="6848640" y="4292640"/>
                  <a:ext cx="857160" cy="779040"/>
                </a:xfrm>
                <a:prstGeom prst="line">
                  <a:avLst/>
                </a:prstGeom>
                <a:ln w="28440">
                  <a:solidFill>
                    <a:srgbClr val="cc33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7331400" y="4579560"/>
                  <a:ext cx="0" cy="201600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7547400" y="4867200"/>
                  <a:ext cx="0" cy="172836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763040" y="5155920"/>
                  <a:ext cx="0" cy="1439640"/>
                </a:xfrm>
                <a:prstGeom prst="line">
                  <a:avLst/>
                </a:prstGeom>
                <a:ln w="3816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7323120" y="6453360"/>
                <a:ext cx="0" cy="14436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543800" y="6458040"/>
                <a:ext cx="0" cy="128520"/>
              </a:xfrm>
              <a:prstGeom prst="line">
                <a:avLst/>
              </a:prstGeom>
              <a:ln w="9360">
                <a:solidFill>
                  <a:srgbClr val="00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758360" y="6458040"/>
                <a:ext cx="0" cy="10008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7020000" y="6521400"/>
              <a:ext cx="122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1  2 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5205240" y="3141720"/>
            <a:ext cx="3399120" cy="2995560"/>
            <a:chOff x="5205240" y="3141720"/>
            <a:chExt cx="3399120" cy="2995560"/>
          </a:xfrm>
        </p:grpSpPr>
        <p:sp>
          <p:nvSpPr>
            <p:cNvPr id="749" name=""/>
            <p:cNvSpPr/>
            <p:nvPr/>
          </p:nvSpPr>
          <p:spPr>
            <a:xfrm>
              <a:off x="5508720" y="4552920"/>
              <a:ext cx="18716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508720" y="4840200"/>
              <a:ext cx="208764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508720" y="5129280"/>
              <a:ext cx="2303280" cy="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05240" y="4336920"/>
              <a:ext cx="43200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300720" y="3141720"/>
              <a:ext cx="2303640" cy="2995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601200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796000" y="1484280"/>
            <a:ext cx="2016000" cy="1225440"/>
            <a:chOff x="5796000" y="1484280"/>
            <a:chExt cx="2016000" cy="1225440"/>
          </a:xfrm>
        </p:grpSpPr>
        <p:sp>
          <p:nvSpPr>
            <p:cNvPr id="756" name=""/>
            <p:cNvSpPr/>
            <p:nvPr/>
          </p:nvSpPr>
          <p:spPr>
            <a:xfrm>
              <a:off x="5796000" y="1484280"/>
              <a:ext cx="792000" cy="647640"/>
            </a:xfrm>
            <a:prstGeom prst="line">
              <a:avLst/>
            </a:prstGeom>
            <a:ln w="1908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867280" y="1844640"/>
              <a:ext cx="1944720" cy="865080"/>
              <a:chOff x="5867280" y="1844640"/>
              <a:chExt cx="1944720" cy="865080"/>
            </a:xfrm>
          </p:grpSpPr>
          <p:sp>
            <p:nvSpPr>
              <p:cNvPr id="758" name=""/>
              <p:cNvSpPr/>
              <p:nvPr/>
            </p:nvSpPr>
            <p:spPr>
              <a:xfrm>
                <a:off x="6243480" y="1844640"/>
                <a:ext cx="1568520" cy="8650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843600" y="2144520"/>
                <a:ext cx="200160" cy="114480"/>
              </a:xfrm>
              <a:prstGeom prst="line">
                <a:avLst/>
              </a:prstGeom>
              <a:ln w="93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084720" y="2135160"/>
                <a:ext cx="1079640" cy="574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443640" y="2350800"/>
                <a:ext cx="289080" cy="1429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867280" y="2350800"/>
                <a:ext cx="649440" cy="358920"/>
              </a:xfrm>
              <a:prstGeom prst="line">
                <a:avLst/>
              </a:prstGeom>
              <a:ln w="2844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070680" y="2450880"/>
                <a:ext cx="187200" cy="10800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6588000" y="1844280"/>
            <a:ext cx="1741680" cy="1153080"/>
            <a:chOff x="6588000" y="1844280"/>
            <a:chExt cx="1741680" cy="1153080"/>
          </a:xfrm>
        </p:grpSpPr>
        <p:sp>
          <p:nvSpPr>
            <p:cNvPr id="765" name=""/>
            <p:cNvSpPr/>
            <p:nvPr/>
          </p:nvSpPr>
          <p:spPr>
            <a:xfrm>
              <a:off x="7783560" y="2276640"/>
              <a:ext cx="0" cy="720720"/>
            </a:xfrm>
            <a:prstGeom prst="line">
              <a:avLst/>
            </a:prstGeom>
            <a:ln w="1908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7783560" y="2390760"/>
              <a:ext cx="546120" cy="3031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7164360" y="2133720"/>
              <a:ext cx="936720" cy="5745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6588000" y="1844280"/>
              <a:ext cx="1297080" cy="86364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7885080" y="1743120"/>
            <a:ext cx="1087560" cy="832320"/>
            <a:chOff x="7885080" y="1743120"/>
            <a:chExt cx="1087560" cy="832320"/>
          </a:xfrm>
        </p:grpSpPr>
        <p:sp>
          <p:nvSpPr>
            <p:cNvPr id="770" name=""/>
            <p:cNvSpPr/>
            <p:nvPr/>
          </p:nvSpPr>
          <p:spPr>
            <a:xfrm>
              <a:off x="8317080" y="2421000"/>
              <a:ext cx="3585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7885080" y="1743120"/>
              <a:ext cx="1087560" cy="832320"/>
              <a:chOff x="7885080" y="1743120"/>
              <a:chExt cx="1087560" cy="832320"/>
            </a:xfrm>
          </p:grpSpPr>
          <p:sp>
            <p:nvSpPr>
              <p:cNvPr id="772" name=""/>
              <p:cNvSpPr/>
              <p:nvPr/>
            </p:nvSpPr>
            <p:spPr>
              <a:xfrm flipV="1">
                <a:off x="8115480" y="2157120"/>
                <a:ext cx="556920" cy="468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885080" y="1844640"/>
                <a:ext cx="719280" cy="0"/>
              </a:xfrm>
              <a:prstGeom prst="line">
                <a:avLst/>
              </a:prstGeom>
              <a:ln w="28440">
                <a:solidFill>
                  <a:srgbClr val="99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577360" y="1743120"/>
                <a:ext cx="395280" cy="83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"/>
          <p:cNvSpPr/>
          <p:nvPr/>
        </p:nvSpPr>
        <p:spPr>
          <a:xfrm>
            <a:off x="2354400" y="4226040"/>
            <a:ext cx="37447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Какую роль исполн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призмы 1 – 4  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раз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опт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устройств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116000" y="4875840"/>
            <a:ext cx="2169720" cy="1780200"/>
            <a:chOff x="1116000" y="4875840"/>
            <a:chExt cx="2169720" cy="1780200"/>
          </a:xfrm>
        </p:grpSpPr>
        <p:sp>
          <p:nvSpPr>
            <p:cNvPr id="777" name=""/>
            <p:cNvSpPr/>
            <p:nvPr/>
          </p:nvSpPr>
          <p:spPr>
            <a:xfrm flipV="1">
              <a:off x="1881360" y="5660640"/>
              <a:ext cx="963360" cy="925560"/>
            </a:xfrm>
            <a:prstGeom prst="line">
              <a:avLst/>
            </a:prstGeom>
            <a:ln w="2844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"/>
            <p:cNvGrpSpPr/>
            <p:nvPr/>
          </p:nvGrpSpPr>
          <p:grpSpPr>
            <a:xfrm>
              <a:off x="1116000" y="4875840"/>
              <a:ext cx="2169720" cy="1780200"/>
              <a:chOff x="1116000" y="4875840"/>
              <a:chExt cx="2169720" cy="1780200"/>
            </a:xfrm>
          </p:grpSpPr>
          <p:sp>
            <p:nvSpPr>
              <p:cNvPr id="779" name=""/>
              <p:cNvSpPr/>
              <p:nvPr/>
            </p:nvSpPr>
            <p:spPr>
              <a:xfrm flipV="1">
                <a:off x="1477800" y="5505120"/>
                <a:ext cx="1150920" cy="11509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1116000" y="5289120"/>
                <a:ext cx="1343160" cy="13575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9221600">
                <a:off x="2574360" y="4940640"/>
                <a:ext cx="503280" cy="83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2" name=""/>
          <p:cNvSpPr/>
          <p:nvPr/>
        </p:nvSpPr>
        <p:spPr>
          <a:xfrm>
            <a:off x="3203640" y="6858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203640" y="6697800"/>
            <a:ext cx="936720" cy="0"/>
          </a:xfrm>
          <a:prstGeom prst="line">
            <a:avLst/>
          </a:prstGeom>
          <a:ln w="76320">
            <a:solidFill>
              <a:srgbClr val="f8eb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697800" y="831960"/>
            <a:ext cx="64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8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3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3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2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0" dur="8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1" dur="8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8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5" dur="80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6" dur="80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7" dur="80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0" dur="80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1" dur="80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2" dur="80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5" dur="80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6" dur="80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7" dur="80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0" dur="80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1" dur="80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2" dur="80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"/>
          <p:cNvGrpSpPr/>
          <p:nvPr/>
        </p:nvGrpSpPr>
        <p:grpSpPr>
          <a:xfrm>
            <a:off x="468360" y="3645000"/>
            <a:ext cx="8279640" cy="2808360"/>
            <a:chOff x="468360" y="3645000"/>
            <a:chExt cx="8279640" cy="2808360"/>
          </a:xfrm>
        </p:grpSpPr>
        <p:grpSp>
          <p:nvGrpSpPr>
            <p:cNvPr id="786" name=""/>
            <p:cNvGrpSpPr/>
            <p:nvPr/>
          </p:nvGrpSpPr>
          <p:grpSpPr>
            <a:xfrm>
              <a:off x="468360" y="3645000"/>
              <a:ext cx="8279640" cy="2808360"/>
              <a:chOff x="468360" y="3645000"/>
              <a:chExt cx="8279640" cy="2808360"/>
            </a:xfrm>
          </p:grpSpPr>
          <p:grpSp>
            <p:nvGrpSpPr>
              <p:cNvPr id="787" name=""/>
              <p:cNvGrpSpPr/>
              <p:nvPr/>
            </p:nvGrpSpPr>
            <p:grpSpPr>
              <a:xfrm>
                <a:off x="468360" y="3645000"/>
                <a:ext cx="8279640" cy="2808360"/>
                <a:chOff x="468360" y="3645000"/>
                <a:chExt cx="8279640" cy="2808360"/>
              </a:xfrm>
            </p:grpSpPr>
            <p:grpSp>
              <p:nvGrpSpPr>
                <p:cNvPr id="788" name=""/>
                <p:cNvGrpSpPr/>
                <p:nvPr/>
              </p:nvGrpSpPr>
              <p:grpSpPr>
                <a:xfrm>
                  <a:off x="468360" y="3645000"/>
                  <a:ext cx="8279640" cy="2808360"/>
                  <a:chOff x="468360" y="3645000"/>
                  <a:chExt cx="8279640" cy="280836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>
                    <a:off x="468360" y="3645000"/>
                    <a:ext cx="8279640" cy="280836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3911760" y="4437000"/>
                    <a:ext cx="1230120" cy="10080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4273920" y="4508640"/>
                    <a:ext cx="362160" cy="37440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rot="10800000">
                    <a:off x="4281840" y="4986360"/>
                    <a:ext cx="339840" cy="35712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3" name=""/>
                <p:cNvGrpSpPr/>
                <p:nvPr/>
              </p:nvGrpSpPr>
              <p:grpSpPr>
                <a:xfrm>
                  <a:off x="3388320" y="4567320"/>
                  <a:ext cx="521280" cy="749160"/>
                  <a:chOff x="3388320" y="4567320"/>
                  <a:chExt cx="521280" cy="749160"/>
                </a:xfrm>
              </p:grpSpPr>
              <p:sp>
                <p:nvSpPr>
                  <p:cNvPr id="794" name=""/>
                  <p:cNvSpPr/>
                  <p:nvPr/>
                </p:nvSpPr>
                <p:spPr>
                  <a:xfrm>
                    <a:off x="3398040" y="4826160"/>
                    <a:ext cx="496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3388320" y="4567320"/>
                    <a:ext cx="521280" cy="749160"/>
                    <a:chOff x="3388320" y="4567320"/>
                    <a:chExt cx="521280" cy="749160"/>
                  </a:xfrm>
                </p:grpSpPr>
                <p:sp>
                  <p:nvSpPr>
                    <p:cNvPr id="796" name=""/>
                    <p:cNvSpPr/>
                    <p:nvPr/>
                  </p:nvSpPr>
                  <p:spPr>
                    <a:xfrm>
                      <a:off x="3388320" y="4567320"/>
                      <a:ext cx="511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>
                      <a:off x="3388320" y="5085000"/>
                      <a:ext cx="511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>
                      <a:off x="3398040" y="5316480"/>
                      <a:ext cx="511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9" name=""/>
                <p:cNvGrpSpPr/>
                <p:nvPr/>
              </p:nvGrpSpPr>
              <p:grpSpPr>
                <a:xfrm>
                  <a:off x="5100480" y="4530600"/>
                  <a:ext cx="827640" cy="775800"/>
                  <a:chOff x="5100480" y="4530600"/>
                  <a:chExt cx="827640" cy="77580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 flipV="1">
                    <a:off x="5100480" y="4868280"/>
                    <a:ext cx="827640" cy="22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01" name=""/>
                  <p:cNvGrpSpPr/>
                  <p:nvPr/>
                </p:nvGrpSpPr>
                <p:grpSpPr>
                  <a:xfrm>
                    <a:off x="5100480" y="4530600"/>
                    <a:ext cx="813240" cy="775800"/>
                    <a:chOff x="5100480" y="4530600"/>
                    <a:chExt cx="813240" cy="775800"/>
                  </a:xfrm>
                </p:grpSpPr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5100480" y="4530600"/>
                      <a:ext cx="795600" cy="634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 flipV="1">
                      <a:off x="5100480" y="4741560"/>
                      <a:ext cx="795600" cy="564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>
                      <a:off x="5100480" y="4741920"/>
                      <a:ext cx="813240" cy="294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05" name=""/>
              <p:cNvGrpSpPr/>
              <p:nvPr/>
            </p:nvGrpSpPr>
            <p:grpSpPr>
              <a:xfrm>
                <a:off x="611280" y="4430520"/>
                <a:ext cx="7792560" cy="1078200"/>
                <a:chOff x="611280" y="4430520"/>
                <a:chExt cx="7792560" cy="1078200"/>
              </a:xfrm>
            </p:grpSpPr>
            <p:grpSp>
              <p:nvGrpSpPr>
                <p:cNvPr id="806" name=""/>
                <p:cNvGrpSpPr/>
                <p:nvPr/>
              </p:nvGrpSpPr>
              <p:grpSpPr>
                <a:xfrm>
                  <a:off x="611280" y="4437000"/>
                  <a:ext cx="2479680" cy="1071720"/>
                  <a:chOff x="611280" y="4437000"/>
                  <a:chExt cx="2479680" cy="1071720"/>
                </a:xfrm>
              </p:grpSpPr>
              <p:sp>
                <p:nvSpPr>
                  <p:cNvPr id="807" name=""/>
                  <p:cNvSpPr/>
                  <p:nvPr/>
                </p:nvSpPr>
                <p:spPr>
                  <a:xfrm>
                    <a:off x="1330560" y="4437000"/>
                    <a:ext cx="1224000" cy="10080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2514960" y="4572000"/>
                    <a:ext cx="576000" cy="936720"/>
                    <a:chOff x="2514960" y="4572000"/>
                    <a:chExt cx="576000" cy="936720"/>
                  </a:xfrm>
                </p:grpSpPr>
                <p:sp>
                  <p:nvSpPr>
                    <p:cNvPr id="809" name=""/>
                    <p:cNvSpPr/>
                    <p:nvPr/>
                  </p:nvSpPr>
                  <p:spPr>
                    <a:xfrm>
                      <a:off x="2514960" y="5048280"/>
                      <a:ext cx="576000" cy="21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10" name=""/>
                    <p:cNvGrpSpPr/>
                    <p:nvPr/>
                  </p:nvGrpSpPr>
                  <p:grpSpPr>
                    <a:xfrm>
                      <a:off x="2514960" y="4572000"/>
                      <a:ext cx="576000" cy="936720"/>
                      <a:chOff x="2514960" y="4572000"/>
                      <a:chExt cx="576000" cy="936720"/>
                    </a:xfrm>
                  </p:grpSpPr>
                  <p:sp>
                    <p:nvSpPr>
                      <p:cNvPr id="811" name=""/>
                      <p:cNvSpPr/>
                      <p:nvPr/>
                    </p:nvSpPr>
                    <p:spPr>
                      <a:xfrm>
                        <a:off x="2514960" y="5292720"/>
                        <a:ext cx="576000" cy="216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2" name=""/>
                      <p:cNvSpPr/>
                      <p:nvPr/>
                    </p:nvSpPr>
                    <p:spPr>
                      <a:xfrm>
                        <a:off x="2514960" y="4818240"/>
                        <a:ext cx="576000" cy="216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3" name=""/>
                      <p:cNvSpPr/>
                      <p:nvPr/>
                    </p:nvSpPr>
                    <p:spPr>
                      <a:xfrm>
                        <a:off x="2514960" y="4572000"/>
                        <a:ext cx="576000" cy="216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611280" y="4595760"/>
                    <a:ext cx="733320" cy="749160"/>
                    <a:chOff x="611280" y="4595760"/>
                    <a:chExt cx="733320" cy="74916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625320" y="4854600"/>
                      <a:ext cx="698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16" name=""/>
                    <p:cNvGrpSpPr/>
                    <p:nvPr/>
                  </p:nvGrpSpPr>
                  <p:grpSpPr>
                    <a:xfrm>
                      <a:off x="611280" y="4595760"/>
                      <a:ext cx="733320" cy="749160"/>
                      <a:chOff x="611280" y="4595760"/>
                      <a:chExt cx="733320" cy="749160"/>
                    </a:xfrm>
                  </p:grpSpPr>
                  <p:sp>
                    <p:nvSpPr>
                      <p:cNvPr id="817" name=""/>
                      <p:cNvSpPr/>
                      <p:nvPr/>
                    </p:nvSpPr>
                    <p:spPr>
                      <a:xfrm>
                        <a:off x="611280" y="4595760"/>
                        <a:ext cx="718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8" name=""/>
                      <p:cNvSpPr/>
                      <p:nvPr/>
                    </p:nvSpPr>
                    <p:spPr>
                      <a:xfrm>
                        <a:off x="611280" y="5113440"/>
                        <a:ext cx="7189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19" name=""/>
                      <p:cNvSpPr/>
                      <p:nvPr/>
                    </p:nvSpPr>
                    <p:spPr>
                      <a:xfrm>
                        <a:off x="625320" y="5344920"/>
                        <a:ext cx="719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20" name=""/>
                <p:cNvGrpSpPr/>
                <p:nvPr/>
              </p:nvGrpSpPr>
              <p:grpSpPr>
                <a:xfrm>
                  <a:off x="6156360" y="4430520"/>
                  <a:ext cx="2247480" cy="1014480"/>
                  <a:chOff x="6156360" y="4430520"/>
                  <a:chExt cx="2247480" cy="1014480"/>
                </a:xfrm>
              </p:grpSpPr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6156360" y="4653000"/>
                    <a:ext cx="588240" cy="590400"/>
                    <a:chOff x="6156360" y="4653000"/>
                    <a:chExt cx="588240" cy="590400"/>
                  </a:xfrm>
                </p:grpSpPr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6167520" y="4856760"/>
                      <a:ext cx="5608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23" name=""/>
                    <p:cNvGrpSpPr/>
                    <p:nvPr/>
                  </p:nvGrpSpPr>
                  <p:grpSpPr>
                    <a:xfrm>
                      <a:off x="6156360" y="4653000"/>
                      <a:ext cx="588240" cy="590400"/>
                      <a:chOff x="6156360" y="4653000"/>
                      <a:chExt cx="588240" cy="590400"/>
                    </a:xfrm>
                  </p:grpSpPr>
                  <p:sp>
                    <p:nvSpPr>
                      <p:cNvPr id="824" name=""/>
                      <p:cNvSpPr/>
                      <p:nvPr/>
                    </p:nvSpPr>
                    <p:spPr>
                      <a:xfrm>
                        <a:off x="6156360" y="4653000"/>
                        <a:ext cx="577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5" name=""/>
                      <p:cNvSpPr/>
                      <p:nvPr/>
                    </p:nvSpPr>
                    <p:spPr>
                      <a:xfrm>
                        <a:off x="6156360" y="5060880"/>
                        <a:ext cx="577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6" name=""/>
                      <p:cNvSpPr/>
                      <p:nvPr/>
                    </p:nvSpPr>
                    <p:spPr>
                      <a:xfrm>
                        <a:off x="6167520" y="5243400"/>
                        <a:ext cx="5770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827" name=""/>
                  <p:cNvGrpSpPr/>
                  <p:nvPr/>
                </p:nvGrpSpPr>
                <p:grpSpPr>
                  <a:xfrm>
                    <a:off x="7972200" y="4430520"/>
                    <a:ext cx="431640" cy="933120"/>
                    <a:chOff x="7972200" y="4430520"/>
                    <a:chExt cx="431640" cy="933120"/>
                  </a:xfrm>
                </p:grpSpPr>
                <p:grpSp>
                  <p:nvGrpSpPr>
                    <p:cNvPr id="828" name=""/>
                    <p:cNvGrpSpPr/>
                    <p:nvPr/>
                  </p:nvGrpSpPr>
                  <p:grpSpPr>
                    <a:xfrm>
                      <a:off x="7972200" y="4430520"/>
                      <a:ext cx="431640" cy="686520"/>
                      <a:chOff x="7972200" y="4430520"/>
                      <a:chExt cx="431640" cy="686520"/>
                    </a:xfrm>
                  </p:grpSpPr>
                  <p:sp>
                    <p:nvSpPr>
                      <p:cNvPr id="829" name=""/>
                      <p:cNvSpPr/>
                      <p:nvPr/>
                    </p:nvSpPr>
                    <p:spPr>
                      <a:xfrm flipV="1">
                        <a:off x="7972200" y="4430520"/>
                        <a:ext cx="402840" cy="2602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0" name=""/>
                      <p:cNvSpPr/>
                      <p:nvPr/>
                    </p:nvSpPr>
                    <p:spPr>
                      <a:xfrm flipV="1">
                        <a:off x="7972200" y="4705920"/>
                        <a:ext cx="431640" cy="1360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1" name=""/>
                      <p:cNvSpPr/>
                      <p:nvPr/>
                    </p:nvSpPr>
                    <p:spPr>
                      <a:xfrm>
                        <a:off x="7972200" y="5047560"/>
                        <a:ext cx="431640" cy="694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2680" bIns="22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7972200" y="5182560"/>
                      <a:ext cx="387000" cy="181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6730920" y="4437000"/>
                    <a:ext cx="1223640" cy="1008000"/>
                    <a:chOff x="6730920" y="4437000"/>
                    <a:chExt cx="1223640" cy="1008000"/>
                  </a:xfrm>
                </p:grpSpPr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6730920" y="4437000"/>
                      <a:ext cx="1223640" cy="1008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7090920" y="4941720"/>
                      <a:ext cx="360000" cy="358920"/>
                    </a:xfrm>
                    <a:prstGeom prst="triangle">
                      <a:avLst>
                        <a:gd name="adj" fmla="val 50000"/>
                      </a:avLst>
                    </a:prstGeom>
                    <a:noFill/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 rot="10800000">
                      <a:off x="7090920" y="4508280"/>
                      <a:ext cx="360000" cy="360360"/>
                    </a:xfrm>
                    <a:prstGeom prst="triangle">
                      <a:avLst>
                        <a:gd name="adj" fmla="val 50278"/>
                      </a:avLst>
                    </a:prstGeom>
                    <a:noFill/>
                    <a:ln w="284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837" name=""/>
            <p:cNvSpPr/>
            <p:nvPr/>
          </p:nvSpPr>
          <p:spPr>
            <a:xfrm>
              <a:off x="1476360" y="4537080"/>
              <a:ext cx="865080" cy="72216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468360" y="333360"/>
            <a:ext cx="8280360" cy="3024360"/>
            <a:chOff x="468360" y="333360"/>
            <a:chExt cx="8280360" cy="3024360"/>
          </a:xfrm>
        </p:grpSpPr>
        <p:grpSp>
          <p:nvGrpSpPr>
            <p:cNvPr id="839" name=""/>
            <p:cNvGrpSpPr/>
            <p:nvPr/>
          </p:nvGrpSpPr>
          <p:grpSpPr>
            <a:xfrm>
              <a:off x="468360" y="333360"/>
              <a:ext cx="8280360" cy="3024360"/>
              <a:chOff x="468360" y="333360"/>
              <a:chExt cx="8280360" cy="3024360"/>
            </a:xfrm>
          </p:grpSpPr>
          <p:sp>
            <p:nvSpPr>
              <p:cNvPr id="840" name=""/>
              <p:cNvSpPr/>
              <p:nvPr/>
            </p:nvSpPr>
            <p:spPr>
              <a:xfrm>
                <a:off x="468360" y="333360"/>
                <a:ext cx="8280360" cy="30243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997440" y="1270080"/>
                <a:ext cx="1224000" cy="10080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2" name=""/>
              <p:cNvGrpSpPr/>
              <p:nvPr/>
            </p:nvGrpSpPr>
            <p:grpSpPr>
              <a:xfrm>
                <a:off x="757440" y="1312920"/>
                <a:ext cx="2519280" cy="1108080"/>
                <a:chOff x="757440" y="1312920"/>
                <a:chExt cx="2519280" cy="1108080"/>
              </a:xfrm>
            </p:grpSpPr>
            <p:grpSp>
              <p:nvGrpSpPr>
                <p:cNvPr id="843" name=""/>
                <p:cNvGrpSpPr/>
                <p:nvPr/>
              </p:nvGrpSpPr>
              <p:grpSpPr>
                <a:xfrm>
                  <a:off x="2700360" y="1484280"/>
                  <a:ext cx="576360" cy="936720"/>
                  <a:chOff x="2700360" y="1484280"/>
                  <a:chExt cx="576360" cy="93672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2700360" y="1960560"/>
                    <a:ext cx="576360" cy="2160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2700360" y="1484280"/>
                    <a:ext cx="576360" cy="936720"/>
                    <a:chOff x="2700360" y="1484280"/>
                    <a:chExt cx="576360" cy="936720"/>
                  </a:xfrm>
                </p:grpSpPr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2700360" y="2205000"/>
                      <a:ext cx="576360" cy="21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2700360" y="1730520"/>
                      <a:ext cx="576360" cy="21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2700360" y="1484280"/>
                      <a:ext cx="576360" cy="21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849" name=""/>
                <p:cNvSpPr/>
                <p:nvPr/>
              </p:nvSpPr>
              <p:spPr>
                <a:xfrm>
                  <a:off x="1476360" y="1312920"/>
                  <a:ext cx="1224000" cy="1008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0" name=""/>
                <p:cNvGrpSpPr/>
                <p:nvPr/>
              </p:nvGrpSpPr>
              <p:grpSpPr>
                <a:xfrm>
                  <a:off x="757440" y="1455840"/>
                  <a:ext cx="733320" cy="749160"/>
                  <a:chOff x="757440" y="1455840"/>
                  <a:chExt cx="733320" cy="749160"/>
                </a:xfrm>
              </p:grpSpPr>
              <p:sp>
                <p:nvSpPr>
                  <p:cNvPr id="851" name=""/>
                  <p:cNvSpPr/>
                  <p:nvPr/>
                </p:nvSpPr>
                <p:spPr>
                  <a:xfrm>
                    <a:off x="771480" y="1714680"/>
                    <a:ext cx="698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2" name=""/>
                  <p:cNvGrpSpPr/>
                  <p:nvPr/>
                </p:nvGrpSpPr>
                <p:grpSpPr>
                  <a:xfrm>
                    <a:off x="757440" y="1455840"/>
                    <a:ext cx="733320" cy="749160"/>
                    <a:chOff x="757440" y="1455840"/>
                    <a:chExt cx="733320" cy="749160"/>
                  </a:xfrm>
                </p:grpSpPr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757440" y="1455840"/>
                      <a:ext cx="718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757440" y="1973520"/>
                      <a:ext cx="718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771480" y="2205000"/>
                      <a:ext cx="71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856" name=""/>
            <p:cNvGrpSpPr/>
            <p:nvPr/>
          </p:nvGrpSpPr>
          <p:grpSpPr>
            <a:xfrm>
              <a:off x="5221440" y="1314720"/>
              <a:ext cx="823680" cy="791640"/>
              <a:chOff x="5221440" y="1314720"/>
              <a:chExt cx="823680" cy="791640"/>
            </a:xfrm>
          </p:grpSpPr>
          <p:sp>
            <p:nvSpPr>
              <p:cNvPr id="857" name=""/>
              <p:cNvSpPr/>
              <p:nvPr/>
            </p:nvSpPr>
            <p:spPr>
              <a:xfrm flipV="1">
                <a:off x="5221440" y="1658880"/>
                <a:ext cx="823680" cy="23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8" name=""/>
              <p:cNvGrpSpPr/>
              <p:nvPr/>
            </p:nvGrpSpPr>
            <p:grpSpPr>
              <a:xfrm>
                <a:off x="5221440" y="1314720"/>
                <a:ext cx="809640" cy="791640"/>
                <a:chOff x="5221440" y="1314720"/>
                <a:chExt cx="809640" cy="791640"/>
              </a:xfrm>
            </p:grpSpPr>
            <p:sp>
              <p:nvSpPr>
                <p:cNvPr id="859" name=""/>
                <p:cNvSpPr/>
                <p:nvPr/>
              </p:nvSpPr>
              <p:spPr>
                <a:xfrm>
                  <a:off x="5221440" y="1314720"/>
                  <a:ext cx="792000" cy="64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flipV="1">
                  <a:off x="5221440" y="1530000"/>
                  <a:ext cx="792000" cy="57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5221440" y="1530360"/>
                  <a:ext cx="809640" cy="30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2" name=""/>
            <p:cNvGrpSpPr/>
            <p:nvPr/>
          </p:nvGrpSpPr>
          <p:grpSpPr>
            <a:xfrm>
              <a:off x="3276720" y="1398600"/>
              <a:ext cx="733320" cy="749160"/>
              <a:chOff x="3276720" y="1398600"/>
              <a:chExt cx="733320" cy="749160"/>
            </a:xfrm>
          </p:grpSpPr>
          <p:sp>
            <p:nvSpPr>
              <p:cNvPr id="863" name=""/>
              <p:cNvSpPr/>
              <p:nvPr/>
            </p:nvSpPr>
            <p:spPr>
              <a:xfrm>
                <a:off x="3290760" y="1657440"/>
                <a:ext cx="69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4" name=""/>
              <p:cNvGrpSpPr/>
              <p:nvPr/>
            </p:nvGrpSpPr>
            <p:grpSpPr>
              <a:xfrm>
                <a:off x="3276720" y="1398600"/>
                <a:ext cx="733320" cy="749160"/>
                <a:chOff x="3276720" y="1398600"/>
                <a:chExt cx="733320" cy="74916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3276720" y="1398600"/>
                  <a:ext cx="718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3276720" y="1916280"/>
                  <a:ext cx="718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290760" y="2147760"/>
                  <a:ext cx="71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8" name=""/>
            <p:cNvSpPr/>
            <p:nvPr/>
          </p:nvSpPr>
          <p:spPr>
            <a:xfrm>
              <a:off x="3276720" y="1298880"/>
              <a:ext cx="28728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32720" y="1270080"/>
              <a:ext cx="1224000" cy="1008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6197760" y="1199880"/>
              <a:ext cx="2192400" cy="979920"/>
              <a:chOff x="6197760" y="1199880"/>
              <a:chExt cx="2192400" cy="979920"/>
            </a:xfrm>
          </p:grpSpPr>
          <p:grpSp>
            <p:nvGrpSpPr>
              <p:cNvPr id="871" name=""/>
              <p:cNvGrpSpPr/>
              <p:nvPr/>
            </p:nvGrpSpPr>
            <p:grpSpPr>
              <a:xfrm>
                <a:off x="7958160" y="1199880"/>
                <a:ext cx="432000" cy="721080"/>
                <a:chOff x="7958160" y="1199880"/>
                <a:chExt cx="432000" cy="721080"/>
              </a:xfrm>
            </p:grpSpPr>
            <p:sp>
              <p:nvSpPr>
                <p:cNvPr id="872" name=""/>
                <p:cNvSpPr/>
                <p:nvPr/>
              </p:nvSpPr>
              <p:spPr>
                <a:xfrm flipV="1">
                  <a:off x="7958160" y="1199880"/>
                  <a:ext cx="403200" cy="27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7958160" y="1488960"/>
                  <a:ext cx="43200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7958160" y="1847880"/>
                  <a:ext cx="432000" cy="7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5" name=""/>
              <p:cNvSpPr/>
              <p:nvPr/>
            </p:nvSpPr>
            <p:spPr>
              <a:xfrm>
                <a:off x="7958160" y="1989360"/>
                <a:ext cx="38736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208920" y="1686240"/>
                <a:ext cx="52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7" name=""/>
              <p:cNvGrpSpPr/>
              <p:nvPr/>
            </p:nvGrpSpPr>
            <p:grpSpPr>
              <a:xfrm>
                <a:off x="6197760" y="1486080"/>
                <a:ext cx="547560" cy="577800"/>
                <a:chOff x="6197760" y="1486080"/>
                <a:chExt cx="547560" cy="57780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197760" y="1486080"/>
                  <a:ext cx="536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197760" y="1885320"/>
                  <a:ext cx="536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208200" y="2063880"/>
                  <a:ext cx="537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81" name=""/>
          <p:cNvSpPr/>
          <p:nvPr/>
        </p:nvSpPr>
        <p:spPr>
          <a:xfrm>
            <a:off x="684360" y="47628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«чёрных ящиках» находятся одна или две приз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69960" y="26208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рисуйте расположение призм в них, используя ход луч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дающих и выходящих из ящ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3640" y="368928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П о д с к а з к 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4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9" dur="8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0" dur="8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1" dur="8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10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10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8" dur="8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9" dur="8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0" dur="8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395280" y="3213000"/>
            <a:ext cx="4467240" cy="33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4360" y="342900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 сделать видимым кус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ахара, лежащий на дне чаш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ичего не сдвига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987640" y="537372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чер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м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д лу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95280" y="765000"/>
            <a:ext cx="8353440" cy="20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11280" y="981000"/>
            <a:ext cx="56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етовой луч попадает на полую призм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ходящуюся в сосуде с водой. Пренебрег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лщиной граней стекла призмы, начертите в тетради примерный ход лучей внутри приз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по выходе из н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24000" y="0"/>
            <a:ext cx="84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387360" y="117360"/>
            <a:ext cx="8385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1680">
                  <a:solidFill>
                    <a:srgbClr val="993300"/>
                  </a:solidFill>
                  <a:miter/>
                </a:ln>
                <a:solidFill>
                  <a:srgbClr val="ff9933"/>
                </a:solidFill>
                <a:latin typeface="Arial"/>
              </a:rPr>
              <a:t>Сообрази!</a:t>
            </a:r>
            <a:endParaRPr b="1" i="1" lang="en-US" sz="1800" spc="1" strike="noStrike">
              <a:ln w="31680">
                <a:solidFill>
                  <a:srgbClr val="993300"/>
                </a:solidFill>
                <a:miter/>
              </a:ln>
              <a:solidFill>
                <a:srgbClr val="ff9933"/>
              </a:solidFill>
              <a:latin typeface="Arial"/>
              <a:ea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148360" y="3213000"/>
            <a:ext cx="3603600" cy="33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093080" y="3500280"/>
            <a:ext cx="1511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черт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д лу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риз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2"/>
          <a:stretch/>
        </p:blipFill>
        <p:spPr>
          <a:xfrm>
            <a:off x="6084720" y="981000"/>
            <a:ext cx="2540160" cy="162576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3"/>
          <a:stretch/>
        </p:blipFill>
        <p:spPr>
          <a:xfrm>
            <a:off x="611280" y="4437000"/>
            <a:ext cx="2333520" cy="1844640"/>
          </a:xfrm>
          <a:prstGeom prst="rect">
            <a:avLst/>
          </a:prstGeom>
          <a:ln w="0">
            <a:noFill/>
          </a:ln>
        </p:spPr>
      </p:pic>
      <p:pic>
        <p:nvPicPr>
          <p:cNvPr id="895" name="" descr=""/>
          <p:cNvPicPr/>
          <p:nvPr/>
        </p:nvPicPr>
        <p:blipFill>
          <a:blip r:embed="rId4"/>
          <a:stretch/>
        </p:blipFill>
        <p:spPr>
          <a:xfrm>
            <a:off x="5292720" y="3500280"/>
            <a:ext cx="1800360" cy="1231920"/>
          </a:xfrm>
          <a:prstGeom prst="rect">
            <a:avLst/>
          </a:prstGeom>
          <a:ln w="0">
            <a:noFill/>
          </a:ln>
        </p:spPr>
      </p:pic>
      <p:pic>
        <p:nvPicPr>
          <p:cNvPr id="896" name="" descr=""/>
          <p:cNvPicPr/>
          <p:nvPr/>
        </p:nvPicPr>
        <p:blipFill>
          <a:blip r:embed="rId5"/>
          <a:stretch/>
        </p:blipFill>
        <p:spPr>
          <a:xfrm>
            <a:off x="6804000" y="4941720"/>
            <a:ext cx="1905120" cy="150516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5248440" y="479916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кая из призм 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зыв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оротн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1332000" y="139680"/>
            <a:ext cx="635292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ечный свет - сложный !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5013360"/>
            <a:ext cx="63356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доказано И. Ньютоном (1666 г.) в эксперимен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н использовал призму и солнечный свет, кото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никал  в комнату через узкое отверстие в ста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экране возникала разноцветная полоска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ё принято называть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пектром белого свет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1989000"/>
            <a:ext cx="914400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227640" y="1413000"/>
            <a:ext cx="2859120" cy="54608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Подумайт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В спектре белого с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нято различать 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х цвет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ас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68014"/>
                </a:solidFill>
                <a:latin typeface="Arial"/>
              </a:rPr>
              <a:t>оранжев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жёлт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елёны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г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луб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фи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летов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чему из бел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ета получилось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ветных излучени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Зачем в опыте постав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на вторая призм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Только ли белый св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ожны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От чего зависят цв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личных те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" descr=""/>
          <p:cNvPicPr/>
          <p:nvPr/>
        </p:nvPicPr>
        <p:blipFill>
          <a:blip r:embed="rId3"/>
          <a:stretch/>
        </p:blipFill>
        <p:spPr>
          <a:xfrm>
            <a:off x="1258920" y="836640"/>
            <a:ext cx="6497640" cy="21600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/>
          <p:cNvPicPr/>
          <p:nvPr/>
        </p:nvPicPr>
        <p:blipFill>
          <a:blip r:embed="rId4"/>
          <a:stretch/>
        </p:blipFill>
        <p:spPr>
          <a:xfrm>
            <a:off x="131760" y="1700280"/>
            <a:ext cx="60958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4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gradFill rotWithShape="0">
            <a:gsLst>
              <a:gs pos="0">
                <a:srgbClr val="30335a"/>
              </a:gs>
              <a:gs pos="100000">
                <a:srgbClr val="5d549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684360" y="765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Какая физическая ошибка допущена  в 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1"/>
          <a:stretch/>
        </p:blipFill>
        <p:spPr>
          <a:xfrm>
            <a:off x="320760" y="1886040"/>
            <a:ext cx="6334200" cy="463860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6561000" y="4440240"/>
            <a:ext cx="208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«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Кажд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9966"/>
                </a:solidFill>
                <a:latin typeface="Arial"/>
              </a:rPr>
              <a:t>охо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жел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зн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сид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c66ff"/>
                </a:solidFill>
                <a:latin typeface="Arial"/>
              </a:rPr>
              <a:t>фаза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924360" y="1916280"/>
            <a:ext cx="50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де происходит разложение бел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вета на простые луч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348000" y="3213000"/>
            <a:ext cx="53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тобы запомнить последов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учей в спектре, предлаг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ледующая фраз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 txBox="1"/>
          <p:nvPr/>
        </p:nvSpPr>
        <p:spPr>
          <a:xfrm>
            <a:off x="1476360" y="260280"/>
            <a:ext cx="640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а тел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66760" y="936720"/>
            <a:ext cx="8574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Monotype Corsiva"/>
              </a:rPr>
              <a:t>Определяются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Monotype Corsiva"/>
              </a:rPr>
              <a:t>теми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Monotype Corsiva"/>
              </a:rPr>
              <a:t>простыми </a:t>
            </a:r>
            <a:r>
              <a:rPr b="1" lang="en-US" sz="2800" spc="-1" strike="noStrike">
                <a:solidFill>
                  <a:srgbClr val="009900"/>
                </a:solidFill>
                <a:latin typeface="Monotype Corsiva"/>
              </a:rPr>
              <a:t>цветными </a:t>
            </a:r>
            <a:r>
              <a:rPr b="1" lang="en-US" sz="2800" spc="-1" strike="noStrike">
                <a:solidFill>
                  <a:srgbClr val="0099ff"/>
                </a:solidFill>
                <a:latin typeface="Monotype Corsiva"/>
              </a:rPr>
              <a:t>лучами,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которые </a:t>
            </a:r>
            <a:r>
              <a:rPr b="1" lang="en-US" sz="2800" spc="-1" strike="noStrike">
                <a:solidFill>
                  <a:srgbClr val="6600ff"/>
                </a:solidFill>
                <a:latin typeface="Monotype Corsiva"/>
              </a:rPr>
              <a:t>луч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Monotype Corsiva"/>
              </a:rPr>
              <a:t>всего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Monotype Corsiva"/>
              </a:rPr>
              <a:t>рассеиваются </a:t>
            </a:r>
            <a:r>
              <a:rPr b="1" lang="en-US" sz="2800" spc="-1" strike="noStrike">
                <a:solidFill>
                  <a:srgbClr val="808080"/>
                </a:solidFill>
                <a:latin typeface="Monotype Corsiva"/>
              </a:rPr>
              <a:t>или </a:t>
            </a:r>
            <a:r>
              <a:rPr b="1" lang="en-US" sz="2800" spc="-1" strike="noStrike">
                <a:solidFill>
                  <a:srgbClr val="009900"/>
                </a:solidFill>
                <a:latin typeface="Monotype Corsiva"/>
              </a:rPr>
              <a:t>пропускаются</a:t>
            </a:r>
            <a:r>
              <a:rPr b="1" lang="en-US" sz="2800" spc="-1" strike="noStrike">
                <a:solidFill>
                  <a:srgbClr val="00ccff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Monotype Corsiva"/>
              </a:rPr>
              <a:t>данным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6600ff"/>
                </a:solidFill>
                <a:latin typeface="Monotype Corsiva"/>
              </a:rPr>
              <a:t>те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025880" y="2073240"/>
            <a:ext cx="489744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Зелёный непрозрачный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лучше всего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рассеива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зелё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040280" y="2981160"/>
            <a:ext cx="489744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Зелёный прозрачный предм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лучше всего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пропускае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возь себя зелёные лу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119480" y="2224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759200" y="39164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Сообраз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051440" y="4433760"/>
            <a:ext cx="489744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лый предмет – одинаково хорошо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мерно отражает все простые лу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054320" y="5359320"/>
            <a:ext cx="489744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ёрный предмет – одинаково хорошо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вномерно поглощает  простые лу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067280" y="6237360"/>
            <a:ext cx="48736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 бесцветное тело как определяе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146160" y="1843200"/>
            <a:ext cx="380988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1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6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8" dur="8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9" dur="8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0" dur="8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5" dur="8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6" dur="8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7" dur="8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0" dur="8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1" dur="8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2" dur="8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3" dur="8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4" dur="8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5" dur="8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449280" y="144360"/>
            <a:ext cx="64278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к получается цветным </a:t>
            </a:r>
            <a:endParaRPr b="1" lang="en-US" sz="1800" spc="1" strike="noStrike">
              <a:ln w="2232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зображение в телевизоре </a:t>
            </a:r>
            <a:endParaRPr b="1" lang="en-US" sz="1800" spc="1" strike="noStrike">
              <a:ln w="2232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1" name="" descr=""/>
          <p:cNvPicPr/>
          <p:nvPr/>
        </p:nvPicPr>
        <p:blipFill>
          <a:blip r:embed="rId1"/>
          <a:stretch/>
        </p:blipFill>
        <p:spPr>
          <a:xfrm>
            <a:off x="6877080" y="260280"/>
            <a:ext cx="1825560" cy="1260720"/>
          </a:xfrm>
          <a:prstGeom prst="rect">
            <a:avLst/>
          </a:prstGeom>
          <a:ln w="0">
            <a:noFill/>
          </a:ln>
        </p:spPr>
      </p:pic>
      <p:sp>
        <p:nvSpPr>
          <p:cNvPr id="922" name=""/>
          <p:cNvSpPr txBox="1"/>
          <p:nvPr/>
        </p:nvSpPr>
        <p:spPr>
          <a:xfrm>
            <a:off x="7524720" y="620640"/>
            <a:ext cx="492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80008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22320">
                <a:solidFill>
                  <a:srgbClr val="80008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04920" y="1700280"/>
            <a:ext cx="849132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65240" y="4610160"/>
            <a:ext cx="89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В цветном телевизоре имеются 3 телевизионные трубки, создающие  3 цветовые изображения…    Какие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Monotype Corsiva"/>
              </a:rPr>
              <a:t>Красное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lang="en-US" sz="2400" spc="-1" strike="noStrike">
                <a:solidFill>
                  <a:srgbClr val="009900"/>
                </a:solidFill>
                <a:latin typeface="Monotype Corsiva"/>
              </a:rPr>
              <a:t>зелёное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и </a:t>
            </a:r>
            <a:r>
              <a:rPr b="1" lang="en-US" sz="2400" spc="-1" strike="noStrike">
                <a:solidFill>
                  <a:srgbClr val="0066ff"/>
                </a:solidFill>
                <a:latin typeface="Monotype Corsiva"/>
              </a:rPr>
              <a:t>синее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. Эти цвета принято называть о с н о в н ы м и  в спектре. Ни один из основных цветов нельзя получить комбинацией других . При смешивании в разных сочетаниях и пропорциях основных цветов  получается вся гамма красок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24000" y="1700280"/>
            <a:ext cx="8420040" cy="294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 rot="5400000">
            <a:off x="3131640" y="2492280"/>
            <a:ext cx="266400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Так образуются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азличные цвета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з основных</a:t>
            </a:r>
            <a:endParaRPr b="1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3381120" cy="292428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35431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4884840"/>
            <a:ext cx="9144000" cy="1973160"/>
          </a:xfrm>
          <a:prstGeom prst="rect">
            <a:avLst/>
          </a:prstGeom>
          <a:solidFill>
            <a:srgbClr val="f8f0e0"/>
          </a:solidFill>
          <a:ln w="0">
            <a:noFill/>
          </a:ln>
          <a:effectLst>
            <a:outerShdw dist="107932" dir="2700000" blurRad="0" rotWithShape="0">
              <a:srgbClr val="ff99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16360" y="1484280"/>
            <a:ext cx="4427640" cy="3384720"/>
          </a:xfrm>
          <a:prstGeom prst="rect">
            <a:avLst/>
          </a:prstGeom>
          <a:solidFill>
            <a:srgbClr val="fcfb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1280" y="1484280"/>
            <a:ext cx="4105080" cy="3387600"/>
          </a:xfrm>
          <a:prstGeom prst="rect">
            <a:avLst/>
          </a:prstGeom>
          <a:solidFill>
            <a:srgbClr val="fcfb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35200" y="189000"/>
            <a:ext cx="604836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точники света</a:t>
            </a:r>
            <a:endParaRPr b="1" lang="en-US" sz="1800" spc="1" strike="noStrike">
              <a:ln w="255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148428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Monotype Corsiva"/>
              </a:rPr>
              <a:t>    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Monotype Corsiva"/>
              </a:rPr>
              <a:t>Естественные</a:t>
            </a:r>
            <a:r>
              <a:rPr b="1" lang="en-US" sz="3200" spc="-1" strike="noStrike">
                <a:solidFill>
                  <a:srgbClr val="990000"/>
                </a:solidFill>
                <a:latin typeface="Monotype Corsiva"/>
              </a:rPr>
              <a:t>:                          </a:t>
            </a:r>
            <a:r>
              <a:rPr b="1" lang="en-US" sz="3200" spc="-1" strike="noStrike" u="sng">
                <a:solidFill>
                  <a:srgbClr val="990000"/>
                </a:solidFill>
                <a:uFillTx/>
                <a:latin typeface="Monotype Corsiva"/>
              </a:rPr>
              <a:t>Искусственные</a:t>
            </a:r>
            <a:r>
              <a:rPr b="1" lang="en-US" sz="3200" spc="-1" strike="noStrike">
                <a:solidFill>
                  <a:srgbClr val="99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57240" y="1973160"/>
            <a:ext cx="31687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лнце и звёз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ярные си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тящиеся насеком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убоководные ры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ения, гнил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ния. Фосф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гни святого Эль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2016000"/>
            <a:ext cx="316728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стёр, свечи, факе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лектрические лам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кламные газосв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у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ечение экрана 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юминесцен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а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522936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187280" y="5157720"/>
            <a:ext cx="583272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Почему мы видим не только источники света,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"/>
              </a:rPr>
              <a:t>но и несветящиеся тела?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7107120" y="4897440"/>
            <a:ext cx="2036880" cy="1960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-14400" y="4002120"/>
            <a:ext cx="1327320" cy="28558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11280" y="4869000"/>
            <a:ext cx="0" cy="144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2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20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324000" y="333360"/>
            <a:ext cx="8496000" cy="619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2490840" y="3170160"/>
            <a:ext cx="4162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ставьте сами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829560" y="44280"/>
            <a:ext cx="2314440" cy="67914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405240" y="0"/>
            <a:ext cx="233352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0" y="-47520"/>
            <a:ext cx="2152800" cy="69055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 rot="5400000">
            <a:off x="1485360" y="2843280"/>
            <a:ext cx="266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иды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0" name=""/>
          <p:cNvSpPr txBox="1"/>
          <p:nvPr/>
        </p:nvSpPr>
        <p:spPr>
          <a:xfrm rot="5400000">
            <a:off x="3378240" y="309492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полярных сияний</a:t>
            </a:r>
            <a:endParaRPr b="1" i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9640" y="1459080"/>
            <a:ext cx="24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днородная пол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51640" y="32479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Лу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791400" y="502596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кладчатые л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70920" y="658332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пирали из л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560" y="1455840"/>
            <a:ext cx="21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днородная д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8240" y="3251160"/>
            <a:ext cx="20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ертикальные пол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32240" y="153180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иффузное пя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84600" y="330660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Дуги и пол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505152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еерные л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4280" y="663084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пиральные л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64000" y="508464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ложная форма из л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94720" y="6593040"/>
            <a:ext cx="25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пирали и ленты со склад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447560" cy="41623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708360" y="260280"/>
            <a:ext cx="3457440" cy="41436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3133440" cy="2809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68360" y="2708280"/>
            <a:ext cx="287280" cy="289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80000" y="4076640"/>
            <a:ext cx="276120" cy="292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48080" y="4419720"/>
            <a:ext cx="5508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Monotype Corsiva"/>
              </a:rPr>
              <a:t>Свечение живых организм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Плесневые грибы.  2. Глубоководные черви (сильно увеличено). 3. Глубоководные рыбы. 4. Кальм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635280" y="5589720"/>
            <a:ext cx="52578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Назовите примеры естественного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Times New Roman"/>
              </a:rPr>
              <a:t>свечения в окружающей жизни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51640" y="4076640"/>
            <a:ext cx="287280" cy="287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395280" y="3429000"/>
            <a:ext cx="3095640" cy="2905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68360" y="5950080"/>
            <a:ext cx="287280" cy="288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042920" y="333360"/>
            <a:ext cx="7416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7c8024"/>
                </a:solidFill>
                <a:latin typeface="Impact"/>
              </a:rPr>
              <a:t>Тень и полутень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7c8024"/>
              </a:solidFill>
              <a:latin typeface="Impact"/>
              <a:ea typeface="Impact"/>
            </a:endParaRPr>
          </a:p>
        </p:txBody>
      </p:sp>
      <p:sp>
        <p:nvSpPr>
          <p:cNvPr id="274" name=""/>
          <p:cNvSpPr/>
          <p:nvPr/>
        </p:nvSpPr>
        <p:spPr>
          <a:xfrm>
            <a:off x="684360" y="170028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Лу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линия, вдоль которой распространяется с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93080" y="1557360"/>
            <a:ext cx="914400" cy="914400"/>
          </a:xfrm>
          <a:prstGeom prst="irregularSeal1">
            <a:avLst/>
          </a:prstGeom>
          <a:gradFill rotWithShape="0">
            <a:gsLst>
              <a:gs pos="0">
                <a:srgbClr val="ffffe1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956720" y="2421000"/>
            <a:ext cx="576000" cy="792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7019640" y="2492280"/>
            <a:ext cx="360360" cy="6494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101080" y="1483920"/>
            <a:ext cx="792000" cy="3603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6516360" y="1197000"/>
            <a:ext cx="646200" cy="5032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7740720" y="1052280"/>
            <a:ext cx="216000" cy="43164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443280" y="2205000"/>
            <a:ext cx="576360" cy="1443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2060640"/>
            <a:ext cx="5183280" cy="642600"/>
          </a:xfrm>
          <a:prstGeom prst="rect">
            <a:avLst/>
          </a:prstGeom>
          <a:solidFill>
            <a:srgbClr val="ff9c0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ет в однородной прозрачной сре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пространяется прямолиней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003640" y="5589720"/>
            <a:ext cx="144720" cy="71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76720" y="5877000"/>
            <a:ext cx="1429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2852640"/>
            <a:ext cx="756000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Д о к а з а т е л ь с т в о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образование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тени и  полутени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908000" y="4508640"/>
            <a:ext cx="6803280" cy="2089440"/>
            <a:chOff x="1908000" y="4508640"/>
            <a:chExt cx="6803280" cy="2089440"/>
          </a:xfrm>
        </p:grpSpPr>
        <p:grpSp>
          <p:nvGrpSpPr>
            <p:cNvPr id="287" name=""/>
            <p:cNvGrpSpPr/>
            <p:nvPr/>
          </p:nvGrpSpPr>
          <p:grpSpPr>
            <a:xfrm>
              <a:off x="1908000" y="4508640"/>
              <a:ext cx="6803280" cy="2089440"/>
              <a:chOff x="1908000" y="4508640"/>
              <a:chExt cx="6803280" cy="2089440"/>
            </a:xfrm>
          </p:grpSpPr>
          <p:sp>
            <p:nvSpPr>
              <p:cNvPr id="288" name=""/>
              <p:cNvSpPr/>
              <p:nvPr/>
            </p:nvSpPr>
            <p:spPr>
              <a:xfrm>
                <a:off x="2181240" y="5734080"/>
                <a:ext cx="431640" cy="431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25960" y="6049800"/>
                <a:ext cx="2156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40000" y="5546880"/>
                <a:ext cx="21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908000" y="4508640"/>
                <a:ext cx="6803280" cy="2089440"/>
                <a:chOff x="1908000" y="4508640"/>
                <a:chExt cx="6803280" cy="20894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7365960" y="5084640"/>
                  <a:ext cx="576360" cy="9367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7077960" y="4508640"/>
                  <a:ext cx="1633320" cy="2089440"/>
                  <a:chOff x="7077960" y="4508640"/>
                  <a:chExt cx="1633320" cy="208944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5401200">
                    <a:off x="6850080" y="4736880"/>
                    <a:ext cx="2088720" cy="1632600"/>
                  </a:xfrm>
                  <a:custGeom>
                    <a:avLst/>
                    <a:gdLst>
                      <a:gd name="textAreaLeft" fmla="*/ 459360 w 2088720"/>
                      <a:gd name="textAreaRight" fmla="*/ 1629360 w 2088720"/>
                      <a:gd name="textAreaTop" fmla="*/ 358920 h 1632600"/>
                      <a:gd name="textAreaBottom" fmla="*/ 1273680 h 16326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V="1">
                    <a:off x="7134840" y="4554000"/>
                    <a:ext cx="1544040" cy="5040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7106760" y="5075280"/>
                    <a:ext cx="1080" cy="1022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7" name=""/>
                <p:cNvSpPr/>
                <p:nvPr/>
              </p:nvSpPr>
              <p:spPr>
                <a:xfrm flipH="1" flipV="1">
                  <a:off x="2194920" y="5516640"/>
                  <a:ext cx="133560" cy="241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>
                  <a:off x="1908000" y="5950080"/>
                  <a:ext cx="28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V="1">
                  <a:off x="2484360" y="5516640"/>
                  <a:ext cx="71280" cy="2174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2123640" y="6165720"/>
                  <a:ext cx="144360" cy="216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484360" y="6165720"/>
                  <a:ext cx="142920" cy="216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11640" y="5373720"/>
                  <a:ext cx="576360" cy="576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13440" y="5445000"/>
                  <a:ext cx="330120" cy="433440"/>
                </a:xfrm>
                <a:prstGeom prst="ellipse">
                  <a:avLst/>
                </a:prstGeom>
                <a:solidFill>
                  <a:srgbClr val="ff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V="1">
                  <a:off x="2411280" y="5877000"/>
                  <a:ext cx="5256360" cy="2887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2411280" y="5229360"/>
                  <a:ext cx="5329080" cy="5047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510320" y="5229360"/>
                  <a:ext cx="301680" cy="661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2484360" y="5084280"/>
                  <a:ext cx="5256000" cy="108108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411280" y="5734080"/>
                  <a:ext cx="5256360" cy="28728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 txBox="1"/>
                <p:nvPr/>
              </p:nvSpPr>
              <p:spPr>
                <a:xfrm rot="5400000">
                  <a:off x="7664040" y="5578200"/>
                  <a:ext cx="785520" cy="87480"/>
                </a:xfrm>
                <a:prstGeom prst="rect">
                  <a:avLst/>
                </a:prstGeom>
              </p:spPr>
              <p:txBody>
                <a:bodyPr wrap="none" lIns="90000" rIns="90000" tIns="40680" bIns="40680" anchor="t" anchorCtr="1" vert="eaVert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12600">
                        <a:solidFill>
                          <a:srgbClr val="000000"/>
                        </a:solidFill>
                        <a:miter/>
                      </a:ln>
                      <a:solidFill>
                        <a:srgbClr val="330033"/>
                      </a:solidFill>
                      <a:effectLst>
                        <a:outerShdw dist="53966" dir="2700000" blurRad="0" rotWithShape="0">
                          <a:srgbClr val="cbcbcb">
                            <a:alpha val="80000"/>
                          </a:srgbClr>
                        </a:outerShdw>
                      </a:effectLst>
                      <a:latin typeface="Times New Roman"/>
                    </a:rPr>
                    <a:t>тень</a:t>
                  </a:r>
                  <a:endParaRPr b="0" lang="en-US" sz="1800" spc="1" strike="noStrike">
                    <a:ln w="12600">
                      <a:solidFill>
                        <a:srgbClr val="000000"/>
                      </a:solidFill>
                      <a:miter/>
                    </a:ln>
                    <a:solidFill>
                      <a:srgbClr val="330033"/>
                    </a:solidFill>
                    <a:effectLst>
                      <a:outerShdw dist="53966" dir="2700000" blurRad="0" rotWithShape="0">
                        <a:srgbClr val="cbcbcb">
                          <a:alpha val="80000"/>
                        </a:srgbClr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310" name=""/>
                <p:cNvSpPr txBox="1"/>
                <p:nvPr/>
              </p:nvSpPr>
              <p:spPr>
                <a:xfrm rot="5400000">
                  <a:off x="7761600" y="5409360"/>
                  <a:ext cx="1368360" cy="14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 vert="eaVert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12600">
                        <a:solidFill>
                          <a:srgbClr val="330033"/>
                        </a:solidFill>
                        <a:miter/>
                      </a:ln>
                      <a:solidFill>
                        <a:srgbClr val="330033"/>
                      </a:solidFill>
                      <a:effectLst>
                        <a:outerShdw dist="53966" dir="2700000" blurRad="0" rotWithShape="0">
                          <a:srgbClr val="cbcbcb">
                            <a:alpha val="80000"/>
                          </a:srgbClr>
                        </a:outerShdw>
                      </a:effectLst>
                      <a:latin typeface="Times New Roman"/>
                    </a:rPr>
                    <a:t>полутень</a:t>
                  </a:r>
                  <a:endParaRPr b="0" lang="en-US" sz="1800" spc="1" strike="noStrike">
                    <a:ln w="12600">
                      <a:solidFill>
                        <a:srgbClr val="330033"/>
                      </a:solidFill>
                      <a:miter/>
                    </a:ln>
                    <a:solidFill>
                      <a:srgbClr val="330033"/>
                    </a:solidFill>
                    <a:effectLst>
                      <a:outerShdw dist="53966" dir="2700000" blurRad="0" rotWithShape="0">
                        <a:srgbClr val="cbcbcb">
                          <a:alpha val="80000"/>
                        </a:srgbClr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68360" y="5805360"/>
                  <a:ext cx="287280" cy="287640"/>
                </a:xfrm>
                <a:prstGeom prst="ellipse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"/>
            <p:cNvGrpSpPr/>
            <p:nvPr/>
          </p:nvGrpSpPr>
          <p:grpSpPr>
            <a:xfrm>
              <a:off x="7740720" y="4941720"/>
              <a:ext cx="576360" cy="1008360"/>
              <a:chOff x="7740720" y="4941720"/>
              <a:chExt cx="576360" cy="1008360"/>
            </a:xfrm>
          </p:grpSpPr>
          <p:sp>
            <p:nvSpPr>
              <p:cNvPr id="313" name=""/>
              <p:cNvSpPr/>
              <p:nvPr/>
            </p:nvSpPr>
            <p:spPr>
              <a:xfrm flipH="1">
                <a:off x="7885080" y="4941720"/>
                <a:ext cx="432000" cy="28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7740720" y="5805360"/>
                <a:ext cx="216000" cy="14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1116000" y="3350880"/>
            <a:ext cx="3753000" cy="1670040"/>
            <a:chOff x="1116000" y="3350880"/>
            <a:chExt cx="3753000" cy="1670040"/>
          </a:xfrm>
        </p:grpSpPr>
        <p:sp>
          <p:nvSpPr>
            <p:cNvPr id="316" name=""/>
            <p:cNvSpPr/>
            <p:nvPr/>
          </p:nvSpPr>
          <p:spPr>
            <a:xfrm rot="220200">
              <a:off x="4025880" y="3789360"/>
              <a:ext cx="287280" cy="86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1116000" y="3350880"/>
              <a:ext cx="3753000" cy="1670040"/>
              <a:chOff x="1116000" y="3350880"/>
              <a:chExt cx="3753000" cy="1670040"/>
            </a:xfrm>
          </p:grpSpPr>
          <p:sp>
            <p:nvSpPr>
              <p:cNvPr id="318" name=""/>
              <p:cNvSpPr/>
              <p:nvPr/>
            </p:nvSpPr>
            <p:spPr>
              <a:xfrm>
                <a:off x="1547640" y="4078080"/>
                <a:ext cx="73080" cy="71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1116000" y="3350880"/>
                <a:ext cx="3753000" cy="1670040"/>
                <a:chOff x="1116000" y="3350880"/>
                <a:chExt cx="3753000" cy="167004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628720" y="3933720"/>
                  <a:ext cx="432000" cy="4312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58960" y="3976560"/>
                  <a:ext cx="171360" cy="360000"/>
                </a:xfrm>
                <a:prstGeom prst="ellipse">
                  <a:avLst/>
                </a:prstGeom>
                <a:solidFill>
                  <a:srgbClr val="ffff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2" name=""/>
                <p:cNvGrpSpPr/>
                <p:nvPr/>
              </p:nvGrpSpPr>
              <p:grpSpPr>
                <a:xfrm>
                  <a:off x="3483000" y="3350880"/>
                  <a:ext cx="1386000" cy="1670040"/>
                  <a:chOff x="3483000" y="3350880"/>
                  <a:chExt cx="1386000" cy="167004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 rot="5436600">
                    <a:off x="3348000" y="3501360"/>
                    <a:ext cx="1655640" cy="1368360"/>
                  </a:xfrm>
                  <a:custGeom>
                    <a:avLst/>
                    <a:gdLst>
                      <a:gd name="textAreaLeft" fmla="*/ 363960 w 1655640"/>
                      <a:gd name="textAreaRight" fmla="*/ 1291680 w 1655640"/>
                      <a:gd name="textAreaTop" fmla="*/ 300960 h 1368360"/>
                      <a:gd name="textAreaBottom" fmla="*/ 1067400 h 1368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flipV="1">
                    <a:off x="3544920" y="3397680"/>
                    <a:ext cx="1299240" cy="390240"/>
                  </a:xfrm>
                  <a:prstGeom prst="line">
                    <a:avLst/>
                  </a:prstGeom>
                  <a:ln w="38160">
                    <a:solidFill>
                      <a:srgbClr val="ffffe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>
                    <a:off x="3511440" y="3801960"/>
                    <a:ext cx="10080" cy="810720"/>
                  </a:xfrm>
                  <a:prstGeom prst="line">
                    <a:avLst/>
                  </a:prstGeom>
                  <a:ln w="38160">
                    <a:solidFill>
                      <a:srgbClr val="ffffe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6" name=""/>
                <p:cNvSpPr/>
                <p:nvPr/>
              </p:nvSpPr>
              <p:spPr>
                <a:xfrm>
                  <a:off x="1620720" y="4149720"/>
                  <a:ext cx="2519280" cy="5029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V="1">
                  <a:off x="1620720" y="3789360"/>
                  <a:ext cx="2590920" cy="2743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 txBox="1"/>
                <p:nvPr/>
              </p:nvSpPr>
              <p:spPr>
                <a:xfrm rot="5400000">
                  <a:off x="4190760" y="4143240"/>
                  <a:ext cx="791640" cy="14436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 vert="eaVert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12600">
                        <a:solidFill>
                          <a:srgbClr val="000000"/>
                        </a:solidFill>
                        <a:miter/>
                      </a:ln>
                      <a:solidFill>
                        <a:srgbClr val="330033"/>
                      </a:solidFill>
                      <a:effectLst>
                        <a:outerShdw dist="53966" dir="2700000" blurRad="0" rotWithShape="0">
                          <a:srgbClr val="cbcbcb">
                            <a:alpha val="80000"/>
                          </a:srgbClr>
                        </a:outerShdw>
                      </a:effectLst>
                      <a:latin typeface="Times New Roman"/>
                    </a:rPr>
                    <a:t>тень</a:t>
                  </a:r>
                  <a:endParaRPr b="0" lang="en-US" sz="1800" spc="1" strike="noStrike">
                    <a:ln w="12600">
                      <a:solidFill>
                        <a:srgbClr val="000000"/>
                      </a:solidFill>
                      <a:miter/>
                    </a:ln>
                    <a:solidFill>
                      <a:srgbClr val="330033"/>
                    </a:solidFill>
                    <a:effectLst>
                      <a:outerShdw dist="53966" dir="2700000" blurRad="0" rotWithShape="0">
                        <a:srgbClr val="cbcbcb">
                          <a:alpha val="80000"/>
                        </a:srgbClr>
                      </a:outerShdw>
                    </a:effectLst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174840" y="4438440"/>
                  <a:ext cx="155520" cy="489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V="1">
                  <a:off x="3060720" y="3887280"/>
                  <a:ext cx="183960" cy="457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flipV="1">
                  <a:off x="1476360" y="3933720"/>
                  <a:ext cx="71280" cy="144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H="1">
                  <a:off x="1402920" y="4149720"/>
                  <a:ext cx="144360" cy="70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620720" y="4149720"/>
                  <a:ext cx="0" cy="1440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V="1">
                  <a:off x="1547640" y="3933720"/>
                  <a:ext cx="200160" cy="1728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116000" y="3992400"/>
                  <a:ext cx="215640" cy="215640"/>
                </a:xfrm>
                <a:prstGeom prst="ellipse">
                  <a:avLst/>
                </a:prstGeom>
                <a:solidFill>
                  <a:srgbClr val="ffff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324000" y="260280"/>
            <a:ext cx="2419200" cy="10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лнеч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276720" y="549360"/>
            <a:ext cx="197172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0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лунные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796000" y="404640"/>
            <a:ext cx="25430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тм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5229360"/>
            <a:ext cx="442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Объясните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затмений, использу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83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564000" y="189000"/>
            <a:ext cx="540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3789360"/>
            <a:ext cx="3819600" cy="24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50000">
                      <a:srgbClr val="ffff99"/>
                    </a:gs>
                    <a:gs pos="100000">
                      <a:srgbClr val="ff9966"/>
                    </a:gs>
                  </a:gsLst>
                  <a:lin ang="13500000"/>
                </a:gradFill>
                <a:latin typeface="Impact"/>
              </a:rPr>
              <a:t>фАЗ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50000">
                    <a:srgbClr val="ffff99"/>
                  </a:gs>
                  <a:gs pos="100000">
                    <a:srgbClr val="ff9966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50000">
                      <a:srgbClr val="ffff99"/>
                    </a:gs>
                    <a:gs pos="100000">
                      <a:srgbClr val="ff9966"/>
                    </a:gs>
                  </a:gsLst>
                  <a:lin ang="13500000"/>
                </a:gradFill>
                <a:latin typeface="Impact"/>
              </a:rPr>
              <a:t>    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50000">
                      <a:srgbClr val="ffff99"/>
                    </a:gs>
                    <a:gs pos="100000">
                      <a:srgbClr val="ff9966"/>
                    </a:gs>
                  </a:gsLst>
                  <a:lin ang="13500000"/>
                </a:gradFill>
                <a:latin typeface="Impact"/>
              </a:rPr>
              <a:t>ЛУННОГО   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50000">
                    <a:srgbClr val="ffff99"/>
                  </a:gs>
                  <a:gs pos="100000">
                    <a:srgbClr val="ff9966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50000">
                      <a:srgbClr val="ffff99"/>
                    </a:gs>
                    <a:gs pos="100000">
                      <a:srgbClr val="ff9966"/>
                    </a:gs>
                  </a:gsLst>
                  <a:lin ang="13500000"/>
                </a:gradFill>
                <a:latin typeface="Impact"/>
              </a:rPr>
              <a:t>             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50000">
                      <a:srgbClr val="ffff99"/>
                    </a:gs>
                    <a:gs pos="100000">
                      <a:srgbClr val="ff9966"/>
                    </a:gs>
                  </a:gsLst>
                  <a:lin ang="13500000"/>
                </a:gradFill>
                <a:latin typeface="Impact"/>
              </a:rPr>
              <a:t>ЗАТМ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50000">
                    <a:srgbClr val="ffff99"/>
                  </a:gs>
                  <a:gs pos="100000">
                    <a:srgbClr val="ff9966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44" name=""/>
          <p:cNvSpPr/>
          <p:nvPr/>
        </p:nvSpPr>
        <p:spPr>
          <a:xfrm>
            <a:off x="38160" y="639144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ренбург, июль 200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нимки Ильясова А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2T02:23:54Z</dcterms:created>
  <dc:creator>anonimous</dc:creator>
  <dc:description/>
  <dc:language>en-US</dc:language>
  <cp:lastModifiedBy>User</cp:lastModifiedBy>
  <dcterms:modified xsi:type="dcterms:W3CDTF">2004-07-08T05:04:31Z</dcterms:modified>
  <cp:revision>45</cp:revision>
  <dc:subject/>
  <dc:title>Слайд 1</dc:title>
</cp:coreProperties>
</file>