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0CEF-24BB-4900-8967-A128A39614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5D67-3267-4747-A8E2-E94300C3E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305F-13F3-44AD-9196-2FE71D7B3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A9EC-962F-45C3-B87A-F9023292C9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6EAC-0094-4AB0-B261-C29F5CCF93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A77D-BDC2-4255-AC61-2372B614FD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1E97-E682-4F0B-8ED7-AB3968956D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56E1-8B4A-4792-A9D7-1C8CCD9FE9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35CD-637A-45D5-80DB-A4859050D0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BC56-FBFE-4E55-989C-8046BF4F84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FEE-4DC1-4472-B88F-A377DB8C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D24-C265-48D6-8594-35C20F64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655-2559-4A55-8184-E7321416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4F2-B824-456D-98CA-E10E7DA4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D912-5689-439B-BF65-F0497C52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B340-995B-4364-98C4-B28221F2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63C6-1C08-4630-93C0-A09D000F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F834-80DC-46D2-AD5C-625109AD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045F-E4A4-4C54-82ED-4838F1AA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D383-9291-4D54-99B1-2EF12619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C153-4301-4F49-A6E8-DA72568C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A20-6F87-4339-B248-A166AAB6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12AE-DB2A-43EA-8221-FC32FF2E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7FEB-514D-47E2-A463-47145EFA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C086-2636-42DF-A3CB-4972F340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E5B0-3C03-4B6A-8D53-3EB4EA88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4C94-1D6C-46FD-BFCD-17F6CEBD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E92-77B5-468E-A28C-051C1553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D25-ABE0-4F47-968D-5B07A1C8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7CD-1DE9-42D4-A598-15D3EED1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4F3-DA6A-4658-837F-865D5893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052-89F0-4217-A99B-A0FECC9E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897-B74E-486C-B13A-D85D4707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112-AAE1-46EA-B66A-2E655D6C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67ED-9534-4A98-9082-B184F99FD1E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EBB8-05EE-4225-B831-B37A4D048CE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hyperlink" Target="http://www.biar.ru/catalog.php?id=10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49448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 u="sng">
                <a:solidFill>
                  <a:srgbClr val="57849d"/>
                </a:solidFill>
                <a:uFillTx/>
                <a:latin typeface="Impact"/>
              </a:rPr>
              <a:t>Классный час</a:t>
            </a:r>
            <a:r>
              <a:rPr b="0" lang="ru-RU" sz="5700" spc="-1" strike="noStrike">
                <a:solidFill>
                  <a:srgbClr val="57849d"/>
                </a:solidFill>
                <a:latin typeface="Impact"/>
              </a:rPr>
              <a:t>: </a:t>
            </a:r>
            <a:br>
              <a:rPr sz="5700"/>
            </a:br>
            <a:r>
              <a:rPr b="0" lang="ru-RU" sz="5700" spc="-1" strike="noStrike">
                <a:solidFill>
                  <a:srgbClr val="57849d"/>
                </a:solidFill>
                <a:latin typeface="Impact"/>
              </a:rPr>
              <a:t> </a:t>
            </a:r>
            <a:r>
              <a:rPr b="1" lang="ru-RU" sz="5700" spc="-1" strike="noStrike">
                <a:solidFill>
                  <a:srgbClr val="330fe5"/>
                </a:solidFill>
                <a:latin typeface="Garamond"/>
              </a:rPr>
              <a:t>Я б на выборы пошел.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WNTER_01.MID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4" name="Picture 4" descr="флаг кубани"/>
          <p:cNvPicPr/>
          <p:nvPr/>
        </p:nvPicPr>
        <p:blipFill>
          <a:blip r:embed="rId2"/>
          <a:stretch/>
        </p:blipFill>
        <p:spPr>
          <a:xfrm>
            <a:off x="0" y="236520"/>
            <a:ext cx="9144000" cy="6097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split dir="out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ИМН - 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торжественная, хвалебная песнь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6" name="Picture 17" descr="i?id=44754985&amp;tov=4"/>
          <p:cNvPicPr/>
          <p:nvPr/>
        </p:nvPicPr>
        <p:blipFill>
          <a:blip r:embed="rId1"/>
          <a:stretch/>
        </p:blipFill>
        <p:spPr>
          <a:xfrm>
            <a:off x="324000" y="1052640"/>
            <a:ext cx="238572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i?id=7562335&amp;tov=5"/>
          <p:cNvPicPr/>
          <p:nvPr/>
        </p:nvPicPr>
        <p:blipFill>
          <a:blip r:embed="rId2"/>
          <a:stretch/>
        </p:blipFill>
        <p:spPr>
          <a:xfrm>
            <a:off x="2340000" y="2852640"/>
            <a:ext cx="3744720" cy="2987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i?id=39437826&amp;tov=8"/>
          <p:cNvPicPr/>
          <p:nvPr/>
        </p:nvPicPr>
        <p:blipFill>
          <a:blip r:embed="rId3"/>
          <a:stretch/>
        </p:blipFill>
        <p:spPr>
          <a:xfrm>
            <a:off x="5508720" y="4149720"/>
            <a:ext cx="3419280" cy="2565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3300"/>
                </a:solidFill>
                <a:latin typeface="Garamond"/>
              </a:rPr>
              <a:t>Виды флагов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"Флаг" -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из голландского) корабельное знам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"Знамя"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от "знаменье, примета, знак"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Штандарт"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флаг главы государства, его руководите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"Хоругви"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церковные знам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"Вымпелы"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узкое полотнищ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"Бунчук"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древко с привязанным конским хвос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animClr clrSpc="rgb">
                                      <p:cBhvr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b812f"/>
                                      </p:to>
                                    </p:animClr>
                                    <p:set>
                                      <p:cBhvr>
                                        <p:cTn id="1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РСФСР, флаг (1918 г.)"/>
          <p:cNvPicPr/>
          <p:nvPr/>
        </p:nvPicPr>
        <p:blipFill>
          <a:blip r:embed="rId1"/>
          <a:stretch/>
        </p:blipFill>
        <p:spPr>
          <a:xfrm>
            <a:off x="5364000" y="476280"/>
            <a:ext cx="3780000" cy="1812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Знамя штандарт, БИАР"/>
          <p:cNvPicPr/>
          <p:nvPr/>
        </p:nvPicPr>
        <p:blipFill>
          <a:blip r:embed="rId2"/>
          <a:stretch/>
        </p:blipFill>
        <p:spPr>
          <a:xfrm>
            <a:off x="0" y="0"/>
            <a:ext cx="4572000" cy="6486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Garamond"/>
              </a:rPr>
              <a:t>Флаги России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5660640"/>
            <a:ext cx="442764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Знамена, штандарты</a:t>
            </a:r>
            <a:r>
              <a:rPr b="0" lang="ru-RU" sz="3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РСФСР, флаг "/>
          <p:cNvPicPr/>
          <p:nvPr/>
        </p:nvPicPr>
        <p:blipFill>
          <a:blip r:embed="rId4"/>
          <a:stretch/>
        </p:blipFill>
        <p:spPr>
          <a:xfrm>
            <a:off x="5327640" y="2492280"/>
            <a:ext cx="3816360" cy="2041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1"/>
          <p:cNvSpPr/>
          <p:nvPr/>
        </p:nvSpPr>
        <p:spPr>
          <a:xfrm>
            <a:off x="5435640" y="4724280"/>
            <a:ext cx="37083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5435640" y="5373720"/>
            <a:ext cx="3708360" cy="6476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5435640" y="6021360"/>
            <a:ext cx="370836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Garamond"/>
              </a:rPr>
              <a:t>Словар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- символическое изображение, составленное на основании определенных знаков и утвержденное верховной властью, отражающее степень знатности рода, основные занятия и заслуги представителей рода перед государством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Каждый знак, цвет в гербе имел определенное значение и символически рассказывал о том, кто этот человек, которому дозволено его носить. Герб был знаком чести род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Все в композиции герба имело важное значение и несло информацию о владельц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Герб изображался его владельцем не только на оружии, но стал помещаться и на печатях к документам владельца. Таким образом, создавались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гербы земельные или местные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, заимствованные из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гербов родовых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, гербы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земель и территорий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Когда же появлялись новые города, образовывались новые государственные территории, то необходимость употребления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печати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 заставила и их создать гербы с символическими изображениями местных отличий, исторических событий и т. п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Наука о гербах - 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ербоведение или геральдика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 рассматривает гербы родовые и гербы земельные. Но существует еще средняя группа - гербы </a:t>
            </a:r>
            <a:r>
              <a:rPr b="1" i="1" lang="ru-RU" sz="1300" spc="-1" strike="noStrike">
                <a:solidFill>
                  <a:srgbClr val="000000"/>
                </a:solidFill>
                <a:latin typeface="Arial"/>
              </a:rPr>
              <a:t>государственны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Все в композиции герба имело значение и несло информацию о владельце. Форма герба может быть разнообразной, но в основном она вписывалась в прямоугольник или треугольник, что повторило форму щита древних рыцар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ерольды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 - люди, изучающие гербы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678320" y="3245760"/>
            <a:ext cx="57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rels.obninsk.com/Rels/Limited/Um/herald/100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3300"/>
                </a:solidFill>
                <a:latin typeface="Garamond"/>
              </a:rPr>
              <a:t>Российский герб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Picture 4" descr="rusgerb3бб"/>
          <p:cNvPicPr/>
          <p:nvPr/>
        </p:nvPicPr>
        <p:blipFill>
          <a:blip r:embed="rId1"/>
          <a:stretch/>
        </p:blipFill>
        <p:spPr>
          <a:xfrm>
            <a:off x="2413080" y="1268280"/>
            <a:ext cx="4076640" cy="48974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5977080" y="585540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aldic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6633"/>
                </a:solidFill>
                <a:latin typeface="Arial Narrow"/>
              </a:rPr>
              <a:t>Примеры гербов</a:t>
            </a:r>
            <a:r>
              <a:rPr b="0" i="1" lang="en-US" sz="4200" spc="-1" strike="noStrike">
                <a:solidFill>
                  <a:srgbClr val="006633"/>
                </a:solidFill>
                <a:latin typeface="Arial Narrow"/>
              </a:rPr>
              <a:t> </a:t>
            </a:r>
            <a:r>
              <a:rPr b="0" i="1" lang="ru-RU" sz="4200" spc="-1" strike="noStrike">
                <a:solidFill>
                  <a:srgbClr val="006633"/>
                </a:solidFill>
                <a:latin typeface="Arial Narrow"/>
              </a:rPr>
              <a:t>городов Краснодарского края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3" descr="gelendzhik"/>
          <p:cNvPicPr/>
          <p:nvPr/>
        </p:nvPicPr>
        <p:blipFill>
          <a:blip r:embed="rId1"/>
          <a:stretch/>
        </p:blipFill>
        <p:spPr>
          <a:xfrm>
            <a:off x="2844720" y="3575160"/>
            <a:ext cx="1516320" cy="179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sochi"/>
          <p:cNvPicPr/>
          <p:nvPr/>
        </p:nvPicPr>
        <p:blipFill>
          <a:blip r:embed="rId2"/>
          <a:stretch/>
        </p:blipFill>
        <p:spPr>
          <a:xfrm>
            <a:off x="5076720" y="3575160"/>
            <a:ext cx="1492200" cy="187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Abinsk"/>
          <p:cNvPicPr/>
          <p:nvPr/>
        </p:nvPicPr>
        <p:blipFill>
          <a:blip r:embed="rId3"/>
          <a:stretch/>
        </p:blipFill>
        <p:spPr>
          <a:xfrm>
            <a:off x="6943680" y="3313080"/>
            <a:ext cx="1579680" cy="2097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2484360" y="5445000"/>
            <a:ext cx="20890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Arial Narrow"/>
              </a:rPr>
              <a:t>Герб гор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Arial Narrow"/>
              </a:rPr>
              <a:t>Гелендж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3280" y="5445000"/>
            <a:ext cx="20894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Arial Narrow"/>
              </a:rPr>
              <a:t>Герб гор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Arial Narrow"/>
              </a:rPr>
              <a:t>Со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6875640" y="5437080"/>
            <a:ext cx="237636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Arial Narrow"/>
              </a:rPr>
              <a:t>Герб Абин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Arial Narrow"/>
              </a:rPr>
              <a:t>рай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9" descr="krasnodar"/>
          <p:cNvPicPr/>
          <p:nvPr/>
        </p:nvPicPr>
        <p:blipFill>
          <a:blip r:embed="rId4"/>
          <a:stretch/>
        </p:blipFill>
        <p:spPr>
          <a:xfrm>
            <a:off x="755640" y="3646440"/>
            <a:ext cx="1432080" cy="1763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1"/>
          <p:cNvSpPr/>
          <p:nvPr/>
        </p:nvSpPr>
        <p:spPr>
          <a:xfrm>
            <a:off x="395280" y="54450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Arial Narrow"/>
              </a:rPr>
              <a:t>Герб Краснодарского кр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0000"/>
                </a:solidFill>
                <a:latin typeface="Garamond"/>
              </a:rPr>
              <a:t>АНКЕТА.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является самым главным в нашей стране?  </a:t>
            </a:r>
            <a:r>
              <a:rPr b="0" lang="ru-RU" sz="2000" spc="-1" strike="noStrike">
                <a:solidFill>
                  <a:srgbClr val="3b812f"/>
                </a:solidFill>
                <a:latin typeface="Arial"/>
              </a:rPr>
              <a:t>а)Государственная символика               б)па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относится к государственной символик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b812f"/>
                </a:solidFill>
                <a:latin typeface="Arial"/>
              </a:rPr>
              <a:t>а)знамя      б)флаг       в)герб      г)гимн       д)ода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то является гарантом государства Российск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b812f"/>
                </a:solidFill>
                <a:latin typeface="Arial"/>
              </a:rPr>
              <a:t>а)губернатор        б) депутат        в)презид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 какого возраста можно голосова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3b812f"/>
                </a:solidFill>
                <a:latin typeface="Arial"/>
              </a:rPr>
              <a:t>а) 18лет       б)21год             в)35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акой Основной Закон определяет данное пра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b812f"/>
                </a:solidFill>
                <a:latin typeface="Arial"/>
              </a:rPr>
              <a:t>а)Кодекс законов РФ          б)конституция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колько граждан РФ должно участвовать в выборах, чтобы они считались состоявшими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b812f"/>
                </a:solidFill>
                <a:latin typeface="Arial"/>
              </a:rPr>
              <a:t>а)25%              б)50%          в)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то должен сделать каждый из вас по достижению 18 л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b812f"/>
                </a:solidFill>
                <a:latin typeface="Arial"/>
              </a:rPr>
              <a:t>а)сдать экзамен        б)проголосовать   в)поступить в инсти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003640" y="6813720"/>
          <a:ext cx="360360" cy="51732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80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cc0000"/>
                </a:solidFill>
                <a:uFillTx/>
                <a:latin typeface="Garamond"/>
              </a:rPr>
              <a:t>Словарь.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659960"/>
            <a:ext cx="845640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b812f"/>
                </a:solidFill>
                <a:latin typeface="Arial"/>
              </a:rPr>
              <a:t>ВЫБОР – </a:t>
            </a:r>
            <a:r>
              <a:rPr b="0" i="1" lang="ru-RU" sz="2400" spc="-1" strike="noStrike">
                <a:solidFill>
                  <a:srgbClr val="3b812f"/>
                </a:solidFill>
                <a:latin typeface="Arial"/>
              </a:rPr>
              <a:t>от </a:t>
            </a:r>
            <a:r>
              <a:rPr b="1" i="1" lang="ru-RU" sz="2400" spc="-1" strike="noStrike">
                <a:solidFill>
                  <a:srgbClr val="3b812f"/>
                </a:solidFill>
                <a:latin typeface="Arial"/>
              </a:rPr>
              <a:t>выбрат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отобрать, извлеч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взять нужное, предпочитаемое из наличног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избрать голосование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извлечь откуда-то все без остат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.вытянуть, поднять(якорь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6.найти, освободить для какой-нибудь цели (о времен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cc0000"/>
                </a:solidFill>
                <a:uFillTx/>
                <a:latin typeface="Garamond"/>
              </a:rPr>
              <a:t>Словарь.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1485720"/>
            <a:ext cx="734544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b812f"/>
                </a:solidFill>
                <a:latin typeface="Arial"/>
              </a:rPr>
              <a:t>ДЕМОКРАТ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от  греческог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mokrat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mo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народ + «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rato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власть)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родовластие, народная форма правлени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 которой народ облечен высшей власть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осуществляет ее либо непосредственн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ибо через своих избранных представ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 свободной избирательной систем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ru-RU" sz="3800" spc="-1" strike="noStrike">
                <a:solidFill>
                  <a:srgbClr val="cc0000"/>
                </a:solidFill>
                <a:latin typeface="Garamond"/>
              </a:rPr>
              <a:t>Международные документы о правах человека</a:t>
            </a:r>
            <a:r>
              <a:rPr b="0" i="1" lang="ru-RU" sz="3800" spc="-1" strike="noStrike">
                <a:solidFill>
                  <a:srgbClr val="cc0000"/>
                </a:solidFill>
                <a:latin typeface="Garamond"/>
              </a:rPr>
              <a:t>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«Международный пакт о гражданских и политических правах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«Всеобщая декларация прав челове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«Конвекция о правах ребен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«Международный пакт об экономических, социальных и культурных правах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00"/>
                </a:solidFill>
                <a:latin typeface="Garamond"/>
              </a:rPr>
              <a:t>КОНСТИТУЦИЯ(от лат. </a:t>
            </a:r>
            <a:r>
              <a:rPr b="1" i="1" lang="en-US" sz="3800" spc="-1" strike="noStrike">
                <a:solidFill>
                  <a:srgbClr val="cc0000"/>
                </a:solidFill>
                <a:latin typeface="Garamond"/>
              </a:rPr>
              <a:t>Constitutio </a:t>
            </a:r>
            <a:r>
              <a:rPr b="1" i="1" lang="ru-RU" sz="3800" spc="-1" strike="noStrike">
                <a:solidFill>
                  <a:srgbClr val="cc0000"/>
                </a:solidFill>
                <a:latin typeface="Garamond"/>
              </a:rPr>
              <a:t>– установление)</a:t>
            </a:r>
            <a:r>
              <a:rPr b="0" lang="ru-RU" sz="38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Основной Закон государства, определяющий основы общественного и государственного строя, систему органов власти, порядок их образования и деятельности, права и обязанности граждан. В соответствии с Конституцией формируется все законодательство государ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00"/>
                </a:solidFill>
                <a:latin typeface="Garamond"/>
              </a:rPr>
              <a:t>РЕФЕРЕНДУМ(от лат. </a:t>
            </a:r>
            <a:r>
              <a:rPr b="1" i="1" lang="en-US" sz="3800" spc="-1" strike="noStrike">
                <a:solidFill>
                  <a:srgbClr val="cc0000"/>
                </a:solidFill>
                <a:latin typeface="Garamond"/>
              </a:rPr>
              <a:t>Referendum </a:t>
            </a:r>
            <a:r>
              <a:rPr b="1" i="1" lang="ru-RU" sz="3800" spc="-1" strike="noStrike">
                <a:solidFill>
                  <a:srgbClr val="cc0000"/>
                </a:solidFill>
                <a:latin typeface="Garamond"/>
              </a:rPr>
              <a:t>– то, что должно быть сообщено, передано)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сенародное голосование с целью выявления общественного мнения для принятия окончательного решения по какому-либо особо важному вопросу, имеющему общегосударственное знач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547640" y="6027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000000"/>
                </a:solidFill>
                <a:latin typeface="Arial"/>
              </a:rPr>
              <a:t>выборный глава государства в странах с республиканской формой правления. Срок полномочий президента – 4 года.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42372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00"/>
                </a:solidFill>
                <a:latin typeface="Garamond"/>
              </a:rPr>
              <a:t>ПРЕЗИДЕНТ(от лат. Сидящий впереди)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48360" y="3807000"/>
            <a:ext cx="3132000" cy="2008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987640" y="836640"/>
            <a:ext cx="3024360" cy="2257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074600" y="3645000"/>
            <a:ext cx="2001960" cy="28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4" name="Object 22"/>
          <p:cNvGraphicFramePr/>
          <p:nvPr/>
        </p:nvGraphicFramePr>
        <p:xfrm>
          <a:off x="1938240" y="3621240"/>
          <a:ext cx="1077840" cy="48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8240" y="3621240"/>
                    <a:ext cx="1077840" cy="48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16"/>
          <p:cNvSpPr/>
          <p:nvPr/>
        </p:nvSpPr>
        <p:spPr>
          <a:xfrm>
            <a:off x="0" y="-27000"/>
            <a:ext cx="9144000" cy="23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0" y="2232000"/>
            <a:ext cx="9144000" cy="23493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5" descr="rf_g4"/>
          <p:cNvPicPr/>
          <p:nvPr/>
        </p:nvPicPr>
        <p:blipFill>
          <a:blip r:embed="rId3"/>
          <a:stretch/>
        </p:blipFill>
        <p:spPr>
          <a:xfrm>
            <a:off x="1403280" y="0"/>
            <a:ext cx="64342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25"/>
          <p:cNvGraphicFramePr/>
          <p:nvPr/>
        </p:nvGraphicFramePr>
        <p:xfrm>
          <a:off x="8964720" y="6912000"/>
          <a:ext cx="179280" cy="85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1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964720" y="6912000"/>
                    <a:ext cx="179280" cy="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6:53:12Z</dcterms:created>
  <dc:creator>Левченко Ольга Константиновна, МОУ СОШ№5</dc:creator>
  <dc:description/>
  <dc:language>en-US</dc:language>
  <cp:lastModifiedBy>Левченко О.К.</cp:lastModifiedBy>
  <dcterms:modified xsi:type="dcterms:W3CDTF">2011-04-23T21:48:23Z</dcterms:modified>
  <cp:revision>5</cp:revision>
  <dc:subject>Классный руководитель.</dc:subject>
  <dc:title>Классный час:   Я б на выборы пошел.</dc:title>
</cp:coreProperties>
</file>