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3.jpeg" ContentType="image/jpeg"/>
  <Override PartName="/ppt/media/chimes.wav" ContentType="audio/x-wav"/>
  <Override PartName="/ppt/media/image6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985A-8D4D-45C9-BB2E-22CE9D4F1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5ADC-679E-433B-9D70-DFAA88BCF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8BC8-F4C7-4804-9CFD-9E98C1BAA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9F33-26D4-4D1C-8DBE-DB817F4CE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AB6B6-0838-4BE9-8B3C-F7040E37E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43178-D29B-42B8-A859-2A73197A2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FA2CF-4D3B-45A7-987F-DD7E4EBF5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46AE2-E50B-4E8F-81AE-5A2A24599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B3742-53E6-4406-83A9-0290FB347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76346-7AD2-48E2-8709-DD4E49A08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20E08-92C1-4E48-A121-B43B55B3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1FA5-A6F6-4F80-86D0-98D56CFBB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90BD5-1887-4B06-9DC1-73945280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514E5-770F-455F-9F45-9CF0DCD3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ED83C-0857-4A5E-93F5-503835F26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E070E-3C76-4209-9CCE-D8A6132EC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9CE71-8936-4692-B95A-A7D013287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332D-7DE5-42F5-ADE4-124319CB0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2229-77EC-4F18-9765-135FC055D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4D8A-5F2D-4534-B528-2579E2245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6C90-7AB5-4C05-9FA5-49932E0AE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062A-ABA5-49E9-954F-26BD6536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33AD-5A39-455B-B926-CFBECEC0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669D-A4C0-4FF1-AC23-E0A03071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91767-F6F1-4657-8ACA-2ED99CA1CD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92F04-0288-4D84-B927-5505B170FF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Изо – викторина  ( 5 класс)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бобщающий уро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ТЕМЫ :  виды и жанры изобразительного искусства, народные промыслы, творчество художников, цветовед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Томас Манн 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«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искусство- самый прекрасный, самый строгий, самый радостный и благой символ извечного , неподвластного стремления человека к добру, к истине и совершенству»                                 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Какие народные промыслы представлены?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2400120" cy="2373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973760" y="1600200"/>
            <a:ext cx="3387600" cy="21859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890640" y="3941640"/>
            <a:ext cx="3171600" cy="21891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5357880" y="3938760"/>
            <a:ext cx="31017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5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Завершите предложени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ортрет – это изображение __________________________________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зображение предметов называется __________________________________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 холодным цветам относятся : __________________________________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бщая цветовая гамма картины называется  _______________________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Назовите имя автора картин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И.Левитан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В.Васнецов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И.Шишкин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140360" y="1557360"/>
            <a:ext cx="4546440" cy="431964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Какие жанры изобразительного искусства представлены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2880000" cy="21207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648320" y="1557360"/>
            <a:ext cx="4038480" cy="21574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971640" y="4046400"/>
            <a:ext cx="2808360" cy="25513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4670280" y="4076640"/>
            <a:ext cx="3994200" cy="244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5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оедините понятия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Хохломская роспис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.Левита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зображение природ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ымковская игруш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аснец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Живопис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зображение мор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графи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ейза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ародный промысе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«Три богатыря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кварел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«Золотая осень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арандаш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Масл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«Витязь на распутье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гол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«Март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Какие из видов искусств не являются изобразительными 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ТЕАТ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КУЛЬПТУР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ЖИВОПИС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МУЗЫ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ТАНЕ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АРХИТЕКТУР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К какому виду и жанру искусства относится каждое изображение 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042920" y="1600200"/>
            <a:ext cx="2952720" cy="24084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364000" y="1484280"/>
            <a:ext cx="2953080" cy="2592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2268360" y="4221000"/>
            <a:ext cx="2203560" cy="23749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5148360" y="4221000"/>
            <a:ext cx="2751120" cy="237492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5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Выполнить задан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Дорисовать изображени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Отгадать кроссворд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Нарисовать  набросок   «Городской пейзаж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8T13:54:21Z</dcterms:created>
  <dc:creator>1</dc:creator>
  <dc:description/>
  <dc:language>en-US</dc:language>
  <cp:lastModifiedBy>Левченко О.К.</cp:lastModifiedBy>
  <dcterms:modified xsi:type="dcterms:W3CDTF">2011-04-24T06:52:48Z</dcterms:modified>
  <cp:revision>8</cp:revision>
  <dc:subject/>
  <dc:title>Изо – викторина  ( 5 класс)</dc:title>
</cp:coreProperties>
</file>