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DBF-9704-4191-9701-BA6997CE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371-3A24-4584-A4DE-56F1E745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5D8-FCC6-4C32-988D-670F0F18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947-7A58-4F9B-A2AB-E3659803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FFD0-9092-4BBA-A980-2C0CE9FF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B0A2-E574-41BE-9446-560FE6C5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8CBF-FE4C-4E40-BF56-0652735B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CC80-BB0F-42D0-9AC4-B84B6A96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DF05-1D1D-4C5A-8F0E-417AFCD8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8BB5-B8E1-4F8D-9F5C-DF18705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FD14-C67C-48C1-A0C1-8844E646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8BE-3B5A-4FD1-BECE-5145BBD6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2EDF-DDEB-4C0A-B366-8AA871AB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931D-C334-4AD8-A832-D82D699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B58E-33FD-40CB-BDC0-EE53F714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08C-6C82-450B-B281-781FAB06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71F8-262A-4CF0-B40D-D156751F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B44-9ABD-43EB-A005-204B3FF4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48F-F251-4EB4-B469-8905F71B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B2C-3922-496D-BF3E-C2AFF395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B63-420E-4C52-9332-660BA9D9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C7E-FBA8-4C15-A4A8-C48221B4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0C5-CA08-4D7F-A887-344A6005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147-0F73-4BA4-B613-BCB607D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CE83-3DB9-4FC4-9D84-A88DEFED5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48B3-3F0B-4F4A-8A8B-12F847675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Творческий   марафон</a:t>
            </a:r>
            <a:br>
              <a:rPr sz="4000"/>
            </a:b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«ИЗО загадки»  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ПРЕДСТАВЛЕНИЕ КОМАН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ВЫПОЛНЕНИЕ ТВОРЧЕСКИХ ЗАД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ПОДВЕДЕНИЕ ИТОГ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Загадка фантастическа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 листочках линии , кружочки         завитушки, черточки и точки.            Вы применив свое воображение,     нафантазировать должны изображени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даются листы с изображением различных линий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 выполняют фантазеры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Загадка заумна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зобразительном искусстве          очень много выражений,                    очень много материалов  для                   передачи изображени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авить нужную букву в клетку,     написать целиком все слово,            отгадать кроссворд сейчас                УМНИКИ  будьте готовы 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ИЗО – кроссворд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260280"/>
          <a:ext cx="8136000" cy="5977080"/>
        </p:xfrm>
        <a:graphic>
          <a:graphicData uri="http://schemas.openxmlformats.org/drawingml/2006/table">
            <a:tbl>
              <a:tblPr/>
              <a:tblGrid>
                <a:gridCol w="677880"/>
                <a:gridCol w="677880"/>
                <a:gridCol w="677880"/>
                <a:gridCol w="677880"/>
                <a:gridCol w="677880"/>
                <a:gridCol w="679320"/>
                <a:gridCol w="677880"/>
                <a:gridCol w="725760"/>
                <a:gridCol w="647640"/>
                <a:gridCol w="660240"/>
                <a:gridCol w="677880"/>
                <a:gridCol w="677880"/>
              </a:tblGrid>
              <a:tr h="85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2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0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Загадка  капитанска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числить  и показать НАРОДНЫЕ  ПРОМЫСЛ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ие цвета можно получить путем смешивания красок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азать названия цветов на английском язык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Назовите и покажите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657600" cy="2405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4114800"/>
            <a:ext cx="2927520" cy="2338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067360" y="4114800"/>
            <a:ext cx="3681360" cy="2338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076720" y="1341360"/>
            <a:ext cx="3559320" cy="233388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5" name="chimes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Подведение  итого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итоги теоретического конкур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итоги фантастического конкур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итоги  по кроссворд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тоги конкурса капитан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итоги литературного конкур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итоги художественного конкурса  (конкурсы оцениваются по 3-х бальной системе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ЦЕЛЬ ИГРЫ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общение знаний учащихся по изучаемым темам изобразительного искусств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тие творческого мышления, обогащение кругозо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учить работать учащихся в коллектив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Ход  творческой игры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а  художественна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а литературна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а теоретическа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а фантастическа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а заумна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а капитанска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дведение   итогов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Представление  коман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з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мбле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ви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ав  команды : капитан, художники, литераторы, теоретики (фантазеры и умники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Загадка  художественна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ы его поставим, а потом рисуем    Вазочку с цветами, чашку голубую. (  о каком жанре живописи говориться в загадке ; нарисовать ответ в теплом и в холодном колорите  -  выполняют  художники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Загадка  литературна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ждое произведение художника – это загадка для зрителя.                                    По представленной картине напишите минисочинение ( сюжет, характер и настроение персонажей, колорит картины , ваше отношение к изображенному сюжету.)                             выполняют  литераторы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927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Загадка теоретическа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 представленным репродукциям выбрать: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Ы  изобразительного искусств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АНРЫ  изобразительного искусства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 выполняют фантазеры и умники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изображе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089440" cy="2405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4114800"/>
            <a:ext cx="3699000" cy="233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61080" y="4114800"/>
            <a:ext cx="2556000" cy="255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78320" y="1628640"/>
            <a:ext cx="3397320" cy="233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72720" y="342828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36720" y="169956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9800" y="4149000"/>
            <a:ext cx="3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7080" y="422028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5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2:48:56Z</dcterms:created>
  <dc:creator>1</dc:creator>
  <dc:description/>
  <dc:language>en-US</dc:language>
  <cp:lastModifiedBy>Левченко О.К.</cp:lastModifiedBy>
  <dcterms:modified xsi:type="dcterms:W3CDTF">2011-04-24T06:52:29Z</dcterms:modified>
  <cp:revision>10</cp:revision>
  <dc:subject/>
  <dc:title>Творческий   марафон «ИЗО загадки»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