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8.jpeg" ContentType="image/jpeg"/>
  <Override PartName="/ppt/media/chimes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5.wmf" ContentType="image/x-wmf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8CA6-4183-403E-828B-EC67BB638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23DB-EFAC-4A1D-A664-9EE80701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69B2-C741-4CC5-AD13-299670208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5AFA-9D42-4E35-9C1E-D3AEEC63D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3444-4E2D-42F8-8ECF-EBA51D31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2B44-CB3E-451F-A86C-C653C483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3E48-0574-43FD-98D3-124F6470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2472-720F-4ED4-A264-BF6FC091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25DF-849E-4BED-9435-98DA8B40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98AB-3AD5-4776-8C5A-1A61690E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0D7A-6510-4E08-851C-D5E55406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7509-D8F2-4381-8A24-15F9E84B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FA29-EBCC-4E45-A2F4-5CF7B3C2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A2F1-84CB-4FFC-A4CB-64D5BDE8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3640-DC00-4E3A-ACBA-D023694E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1938-39F1-431D-89E6-13FD3B4A8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CC69-2991-4C9F-9114-284942DFC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4829-94F6-4A87-9B36-48C12A1A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DB71-090B-425F-AA4D-60F86026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359F-A4EC-4546-886F-FDB1D327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1E43-B872-46A4-811F-930A0855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8439-D9C5-498C-8F03-EBE200CB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096F-13F4-4DB4-9A53-853BB3E4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4C9B-C5D0-4FDA-9149-A6962437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6802-36AC-448B-8025-54FD2F6F68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24A2-5959-400A-A12B-2AE303410C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изо - путешествие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бобщающий урок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3959280" cy="3232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003640" y="404640"/>
            <a:ext cx="3816360" cy="2943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042920" y="3860640"/>
            <a:ext cx="3024360" cy="2737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940360" y="3429000"/>
            <a:ext cx="2086200" cy="317196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5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1.Выполнить  тесты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2. дорисовать изображение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одведение  итогов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К каким видам искусства принадлежат данные изображения ?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2665440" cy="2303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43280" y="1484280"/>
            <a:ext cx="3608640" cy="2374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68360" y="4076640"/>
            <a:ext cx="3246480" cy="244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716360" y="4076640"/>
            <a:ext cx="3926160" cy="243216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5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85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Изо  -  кроссворд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95280" y="836280"/>
            <a:ext cx="8569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По горизонта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В изобразительном искусстве соразмерность всех частей тела челове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Один из самых известных портретов Леонардо да Винч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Автор известного портрета «Девочка с персиками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Художник, изображающий мор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 Человек, позирующий художнику при работе над произведени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 Портрет художника, выполненного им сами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По вертикал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ображение человека в произведении живописи или скульптур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95280" y="981000"/>
          <a:ext cx="8424720" cy="530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81000"/>
                    <a:ext cx="8424720" cy="53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Завершите предложени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НАТЮРМОРТ»- это изображение _________________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ПОРТРЕТ» - это изображение __________________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удожник ,который рисует животных, называется ________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изведение художника – это __________________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Соедините название картины  с фамилией  художник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.Сур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.Левит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.Васнец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.Айвазов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.Шишк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вятый вал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Аленушк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Золотая осень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Боярыня Морозов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Рожь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219640" y="189000"/>
            <a:ext cx="3313080" cy="3424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971640" y="3573360"/>
            <a:ext cx="2808360" cy="2880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500720" y="4076640"/>
            <a:ext cx="4224240" cy="2448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755640" y="404640"/>
            <a:ext cx="437688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5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Выбрать оттенки каждого цвет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расны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Желты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Зелены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тен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олот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алатов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лахитов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Янтар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мон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умруд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агров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тветить на вопрос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каком жанре рисовали первобытные художники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каком жанре работал В.И.Сурик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каком жанре работал И.И. Левитан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ак называется художественное произведение, точно повторяющее другое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акие виды искусства изображают мир на плоскости , а какие в объем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14:44:40Z</dcterms:created>
  <dc:creator>1</dc:creator>
  <dc:description/>
  <dc:language>en-US</dc:language>
  <cp:lastModifiedBy>Левченко О.К.</cp:lastModifiedBy>
  <dcterms:modified xsi:type="dcterms:W3CDTF">2011-04-24T06:52:05Z</dcterms:modified>
  <cp:revision>11</cp:revision>
  <dc:subject/>
  <dc:title>К каким видам искусства принадлежат данные изображения ?</dc:title>
</cp:coreProperties>
</file>