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AEE-E001-4C6C-AA6C-D9F7659C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FA9-394A-4E44-8BB1-587F8A9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E1E-423C-46E8-AB2C-87E1117B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B78-A5A4-4653-ABD9-1A3D7221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0F32-70BD-4595-869E-6A8D565E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946-2A7D-4DF7-A7E7-BC881731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80E7-BD11-4224-A04E-8075D60E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6C64-BAF9-4272-850C-3287231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D053-A128-406B-8D0C-197AB37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8771-FDDD-4FC5-A6B5-6E990000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7CC1-6118-4CB5-87B2-C2A28C2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39A-DAF6-46C9-8B11-C8BEE44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ACBB-979F-4DDC-A8D2-5B5FE268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66C0-8367-434C-B6BC-29B4DAE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3E08-22FA-4A34-A64D-66B49C93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2267-DEB7-4DAF-9902-70CACD04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19E0-CD58-4AE6-A699-F3F0D677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D43-5836-4EDB-8217-143BED64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04E-CCEC-49FC-AD4B-43F3394D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7C0-55E2-4259-8030-716165C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DDC-C1E7-4D41-8293-A08BB7C6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E15-4CCD-46B6-9935-02EFC8E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DB2-21EE-4B00-B852-1EE45A1A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C9E-2BCD-4E7D-AC16-88C14BC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7AE8-D1EF-4FB2-8978-BF7FC7E70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0559-B07A-4C42-AAA7-342FFBE82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О – фантазии  ( 7 класс 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бщающий ур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Ы: декоративно-прикладное искусство,  жанры живописи , виды изобразительного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зовите виды народных промыс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4292640"/>
            <a:ext cx="324000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2733840" cy="247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733920" cy="244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402912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рхитектура каких эпох и стилей здесь представлена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3291120" cy="2408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529080" cy="237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3544920" cy="223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59240" y="4292640"/>
            <a:ext cx="34894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ыбрать элементы русского народного костюм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н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юбетей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ф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шегр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ч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лмэ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чи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п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шмач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по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раф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36291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зовите автора и название каждой картин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244760" cy="230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92360" cy="29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03640" y="3933720"/>
            <a:ext cx="3314880" cy="265932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5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втор , название , жан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числить жанры изобразительного искус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иды изобразительного искус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462400" cy="233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62440" y="1268280"/>
            <a:ext cx="3808440" cy="251784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К каким видам искусства принадлежат данные изображения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2246400" cy="219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37788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39640" y="4046400"/>
            <a:ext cx="3384720" cy="2478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003640" y="4005360"/>
            <a:ext cx="3667320" cy="25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ие виды искусства не являются изобразительными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е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Живоп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нижная граф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рхитек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а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52908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4:03:27Z</dcterms:created>
  <dc:creator>1</dc:creator>
  <dc:description/>
  <dc:language>en-US</dc:language>
  <cp:lastModifiedBy>ок</cp:lastModifiedBy>
  <dcterms:modified xsi:type="dcterms:W3CDTF">2008-04-18T20:04:08Z</dcterms:modified>
  <cp:revision>8</cp:revision>
  <dc:subject/>
  <dc:title>ИЗО – фантазии  ( 7 класс )</dc:title>
</cp:coreProperties>
</file>